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57F-009C-45B8-A907-E81482AC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7FC-5FEA-47D3-9C93-54A1FB2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F1D-57CC-4E22-87F5-DFD6C6DF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F03-C8A9-45F5-B0B5-3CEB6BA9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8D5-E9BB-4616-AA12-09DB07B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28E-1453-4EF5-9463-AE455D09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3B1-1D56-4696-8A58-A0D13ED9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239-E89D-47C1-B159-407A987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A09-955E-4943-B242-118E0FEE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F7F-3FD4-4C23-B0B2-2596B16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921-502A-4D2C-AE06-826F4E0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121-68F1-445A-9113-1799DA2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86F0-4D63-4B66-980B-804B06E466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lassificação dos so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mportância da classificação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1557360"/>
            <a:ext cx="88567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 objetivo da classificação dos solos, sob o ponto de vista de engenharia, é o de poder estimar o provável comportamento do solo ou, pelo menos, o de orientar o programa de investigação necessário para permitir a adequada análise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s índices empregados são geralmente a composição granulométrica e os índices de Atterbe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8000" y="38466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Formas de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108000" y="4414680"/>
            <a:ext cx="88567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rigem: solos residuais e solos transpo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volução pedogenética: classificação pedológica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Características peculiares: presença de MO, estrutur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Tipo e comportamento das partículas constituintes: sistemas  classificação dos solos baseados em propriedades – í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xemplo: Classificação pedológica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pedologico"/>
          <p:cNvPicPr/>
          <p:nvPr/>
        </p:nvPicPr>
        <p:blipFill>
          <a:blip r:embed="rId2"/>
          <a:stretch/>
        </p:blipFill>
        <p:spPr>
          <a:xfrm>
            <a:off x="1979640" y="1557360"/>
            <a:ext cx="5400720" cy="5116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8000" y="1533600"/>
            <a:ext cx="885672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Elaborado pelo Prof. Casagrande para obras de aeroportos. Atualmente é utilizado pelos geotécnicos em barragens de ter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Apresenta uma tabela de classificação onde se identificam três principais divisões de solos: solos de granulometria grossa; solos de granulometria fina e; solos altamente orgân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3429000"/>
          <a:ext cx="2873520" cy="3352680"/>
        </p:xfrm>
        <a:graphic>
          <a:graphicData uri="http://schemas.openxmlformats.org/drawingml/2006/table">
            <a:tbl>
              <a:tblPr/>
              <a:tblGrid>
                <a:gridCol w="503280"/>
                <a:gridCol w="237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egu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orgâ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m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46"/>
          <p:cNvSpPr/>
          <p:nvPr/>
        </p:nvSpPr>
        <p:spPr>
          <a:xfrm>
            <a:off x="3492360" y="3689280"/>
            <a:ext cx="5256360" cy="300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Identificados pelo conjunto de duas letras. As 5 letras superiores indicam o tipo principal do solo e as 4 seguintes correspondem a dados complementares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SW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eia bem grad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CH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gila de alta compressi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7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9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lassiA"/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8000" y="1739880"/>
            <a:ext cx="885672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É a classificação tradicionalmente mais empregada na caracterização de solos para uso em est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Classifica os solos em 8 grup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granulares (% passante #200 &lt; 35%) → A-1, A-2 e A-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finos (% passante #200 &gt; 35%) → A-4, A-5, A-6 e A-7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altamente orgânicos → podem ser classificados como A-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Baseado na granulometria e Limites de Atterber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Se inicia a classificação pela constatação da porcentagem de material que passa na peneira #200, só que são considerados solos de granulação grosseira os que tem menos de 35% passando nesta penei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8000" y="1739880"/>
            <a:ext cx="885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Esquema para classificação pelo Sistema Rodovi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4883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istema trilinear de classificação tex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Triangulo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513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0" name="Rectangle 10"/>
          <p:cNvSpPr/>
          <p:nvPr/>
        </p:nvSpPr>
        <p:spPr>
          <a:xfrm>
            <a:off x="252360" y="1766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as porcentagens das frações areia, silte e argila obtidas dos ensaios de granulomet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52360" y="29242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gado na classificação de solos em engenharia rodoviária e em Ped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2360" y="4025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textural empregado em levantamentos de solos no Brasil (Lemos e Santos,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4:49Z</dcterms:modified>
  <cp:revision>139</cp:revision>
  <dc:subject/>
  <dc:title>Slide 1</dc:title>
</cp:coreProperties>
</file>