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03C-E660-4F31-B5DC-16EEF2C8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DBD-DECD-4CFB-8A3C-E8DDAF3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0DA-0766-48A7-9E6E-C5D07C0D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0AD-2837-4A42-BD5C-5478999A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E78-EAD5-4801-AB55-2E12DB39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5FD-F1A0-485C-A635-E357A470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4A9-78C1-46D1-8F9D-60C3DE41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7CA-F485-4F8F-ACB7-BCB8AEE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69C-056E-4AFF-9F8C-A0D7224D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6D0-9B45-4717-A7DB-0FD030F6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AFA-7909-473C-8217-7F235AC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DC5-4760-4DF3-9E3A-3D6EABA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F976-F12C-4842-B61B-8D0169F1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56000" y="388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ngenhari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Bookman Old Style"/>
              </a:rPr>
              <a:t>Prospecção do Subso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332000" y="39178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cânica dos Solo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6304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R 6484. A sondagem consiste essencialmente em dois tipos de operação: Perfuração e Amostr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027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ndagens de Simples Re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708280"/>
            <a:ext cx="856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cima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ção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baixo do nível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4033800" cy="401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5157720"/>
            <a:ext cx="6610320" cy="1247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6524640"/>
            <a:ext cx="460836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52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istência à penetração é referida como o número N do SPT ou SPT do solo, sendo SPT as iniciais de “Standart Penetration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7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e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a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a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ma de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41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g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a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a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50920" y="5734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função da resistência a penetração, o estado do solo é classificado pela compacidade (areia), ou pela consistência (argila ou silte argilo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98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6120000" cy="3771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5616720"/>
            <a:ext cx="6135840" cy="112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364000" y="4951440"/>
            <a:ext cx="3600720" cy="39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67280" y="5157360"/>
            <a:ext cx="144360" cy="3589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157720"/>
            <a:ext cx="216000" cy="71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5516280"/>
            <a:ext cx="14436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Jose Rojas</cp:lastModifiedBy>
  <dcterms:modified xsi:type="dcterms:W3CDTF">2008-12-27T15:51:49Z</dcterms:modified>
  <cp:revision>120</cp:revision>
  <dc:subject/>
  <dc:title>Slide 1</dc:title>
</cp:coreProperties>
</file>