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0875-0A7A-40C8-9209-F1DD3C5A4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19AA-CC68-414D-A44A-643D0B85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3B55-7F89-4027-9510-1C2EC58F6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259B-49E0-460C-A250-8AB6B9905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1FEA-BB97-4AD7-81B3-970FE635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E1DC-0065-4AC0-A219-9B6FE21A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86B8-F4C5-409A-8D85-91436EE6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2B73-D2BF-4D2A-84C3-A2C579E8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1B25-4690-4190-A62E-315332E7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AEAE-5D0C-4FDD-A30E-4BDD468F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DDA6-51A0-451F-8FE7-7BB4D915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5C6C-7441-4A84-9D06-4A4B1742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EF48-5198-42B3-A0DE-959630CE166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539640" y="2349360"/>
            <a:ext cx="79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Classificação dos sol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lassificação dos So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108000" y="103824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A importância da classificação dos s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4"/>
          <p:cNvSpPr/>
          <p:nvPr/>
        </p:nvSpPr>
        <p:spPr>
          <a:xfrm>
            <a:off x="108000" y="1557360"/>
            <a:ext cx="8856720" cy="22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O objetivo da classificação dos solos, sob o ponto de vista de engenharia, é o de poder estimar o provável comportamento do solo ou, pelo menos, o de orientar o programa de investigação necessário para permitir a adequada análise de um probl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Os índices empregados são geralmente a composição granulométrica e os índices de Atterber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08000" y="384660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Formas de Classific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8"/>
          <p:cNvSpPr/>
          <p:nvPr/>
        </p:nvSpPr>
        <p:spPr>
          <a:xfrm>
            <a:off x="108000" y="4414680"/>
            <a:ext cx="8856720" cy="22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Origem: solos residuais e solos transpor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Evolução pedogenética: classificação pedológica dos so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Características peculiares: presença de MO, estrutura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Tipo e comportamento das partículas constituintes: sistemas  classificação dos solos baseados em propriedades – índ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lassificação dos So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08000" y="103824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Exemplo: Classificação pedológica dos s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pedologico"/>
          <p:cNvPicPr/>
          <p:nvPr/>
        </p:nvPicPr>
        <p:blipFill>
          <a:blip r:embed="rId2"/>
          <a:stretch/>
        </p:blipFill>
        <p:spPr>
          <a:xfrm>
            <a:off x="1979640" y="1557360"/>
            <a:ext cx="5400720" cy="5116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lassificação dos So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08000" y="103824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lassificação Unific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08000" y="1533600"/>
            <a:ext cx="8856720" cy="18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188"/>
              </a:spcBef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sto MT"/>
              </a:rPr>
              <a:t>   </a:t>
            </a:r>
            <a:r>
              <a:rPr b="0" lang="pt-BR" sz="1900" spc="-1" strike="noStrike">
                <a:solidFill>
                  <a:srgbClr val="000000"/>
                </a:solidFill>
                <a:latin typeface="Calisto MT"/>
              </a:rPr>
              <a:t>Elaborado pelo Prof. Casagrande para obras de aeroportos. Atualmente é utilizado pelos geotécnicos em barragens de terr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188"/>
              </a:spcBef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sto MT"/>
              </a:rPr>
              <a:t>   </a:t>
            </a:r>
            <a:r>
              <a:rPr b="0" lang="pt-BR" sz="1900" spc="-1" strike="noStrike">
                <a:solidFill>
                  <a:srgbClr val="000000"/>
                </a:solidFill>
                <a:latin typeface="Calisto MT"/>
              </a:rPr>
              <a:t>Apresenta uma tabela de classificação onde se identificam três principais divisões de solos: solos de granulometria grossa; solos de granulometria fina e; solos altamente orgânico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95280" y="3429000"/>
          <a:ext cx="2873520" cy="3352680"/>
        </p:xfrm>
        <a:graphic>
          <a:graphicData uri="http://schemas.openxmlformats.org/drawingml/2006/table">
            <a:tbl>
              <a:tblPr/>
              <a:tblGrid>
                <a:gridCol w="503280"/>
                <a:gridCol w="23702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dregulh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o orgân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m gradu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 gradu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 compressibilid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ixa compressibilid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f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sp>
        <p:nvSpPr>
          <p:cNvPr id="58" name="Text Box 46"/>
          <p:cNvSpPr/>
          <p:nvPr/>
        </p:nvSpPr>
        <p:spPr>
          <a:xfrm>
            <a:off x="3492360" y="3689280"/>
            <a:ext cx="5256360" cy="3009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Identificados pelo conjunto de duas letras. As 5 letras superiores indicam o tipo principal do solo e as 4 seguintes correspondem a dados complementares dos so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Exempl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entury Gothic"/>
              </a:rPr>
              <a:t>SW – </a:t>
            </a:r>
            <a:r>
              <a:rPr b="1" i="1" lang="pt-BR" sz="2000" spc="-1" strike="noStrike">
                <a:solidFill>
                  <a:srgbClr val="000000"/>
                </a:solidFill>
                <a:latin typeface="Century Gothic"/>
              </a:rPr>
              <a:t>Areia bem gradu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entury Gothic"/>
              </a:rPr>
              <a:t>CH – </a:t>
            </a:r>
            <a:r>
              <a:rPr b="1" i="1" lang="pt-BR" sz="2000" spc="-1" strike="noStrike">
                <a:solidFill>
                  <a:srgbClr val="000000"/>
                </a:solidFill>
                <a:latin typeface="Century Gothic"/>
              </a:rPr>
              <a:t>Argila de alta compressibilid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lassificação dos So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108000" y="103824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lassificação Unific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7" descr=""/>
          <p:cNvPicPr/>
          <p:nvPr/>
        </p:nvPicPr>
        <p:blipFill>
          <a:blip r:embed="rId2"/>
          <a:stretch/>
        </p:blipFill>
        <p:spPr>
          <a:xfrm>
            <a:off x="1258920" y="1700280"/>
            <a:ext cx="6697800" cy="48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lassificação dos So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08000" y="103824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lassificação Unific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ClassiA"/>
          <p:cNvPicPr/>
          <p:nvPr/>
        </p:nvPicPr>
        <p:blipFill>
          <a:blip r:embed="rId2"/>
          <a:stretch/>
        </p:blipFill>
        <p:spPr>
          <a:xfrm>
            <a:off x="611280" y="1700280"/>
            <a:ext cx="79200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lassificação dos So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108000" y="103824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assificação HRB (Highway Research Boa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108000" y="1739880"/>
            <a:ext cx="8856720" cy="49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437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    </a:t>
            </a: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É a classificação tradicionalmente mais empregada na caracterização de solos para uso em estrad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437"/>
              </a:spcBef>
              <a:buSzPct val="102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   </a:t>
            </a: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Classifica os solos em 8 grupo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sto MT"/>
              </a:rPr>
              <a:t>solos granulares (% passante #200 &lt; 35%) → A-1, A-2 e A-3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sto MT"/>
              </a:rPr>
              <a:t>solos finos (% passante #200 &gt; 35%) → A-4, A-5, A-6 e A-7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sto MT"/>
              </a:rPr>
              <a:t>solos altamente orgânicos → podem ser classificados como A-8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437"/>
              </a:spcBef>
              <a:buSzPct val="1028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   </a:t>
            </a: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Baseado na granulometria e Limites de Atterberg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437"/>
              </a:spcBef>
              <a:buSzPct val="1028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  </a:t>
            </a: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Se inicia a classificação pela constatação da porcentagem de material que passa na peneira #200, só que são considerados solos de granulação grosseira os que tem menos de 35% passando nesta peneir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lassificação dos So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108000" y="103824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assificação HRB (Highway Research Boa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108000" y="1739880"/>
            <a:ext cx="88567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437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    </a:t>
            </a: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Esquema para classificação pelo Sistema Rodoviári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4" descr=""/>
          <p:cNvPicPr/>
          <p:nvPr/>
        </p:nvPicPr>
        <p:blipFill>
          <a:blip r:embed="rId3"/>
          <a:stretch/>
        </p:blipFill>
        <p:spPr>
          <a:xfrm>
            <a:off x="900000" y="2349360"/>
            <a:ext cx="7488360" cy="42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lassificação dos So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108000" y="103824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Sistema trilinear de classificação tex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Triangulo"/>
          <p:cNvPicPr/>
          <p:nvPr/>
        </p:nvPicPr>
        <p:blipFill>
          <a:blip r:embed="rId2"/>
          <a:stretch/>
        </p:blipFill>
        <p:spPr>
          <a:xfrm>
            <a:off x="3492360" y="1628640"/>
            <a:ext cx="5472360" cy="51310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80" name="Rectangle 10"/>
          <p:cNvSpPr/>
          <p:nvPr/>
        </p:nvSpPr>
        <p:spPr>
          <a:xfrm>
            <a:off x="252360" y="1766880"/>
            <a:ext cx="37450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sidera as porcentagens das frações areia, silte e argila obtidas dos ensaios de granulomet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252360" y="2924280"/>
            <a:ext cx="37450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pregado na classificação de solos em engenharia rodoviária e em Pedolog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252360" y="4025880"/>
            <a:ext cx="37450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agrama textural empregado em levantamentos de solos no Brasil (Lemos e Santos, 198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14:03:03Z</dcterms:created>
  <dc:creator>José Rojas</dc:creator>
  <dc:description/>
  <dc:language>en-US</dc:language>
  <cp:lastModifiedBy>José Rojas</cp:lastModifiedBy>
  <dcterms:modified xsi:type="dcterms:W3CDTF">2014-05-09T11:54:49Z</dcterms:modified>
  <cp:revision>139</cp:revision>
  <dc:subject/>
  <dc:title>Slide 1</dc:title>
</cp:coreProperties>
</file>