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9DC-7125-4B6C-837D-FEEA33F4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9BA-A04E-48BB-BDA6-356C193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6D9-B799-427D-94B0-A3A25321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B83-AB12-4DED-A974-9799EE6D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8B3-2016-47C7-9E64-FD74B600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169-7E18-427E-8E73-F80F3010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E33-D6A5-4001-8181-11694889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3D4-91CE-4FD5-AB76-13D0DE7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A01-5F6C-42D0-97C8-CC7B9E9D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51D-06DB-4198-98D5-348FC5C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75F-25BA-46EE-B9CD-9B24994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009-3A96-4C24-8AEB-E01CA86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AF8C-52D5-4923-99C6-0488E0812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56000" y="388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ngenhari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Bookman Old Style"/>
              </a:rPr>
              <a:t>Prospecção do Subso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332000" y="39178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cânica dos Solo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6304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R 6484. A sondagem consiste essencialmente em dois tipos de operação: Perfuração e Amostr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027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ndagens de Simples Re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708280"/>
            <a:ext cx="856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cima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ção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baixo do nível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4033800" cy="401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5157720"/>
            <a:ext cx="6610320" cy="1247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6524640"/>
            <a:ext cx="460836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52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istência à penetração é referida como o número N do SPT ou SPT do solo, sendo SPT as iniciais de “Standart Penetration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7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e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a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a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ma de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41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g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a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a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50920" y="5734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função da resistência a penetração, o estado do solo é classificado pela compacidade (areia), ou pela consistência (argila ou silte argilo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98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6120000" cy="3771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5616720"/>
            <a:ext cx="6135840" cy="112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364000" y="4951440"/>
            <a:ext cx="3600720" cy="39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67280" y="5157360"/>
            <a:ext cx="144360" cy="3589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157720"/>
            <a:ext cx="216000" cy="71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5516280"/>
            <a:ext cx="14436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Jose Rojas</cp:lastModifiedBy>
  <dcterms:modified xsi:type="dcterms:W3CDTF">2008-12-27T15:51:49Z</dcterms:modified>
  <cp:revision>120</cp:revision>
  <dc:subject/>
  <dc:title>Slide 1</dc:title>
</cp:coreProperties>
</file>