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322-A69E-473B-9CCF-03AFA2F3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2A2-3C79-409C-9C81-32322953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02D-82E6-4AAB-A799-FC2E1A6E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3BD-A417-46F8-A1BB-56AA05A0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C45-3023-448D-BDBD-8704CD19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7C5-8110-4593-9925-48334D2C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647-5C74-478E-9F2F-76FC4DF6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899-2FBB-4637-8E16-1D76BDDA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AF0-B3D5-4198-ACC6-BC5B9182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C884-2167-40A7-9CBD-0DD268D1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52A-29F9-4259-B992-D69CA09D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8BE-704E-40A3-B093-0BF39751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D82E-8B71-4A71-ACD4-59E513D1810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1547640" y="2349360"/>
            <a:ext cx="60501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Investigação Geológica e Geotécn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79280" y="526428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08000" y="1484280"/>
            <a:ext cx="892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aspagem 01"/>
          <p:cNvPicPr/>
          <p:nvPr/>
        </p:nvPicPr>
        <p:blipFill>
          <a:blip r:embed="rId3"/>
          <a:stretch/>
        </p:blipFill>
        <p:spPr>
          <a:xfrm>
            <a:off x="533520" y="2781360"/>
            <a:ext cx="360684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12" descr="Jazida"/>
          <p:cNvPicPr/>
          <p:nvPr/>
        </p:nvPicPr>
        <p:blipFill>
          <a:blip r:embed="rId4"/>
          <a:stretch/>
        </p:blipFill>
        <p:spPr>
          <a:xfrm>
            <a:off x="5033880" y="2781360"/>
            <a:ext cx="357048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Rectangle 13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08000" y="1484280"/>
            <a:ext cx="892800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IMAGE0143"/>
          <p:cNvPicPr/>
          <p:nvPr/>
        </p:nvPicPr>
        <p:blipFill>
          <a:blip r:embed="rId3"/>
          <a:stretch/>
        </p:blipFill>
        <p:spPr>
          <a:xfrm>
            <a:off x="250920" y="3141720"/>
            <a:ext cx="4101840" cy="307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" name="Picture 12" descr="Gela 049"/>
          <p:cNvPicPr/>
          <p:nvPr/>
        </p:nvPicPr>
        <p:blipFill>
          <a:blip r:embed="rId4"/>
          <a:stretch/>
        </p:blipFill>
        <p:spPr>
          <a:xfrm>
            <a:off x="4788000" y="3141720"/>
            <a:ext cx="4103640" cy="30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Rectangle 13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08000" y="1484280"/>
            <a:ext cx="892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Secagem"/>
          <p:cNvPicPr/>
          <p:nvPr/>
        </p:nvPicPr>
        <p:blipFill>
          <a:blip r:embed="rId3"/>
          <a:stretch/>
        </p:blipFill>
        <p:spPr>
          <a:xfrm>
            <a:off x="539640" y="2852640"/>
            <a:ext cx="3657600" cy="363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1" name="Picture 11" descr="IMAGE0038"/>
          <p:cNvPicPr/>
          <p:nvPr/>
        </p:nvPicPr>
        <p:blipFill>
          <a:blip r:embed="rId4"/>
          <a:stretch/>
        </p:blipFill>
        <p:spPr>
          <a:xfrm>
            <a:off x="4788000" y="3213000"/>
            <a:ext cx="396216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Rectangle 12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2050920" y="2755800"/>
            <a:ext cx="4861080" cy="391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Rectangle 10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4786200" y="2852640"/>
            <a:ext cx="3889440" cy="3803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468360" y="2852640"/>
            <a:ext cx="3363840" cy="379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Amostra indeformada"/>
          <p:cNvPicPr/>
          <p:nvPr/>
        </p:nvPicPr>
        <p:blipFill>
          <a:blip r:embed="rId3"/>
          <a:stretch/>
        </p:blipFill>
        <p:spPr>
          <a:xfrm>
            <a:off x="250920" y="2971800"/>
            <a:ext cx="3960720" cy="3049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11" descr="amostra indeformada 02"/>
          <p:cNvPicPr/>
          <p:nvPr/>
        </p:nvPicPr>
        <p:blipFill>
          <a:blip r:embed="rId4"/>
          <a:stretch/>
        </p:blipFill>
        <p:spPr>
          <a:xfrm>
            <a:off x="4597560" y="2637000"/>
            <a:ext cx="4295520" cy="39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Rectangle 12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Métodos de Investigação Ge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08000" y="1700280"/>
            <a:ext cx="892800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Unidade geológica: é um corpo geológico espacialmente delimitado, com características específicas e comportamento similar face à determinad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rpo geológico: Camada, zona ou trecho capaz de ser delimitado em superfície e/ou em subsuperfície, com características e propriedades singula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portamento similar: Comportamento semelhante face à mesm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olicitação: Ação sobre o ambiente geológico imposta, induzida ou resultante da interação com a ocupação antróp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Unidades Ge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08000" y="1797120"/>
            <a:ext cx="8928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Toda unidade geológica está associada a um processo geológico específico, de tal sorte que o conhecimento dos processos que atuaram num local determinado é essencial para o conhecimento das unidades pres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Uma unidade geológica pode ser constituída por um conjunto de camadas ou por camadas individualizadas, em conformidade com 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xemplo: No caso de uma rodovia, uma camada de argila orgânica de um corpo aluvionar será considerada como uma unidade geológica, devido à possibilidade de induzir recalques do pavimento. Por outro lado, para fins de escavação, um conjunto de várias camadas de um aluvião, pode ser considerado como uma única unidade geológ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A investigação ge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8000" y="1268280"/>
            <a:ext cx="8928000" cy="52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acterizar as solicita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valiar as unidades geológicas presentes em função dos dados existentes, de reconhecimento geológico e outros méto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lecionar os métodos de investigação aplicáveis em função das solicitações, unidades geológicas, fase dos estudos, logística, resolução, prazo, custo e outras variáveis e distribuir as investigações na área através de critérios geométrico e geológ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r especificações executivas, procedimentos de fiscalização, critérios de medição e pagamento, contrato e licit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ompanhar os resultados e ajustar o plano de investig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pretar os resultados e elaborar os modelos geológico e geomecân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r seções geológicas e outras formas de apresentação de dados conforme requeri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ompanhar a escolha da solução e o desenvolvimento do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rincipais limit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08000" y="1797120"/>
            <a:ext cx="892800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Resolução: capacidade do método de fornecer a informação desejada; a resolução de cada método pode variar conforme a solicitação ou ambient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azo: o prazo disponível para as investigações pode limitar ou até impedir a  aplicação de determinados métodos em função do tempo de execuçã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usto: o custo das investigações varia entre um e três por cento do custo do empreendimento ou obra, exceto em casos especiai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usto x benefício: há um relação ótima entre o volume de investigação, que se reflete no custo das investigações e as informações obtidas, ou seja, o benefício alcanç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Métodos Geofí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08000" y="1341360"/>
            <a:ext cx="89280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étodos sís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os mais empregados por refletirem as propriedades mecânicas das rochas e facilitam a interpretação e correlação com dados de sondagens dir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ísmica de refração (mais empregado); Sísmica de reflexão; Crosshole e tomografia sís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étodos geoel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etroresistividade (sondagem elétrica vertical e caminhamento elétrico); Potencial espontâneo; Condutividade (VLF); Radar de penetração (G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tros métodos geofí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ofísica subaquática (sonografia, ecobatimentria, magnetometria e gravime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oços (PI) e trincheiras (TR) de insp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08000" y="1003320"/>
            <a:ext cx="8928000" cy="53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ços: escavação manual, com enxadão, pá e sarilho, com seções de 1,0m2 de lado, atravessando as camadas de so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fundidade limitada pela presença de água, material instável e rocha; para prosseguir a escavação nessas condições são necessários procedimentos especi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ualização de grande extensão do material e a retirada de grandes volumes de amostra e de amostras indeforma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ápido até 10m. Profundidade máxima em condições ideais: 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incheiras são escavações em forma de valeta; podem ser feitas mecanicam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idados: instabilização das paredes; quedas de pessoas e animais (necessário cerca e cobertu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oços (PI) e trincheiras (TR) de insp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Gela 020"/>
          <p:cNvPicPr/>
          <p:nvPr/>
        </p:nvPicPr>
        <p:blipFill>
          <a:blip r:embed="rId2"/>
          <a:stretch/>
        </p:blipFill>
        <p:spPr>
          <a:xfrm>
            <a:off x="109440" y="2421000"/>
            <a:ext cx="431820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10" descr="Gela 024"/>
          <p:cNvPicPr/>
          <p:nvPr/>
        </p:nvPicPr>
        <p:blipFill>
          <a:blip r:embed="rId3"/>
          <a:stretch/>
        </p:blipFill>
        <p:spPr>
          <a:xfrm>
            <a:off x="4643280" y="2421000"/>
            <a:ext cx="431820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Rectangle 11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Sondagem a T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08000" y="1797120"/>
            <a:ext cx="89280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scavados manualmente com o auxílio de uma broca chamada trado, acoplada a hastes de aço de ¾ de polegadas e a um tê para imprimir o movimento giratóri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omente atravessa a camada de solo, sendo interrompidos pela ocorrência de quaisquer materiais mais duros (rocha alterada mole, linha de seixos, etc) e pela presença de água subterrâne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ermite a obtenção de grande volume de amostras deformad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étodo rápido e portátil; profundidade máxima em condições ideais: 25 a 30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4:03:03Z</dcterms:created>
  <dc:creator>José Rojas</dc:creator>
  <dc:description/>
  <dc:language>en-US</dc:language>
  <cp:lastModifiedBy>José Rojas</cp:lastModifiedBy>
  <dcterms:modified xsi:type="dcterms:W3CDTF">2014-05-09T11:53:50Z</dcterms:modified>
  <cp:revision>87</cp:revision>
  <dc:subject/>
  <dc:title>Slide 1</dc:title>
</cp:coreProperties>
</file>