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E1AC-B227-41E4-892E-854F350F667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7F4E-DA2D-4B92-8D1E-8E033DE149E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A78-0C61-4DB3-9584-E611DE2D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E8C-B4E1-47EF-96C9-93E9F1CC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2F2-FE49-4009-A09E-1AB4A84F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F4C-5DCD-4795-BFBB-AD09E69F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DB0-5879-4AC9-B3DF-CF94AFEA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9FF-67BD-4C72-819B-C76C7942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216-51F3-4237-8122-D8785D33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26D-8727-414D-B3B7-37B89542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F1D-FD49-48C3-A0EC-630EA53B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5B1-6270-455C-BAB6-C9F17B22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4E9-6DE6-4C78-A998-CF770411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46F-EEF3-4322-BBC7-6E68EE15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A6C9-C0D6-4BB5-8C15-3B4FCADB0A9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Legislação Ambiental sobre Resíduos Sól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50920" y="1700280"/>
            <a:ext cx="8569080" cy="47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nsonância com as demais políticas afins ( PNRSMMA) e com as políticas sociais de Assistência, de Transferência de Renda e Cidadania (MD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oco na inclusão social e emancipação econômica do catado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promisso com o desenvolvimento da cadeia produtiva dos recicláveis beneficiando os catador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dução à geração de trabalho e renda, para reverter a discriminação social imposta aos catador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liminação do desperdício e estímulo ao reaproveitamento e/ou reciclagem de matérias prim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ojeto de MDL na redução de emissões de biogás em aterros e lixões - MCidades, MMA, Banco Mundi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0920" y="1800360"/>
            <a:ext cx="856908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inanciamento, pelo FGTS, para implantação de instalações para o manejo, processamento e destinação final dos resíduos de construção e demoli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anual de Apoio à elaboração de PGIRCD (CAIXA, apoio MCIdad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apacitação de recursos humanos para a gestão dos resíduos, incluindo capacitação para catadores - MCidades/IBAM, FNM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realização de seminários de sensibilização e formação de redes de instituições e de especialistas na temática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envolvimento de banco de dados e sistema de informações em gestão integrada de resíduos – SNIS RS e elaboração de Portal Governamental em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900000" y="1773360"/>
            <a:ext cx="6767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79280" y="2349360"/>
            <a:ext cx="8828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84360" y="1916280"/>
            <a:ext cx="755964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971640" y="1844640"/>
            <a:ext cx="6912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2349360"/>
            <a:ext cx="8164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39640" y="1700280"/>
            <a:ext cx="76345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68360" y="1916280"/>
            <a:ext cx="82072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84360" y="1700280"/>
            <a:ext cx="7345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falta de saneamento provoca impactos ambientais na água dos lençóis freáticos e da superfície. Os resíduos sólidos contaminam a natureza com chorume e gás metano, entre outros poluentes que afetam a camada de ozônio, contribuindo para aumentar o efeito estuf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a estabelece as diretrizes nacionais para o saneamento básico. A nova legislação define as regras para o aumento de investimentos privados e públicos no setor. Os focos são o planejamento, a fiscalização e a participação social.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771640" y="907920"/>
            <a:ext cx="5677200" cy="1057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828036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1844640"/>
            <a:ext cx="83930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Estaduais – Resoluções - CON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170028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91 de 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a a Resolução CONSEMA nº 008/2000, que dispõe sobre a composição da Câmara Técnica Permanente de Resíduos Sól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87280" y="280188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73 de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sobre a co-disposição de resíduos sólidos industriais em aterros de resíduos sólidos urbanos no Estado do Rio Grande do S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187280" y="388296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17 de 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elece diretrizes para a elaboração e apresentação de Plano de Gerenciamento Integrado de Resíduos Sól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187280" y="5106960"/>
          <a:ext cx="6917040" cy="118908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9 de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de Norma para o Licenciamento Ambiental de Sistema de Incineração de Resíduos provenientes de Serviço de Saúde, classificados como infectantes (Grupo A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Estaduais – Resoluções - CON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7280" y="220032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2 de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de norma sobre o licenciamento ambiental para co-processamento de resíduos em fornos de clínqu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187280" y="3301920"/>
          <a:ext cx="6917040" cy="22860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5 de 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a o prazo de duração da Câmara Técnica Provisória para tratar da elaboração de normas e procedimentos de incineração e co-processamento, para o licenciamento ambiental e operação de sistemas de incineração de resíduos sólidos industriais, urbanos e de serviço de saúde no Estado do Rio Grande do Sul e dá outras providên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Municipais – 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87280" y="162864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to nº 9.367 de 29/12/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menta a Lei Complementar nº. 65, de 22/12/81, em relação ao manejo de resíduos sólidos no Município e dá outras providên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Picture 23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644364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4"/>
          <p:cNvSpPr/>
          <p:nvPr/>
        </p:nvSpPr>
        <p:spPr>
          <a:xfrm>
            <a:off x="1174320" y="5870520"/>
            <a:ext cx="67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2.portoalegre.rs.gov.br/smam/default.php?p_secao=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8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2205000"/>
            <a:ext cx="8307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39640" y="1700280"/>
            <a:ext cx="81327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24000" y="2565360"/>
            <a:ext cx="85230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11280" y="1916280"/>
            <a:ext cx="78562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187280" y="1700280"/>
            <a:ext cx="684072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 obrigar o poder público a produzir planos de resíduos sólidos, de recursos hídricos e de saneamento básico e a criar agências reguladoras, a lei torna o saneamento um negócio seguro e rentável. Outro destaque é o fortalecimento da comunidade na gestão associada dos consórcios municipais a serem implemen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artigo 57 da nova lei modifica o artigo 24 da Lei 8.666, dispensando licitação para contratação de catadores de resíduos sólidos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expectativa do Ministério do Meio Ambiente, com a promulgação da lei do saneamento, é que esta favoreça 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rovação da Política Nacional de Resíduos Sólid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que se encontra na Casa Civil. As propostas para tal política foram coletadas pelo Ministério e estão sendo estudadas desde 1991.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85800" y="220968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 Brasil precisa investir cerca de 180 bilhões de reais num prazo de 20 anos para universalizar os serviços de saneamento bás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m 2006, foram investidos apenas R$ 4,5 bilhões no set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09480" y="533412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Fonte: AESBE (Associação das Empresas de Saneamento Básico Estaduai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50920" y="1916280"/>
            <a:ext cx="8569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menta: Estabelece diretrizes e normas para o gerenciamento dos diferentes tipos de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50920" y="3343320"/>
            <a:ext cx="856908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mento na quantidade de resíduos produzidos e escassez de áreas para disposição f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tinação final inadequad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xistência de catadores, inclusive crianças nos lixões e nas ru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alta de incentivo para o fortalecimento do mercado de material reciclad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campanha nacional, estimulando a população a separar os materiais recicláveis e doá-los aos catado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3276720" y="2781360"/>
            <a:ext cx="2735280" cy="43164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50920" y="2781360"/>
            <a:ext cx="856908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suficiência de recurs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brança inexistente ou insuficiente para a implementação de novos investiment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aixos níveis de qualidade e eficiência na prestação dos serviç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linha de apoio à capacitação de recursos humanos e de catadores para a gestão dos resídu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continuidade de ações no âmbito loc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GU como principal fonte de recursos, sujeito a Cortes orçamentários e pulverização de recurs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3276720" y="1989000"/>
            <a:ext cx="2735280" cy="43200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50920" y="2781360"/>
            <a:ext cx="856908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suficiência de quadros na estrutura do poder público das três esfer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aixa capacidade operacional na maioria dos OEM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m 70% dos municípios não existe órgão específico para a Limpeza Urban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sência de instrumentos adequados de regulação e controle sobre a prestação dos serviç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responsabilização do gerado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sência de uma Política Nacional de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3276720" y="1989000"/>
            <a:ext cx="2735280" cy="43200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50920" y="1989000"/>
            <a:ext cx="8569080" cy="41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L nº5.296/2005 da Política Nacional de Saneamento SNSA/MCIDA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iretrizes para a prestação de serviços públicos de manejo dos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oposta de Política Nacional de Resíduos Sól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NAMA/SQA/MMA com apoio do MCidades e de entidades públicas e outras organizaçõ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itê Interministerial de Inclusão Social de Catadores e à Erradicação dos Lixõ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(MinCidades/FUNASA/MMA/MDS e outro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26:50Z</dcterms:modified>
  <cp:revision>209</cp:revision>
  <dc:subject/>
  <dc:title>Slide 1</dc:title>
</cp:coreProperties>
</file>