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E8C94-6472-4E23-9E32-5A79B5B215D5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01799-90B0-4D16-A424-2E6758B5A17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C4AF-D03C-4060-863C-AF8A7E2DF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BF4B-8E76-4CD9-8EA5-BB787E0A7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67FB-307A-4F32-A604-4FBC245B8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D783-3365-40E2-B483-8632D275B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5F18-515B-4726-8104-6DDA5BE4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F454-43AD-403D-A1AE-AF34182F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D396-989A-4A51-806F-BF10B2EF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4944-B5BC-4656-B689-56C31A59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5322-43EB-47C7-B37F-CFB812DA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B35E-43F4-4F3E-B17E-183EE4DE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9251-462D-4EFB-ABFC-25BEE00C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EA50-85A8-4DE4-990A-AF38071CB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B4EC-1149-45CF-9F2C-BD7E10CDC7FD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Legislação Ambiental sobre Resíduos Sólid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250920" y="1700280"/>
            <a:ext cx="8569080" cy="476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sonância com as demais políticas afins ( PNRSMMA) e com as políticas sociais de Assistência, de Transferência de Renda e Cidadania (MD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oco na inclusão social e emancipação econômica do cat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promisso com o desenvolvimento da cadeia produtiva dos recicláveis beneficiando 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dução à geração de trabalho e renda, para reverter a discriminação social imposta aos catadore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liminação do desperdício e estímulo ao reaproveitamento e/ou reciclagem de matérias prima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jeto de MDL na redução de emissões de biogás em aterros e lixões - MCidades, MMA, Banco Mundi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250920" y="1800360"/>
            <a:ext cx="8569080" cy="460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inanciamento, pelo FGTS, para implantação de instalações para o manejo, processamento e destinação final dos resíduos de construção e demolição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anual de Apoio à elaboração de PGIRCD (CAIXA, apoio MCIdades)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apacitação de recursos humanos para a gestão dos resíduos, incluindo capacitação para catadores - MCidades/IBAM, FNM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realização de seminários de sensibilização e formação de redes de instituições e de especialistas na temática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envolvimento de banco de dados e sistema de informações em gestão integrada de resíduos – SNIS RS e elaboração de Portal Governamental em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00000" y="1773360"/>
            <a:ext cx="67676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79280" y="2349360"/>
            <a:ext cx="882828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916280"/>
            <a:ext cx="7559640" cy="44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971640" y="1844640"/>
            <a:ext cx="69120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349360"/>
            <a:ext cx="816444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763452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468360" y="1916280"/>
            <a:ext cx="820728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84360" y="1700280"/>
            <a:ext cx="734508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falta de saneamento provoca impactos ambientais na água dos lençóis freáticos e da superfície. Os resíduos sólidos contaminam a natureza com chorume e gás metano, entre outros poluentes que afetam a camada de ozônio, contribuindo para aumentar o efeito estuf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a estabelece as diretrizes nacionais para o saneamento básico. A nova legislação define as regras para o aumento de investimentos privados e públicos no setor. Os focos são o planejamento, a fiscalização e a participação social.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2771640" y="907920"/>
            <a:ext cx="5677200" cy="10573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2" descr=""/>
          <p:cNvPicPr/>
          <p:nvPr/>
        </p:nvPicPr>
        <p:blipFill>
          <a:blip r:embed="rId3"/>
          <a:stretch/>
        </p:blipFill>
        <p:spPr>
          <a:xfrm>
            <a:off x="468360" y="2060640"/>
            <a:ext cx="8280360" cy="45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ol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11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1844640"/>
            <a:ext cx="8393040" cy="402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187280" y="17002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91 de 20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a Resolução CONSEMA nº 008/2000, que dispõe sobre a composição da Câmara Técnica Permanente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1187280" y="280188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73 de 20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sobre a co-disposição de resíduos sólidos industriais em aterros de resíduos sólidos urbanos no Estado do Rio Grande do Su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1187280" y="388296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17 de 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abelece diretrizes para a elaboração e apresentação de Plano de Gerenciamento Integrado de Resíduos Sólido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1187280" y="5106960"/>
          <a:ext cx="6917040" cy="118908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9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para o Licenciamento Ambiental de Sistema de Incineração de Resíduos provenientes de Serviço de Saúde, classificados como infectantes (Grupo A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Estaduais – Resoluções - CONS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187280" y="220032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2 de 2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õe de norma sobre o licenciamento ambiental para co-processamento de resíduos em fornos de clínqu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1187280" y="3301920"/>
          <a:ext cx="6917040" cy="22860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228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olução 005 de 19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era o prazo de duração da Câmara Técnica Provisória para tratar da elaboração de normas e procedimentos de incineração e co-processamento, para o licenciamento ambiental e operação de sistemas de incineração de resíduos sólidos industriais, urbanos e de serviço de saúde no Estado do Rio Grande do Sul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s Municipais – D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187280" y="1628640"/>
          <a:ext cx="6917040" cy="914400"/>
        </p:xfrm>
        <a:graphic>
          <a:graphicData uri="http://schemas.openxmlformats.org/drawingml/2006/table">
            <a:tbl>
              <a:tblPr/>
              <a:tblGrid>
                <a:gridCol w="1530360"/>
                <a:gridCol w="53866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reto nº 9.367 de 29/12/198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ulamenta a Lei Complementar nº. 65, de 22/12/81, em relação ao manejo de resíduos sólidos no Município e dá outras providência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2" name="Picture 23" descr=""/>
          <p:cNvPicPr/>
          <p:nvPr/>
        </p:nvPicPr>
        <p:blipFill>
          <a:blip r:embed="rId2"/>
          <a:stretch/>
        </p:blipFill>
        <p:spPr>
          <a:xfrm>
            <a:off x="1332000" y="3789360"/>
            <a:ext cx="6443640" cy="147492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24"/>
          <p:cNvSpPr/>
          <p:nvPr/>
        </p:nvSpPr>
        <p:spPr>
          <a:xfrm>
            <a:off x="1174320" y="5870520"/>
            <a:ext cx="679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ttp://www2.portoalegre.rs.gov.br/smam/default.php?p_secao=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8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95280" y="2205000"/>
            <a:ext cx="8307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539640" y="1700280"/>
            <a:ext cx="81327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324000" y="2565360"/>
            <a:ext cx="8523000" cy="27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611280" y="1916280"/>
            <a:ext cx="785628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rmas Técn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10" descr=""/>
          <p:cNvPicPr/>
          <p:nvPr/>
        </p:nvPicPr>
        <p:blipFill>
          <a:blip r:embed="rId2">
            <a:grayscl/>
          </a:blip>
          <a:stretch/>
        </p:blipFill>
        <p:spPr>
          <a:xfrm>
            <a:off x="1187280" y="1700280"/>
            <a:ext cx="684072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o obrigar o poder público a produzir planos de resíduos sólidos, de recursos hídricos e de saneamento básico e a criar agências reguladoras, a lei torna o saneamento um negócio seguro e rentável. Outro destaque é o fortalecimento da comunidade na gestão associada dos consórcios municipais a serem implement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O artigo 57 da nova lei modifica o artigo 24 da Lei 8.666, dispensando licitação para contratação de catadores de resíduos sólidos.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22096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expectativa do Ministério do Meio Ambiente, com a promulgação da lei do saneamento, é que esta favoreça a 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aprovação da Política Nacional de Resíduos Sólido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, que se encontra na Casa Civil. As propostas para tal política foram coletadas pelo Ministério e estão sendo estudadas desde 1991.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4"/>
          <p:cNvSpPr/>
          <p:nvPr/>
        </p:nvSpPr>
        <p:spPr>
          <a:xfrm>
            <a:off x="304920" y="6094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9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Política Federal de Saneamento Básico </a:t>
            </a:r>
            <a:r>
              <a:rPr b="1" lang="pt-BR" sz="24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Lei n° 11.445 de 08/01/07</a:t>
            </a:r>
            <a:r>
              <a:rPr b="1" lang="pt-BR" sz="30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685800" y="2209680"/>
            <a:ext cx="8001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Brasil precisa investir cerca de 180 bilhões de reais num prazo de 20 anos para universalizar os serviços de saneamento básic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Lucida Sans Unicode"/>
              </a:rPr>
              <a:t>Em 2006, foram investidos apenas R$ 4,5 bilhões no set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609480" y="5334120"/>
            <a:ext cx="8305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Verdana"/>
                <a:ea typeface="Lucida Sans Unicode"/>
              </a:rPr>
              <a:t>Fonte: AESBE (Associação das Empresas de Saneamento Básico Estaduai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250920" y="1916280"/>
            <a:ext cx="8569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enta: Estabelece diretrizes e normas para o gerenciamento dos diferentes tipos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2"/>
          <p:cNvSpPr/>
          <p:nvPr/>
        </p:nvSpPr>
        <p:spPr>
          <a:xfrm>
            <a:off x="250920" y="3343320"/>
            <a:ext cx="8569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mento na quantidade de resíduos produzidos e escassez de áreas para disposição fin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tinação final inadequad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xistência de catadores, inclusive crianças nos lixões e nas ru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Falta de incentivo para o fortalecimento do mercado de material reciclado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campanha nacional, estimulando a população a separar os materiais recicláveis e doá-los aos catador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3276720" y="2781360"/>
            <a:ext cx="2735280" cy="43164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0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brança inexistente ou insuficiente para a implementação de novos investiment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os níveis de qualidade e eficiência n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linha de apoio à capacitação de recursos humanos e de catadores para a gestão dos resídu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escontinuidade de ações no âmbito local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OGU como principal fonte de recursos, sujeito a Cortes orçamentários e pulverização de recurs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 FEDERAL - Projeto de L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lítica Nacional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0920" y="2781360"/>
            <a:ext cx="856908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suficiência de quadros na estrutura do poder público das três esfer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Baixa capacidade operacional na maioria dos OEMA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Em 70% dos municípios não existe órgão específico para a Limpeza Urbana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instrumentos adequados de regulação e controle sobre a prestação dos serviços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Inexistência de responsabilização do gerador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Ausência de uma Política Nacional de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0"/>
          <p:cNvSpPr/>
          <p:nvPr/>
        </p:nvSpPr>
        <p:spPr>
          <a:xfrm>
            <a:off x="3276720" y="1989000"/>
            <a:ext cx="2735280" cy="432000"/>
          </a:xfrm>
          <a:prstGeom prst="roundRect">
            <a:avLst>
              <a:gd name="adj" fmla="val 16667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saf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Legislação ambient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lanos Estratégico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9"/>
          <p:cNvSpPr/>
          <p:nvPr/>
        </p:nvSpPr>
        <p:spPr>
          <a:xfrm>
            <a:off x="250920" y="1989000"/>
            <a:ext cx="8569080" cy="41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12"/>
              </a:spcBef>
              <a:buSzPct val="1027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L nº5.296/2005 da Política Nacional de Saneamento SNSA/MCIDAD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Diretrizes para a prestação de serviços públicos de manejo dos resíduos sólido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Proposta de Política Nacional de Resíduos Sóli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NAMA/SQA/MMA com apoio do MCidades e de entidades públicas e outras organizaçõe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buSzPct val="1027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Comitê Interministerial de Inclusão Social de Catadores e à Erradicação dos Lixõ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(MinCidades/FUNASA/MMA/MDS e outros)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26:50Z</dcterms:modified>
  <cp:revision>209</cp:revision>
  <dc:subject/>
  <dc:title>Slide 1</dc:title>
</cp:coreProperties>
</file>