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notesSlide3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pptx" ContentType="application/vnd.openxmlformats-officedocument.presentationml.presentation"/>
  <Override PartName="/ppt/embeddings/oleObject1.docx" ContentType="application/vnd.openxmlformats-officedocument.wordprocessingml.documen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C4DBC-1C31-48CB-ADBA-17EB57B7E1D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75654-F812-45F9-A9F0-E511107C5516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4B505-D461-453E-9541-82ED362361D8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89E4-B28B-45AD-A13E-5184FF786208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96F3D-187A-4ACB-9A8F-DE4059525D90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08C3D-D51B-4582-B8E8-36441E66F81C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0C94-AAAD-404E-8C22-0F207265C4E4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7BADA-DDC7-412F-AB40-B89B8282A2E1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186D7-B653-4CA5-AB33-640A19EE77D9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7849-DA8C-458E-943A-6E98D1ADAF68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03A6-0B77-4843-A88B-6B0C600E51F8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1FFB-59E9-4938-B919-37F2D9245C6A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36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83461-8B34-4BBC-8472-076BC3C01AC8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9320-2FCA-4D99-BDAB-BF34BBDB352C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42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4F582-DB4A-4951-988F-AC1D201977B3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44F7-308E-4DFE-A4B0-699BC72EA116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C9E0-E6AE-4442-BA6F-61D4815C22D6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C589C-C8BA-4E55-8400-9313EA48ADBA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0" y="303120"/>
            <a:ext cx="1440" cy="18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3F6F8-FC01-4D60-8834-531D0496B2C5}" type="slidenum"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-10864800" y="303120"/>
            <a:ext cx="21731400" cy="163004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2920" y="4316400"/>
            <a:ext cx="5856120" cy="40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315C-736F-4E55-AEE1-BE193B810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2E9E-F07F-455F-AB35-F8C718DF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50A7-D045-4135-8548-BEBCE96D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8A5-54A2-4331-98FA-83A0D0AEE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29F1-E7CA-4B7B-B37E-3A41EF809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D3EF-91ED-4057-ABB9-CF4769493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0066-FAEA-46DC-A29D-0BA33F8A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7BB8-BC43-431E-9FD8-C65C0C52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91B35-638E-49D6-9700-680B56D08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3AD4-D7D9-435B-A743-95330E5F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BB50-9A93-4557-941A-E9F871BAD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5CC4-D685-4BF2-8488-D728CD7C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6E69-04DC-4C59-920B-B57578D43E35}" type="slidenum">
              <a:rPr b="0" lang="pt-B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187280" y="2852640"/>
            <a:ext cx="68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Gestão e Gerenciamento Integrado de Resíduos Sólid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3"/>
          <p:cNvSpPr/>
          <p:nvPr/>
        </p:nvSpPr>
        <p:spPr>
          <a:xfrm>
            <a:off x="270000" y="457200"/>
            <a:ext cx="2438280" cy="70380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Gerenciamento de Limpeza Urb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AutoShape 4"/>
          <p:cNvSpPr/>
          <p:nvPr/>
        </p:nvSpPr>
        <p:spPr>
          <a:xfrm>
            <a:off x="1258920" y="137160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561240" y="2133720"/>
            <a:ext cx="1704600" cy="8254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Companh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Muni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Line 6"/>
          <p:cNvSpPr/>
          <p:nvPr/>
        </p:nvSpPr>
        <p:spPr>
          <a:xfrm>
            <a:off x="3051000" y="1295280"/>
            <a:ext cx="1800" cy="53341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3821760" y="304920"/>
            <a:ext cx="5078880" cy="45972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Gestão Integrada de Resíduos Sól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AutoShape 8"/>
          <p:cNvSpPr/>
          <p:nvPr/>
        </p:nvSpPr>
        <p:spPr>
          <a:xfrm>
            <a:off x="6095880" y="83196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3344760" y="135252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lanejamento Estraté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3348000" y="1809720"/>
            <a:ext cx="71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rcabouço Legal – Reg. de Limpeza Urb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Text Box 11"/>
          <p:cNvSpPr/>
          <p:nvPr/>
        </p:nvSpPr>
        <p:spPr>
          <a:xfrm>
            <a:off x="3340080" y="229068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Jurídica, Administrativa e Financ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ext Box 12"/>
          <p:cNvSpPr/>
          <p:nvPr/>
        </p:nvSpPr>
        <p:spPr>
          <a:xfrm>
            <a:off x="3344400" y="267984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olítica de Recursos Huma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Text Box 13"/>
          <p:cNvSpPr/>
          <p:nvPr/>
        </p:nvSpPr>
        <p:spPr>
          <a:xfrm>
            <a:off x="3354840" y="3049560"/>
            <a:ext cx="5644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Trabalho e Renda - Geração de emprego e re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                        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- Trabalho inf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                              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- Coleta Seletiv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Text Box 14"/>
          <p:cNvSpPr/>
          <p:nvPr/>
        </p:nvSpPr>
        <p:spPr>
          <a:xfrm>
            <a:off x="3328920" y="6159600"/>
            <a:ext cx="39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erviço de Limpeza Urb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Text Box 15"/>
          <p:cNvSpPr/>
          <p:nvPr/>
        </p:nvSpPr>
        <p:spPr>
          <a:xfrm>
            <a:off x="3328920" y="4081320"/>
            <a:ext cx="54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de Comunicação e mobilização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ext Box 16"/>
          <p:cNvSpPr/>
          <p:nvPr/>
        </p:nvSpPr>
        <p:spPr>
          <a:xfrm>
            <a:off x="3301200" y="44496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de Fiscaliz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Line 17"/>
          <p:cNvSpPr/>
          <p:nvPr/>
        </p:nvSpPr>
        <p:spPr>
          <a:xfrm>
            <a:off x="1447920" y="3124080"/>
            <a:ext cx="1440" cy="3353040"/>
          </a:xfrm>
          <a:prstGeom prst="line">
            <a:avLst/>
          </a:prstGeom>
          <a:ln w="76320">
            <a:solidFill>
              <a:srgbClr val="ff33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Line 18"/>
          <p:cNvSpPr/>
          <p:nvPr/>
        </p:nvSpPr>
        <p:spPr>
          <a:xfrm>
            <a:off x="1447920" y="6477120"/>
            <a:ext cx="1600200" cy="1440"/>
          </a:xfrm>
          <a:prstGeom prst="line">
            <a:avLst/>
          </a:prstGeom>
          <a:ln w="76320">
            <a:solidFill>
              <a:srgbClr val="ff3399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0" name="Object 19"/>
          <p:cNvGraphicFramePr/>
          <p:nvPr/>
        </p:nvGraphicFramePr>
        <p:xfrm>
          <a:off x="228600" y="4572000"/>
          <a:ext cx="865080" cy="18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4572000"/>
                    <a:ext cx="86508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Text Box 20"/>
          <p:cNvSpPr/>
          <p:nvPr/>
        </p:nvSpPr>
        <p:spPr>
          <a:xfrm>
            <a:off x="0" y="3886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AutoShape 21"/>
          <p:cNvSpPr/>
          <p:nvPr/>
        </p:nvSpPr>
        <p:spPr>
          <a:xfrm>
            <a:off x="0" y="3505320"/>
            <a:ext cx="1447920" cy="1143000"/>
          </a:xfrm>
          <a:prstGeom prst="cloudCallout">
            <a:avLst>
              <a:gd name="adj1" fmla="val -328"/>
              <a:gd name="adj2" fmla="val 353194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Text Box 22"/>
          <p:cNvSpPr/>
          <p:nvPr/>
        </p:nvSpPr>
        <p:spPr>
          <a:xfrm>
            <a:off x="139680" y="37530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66"/>
                </a:solidFill>
                <a:latin typeface="Times New Roman"/>
              </a:rPr>
              <a:t>GESTÃ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66"/>
                </a:solidFill>
                <a:latin typeface="Times New Roman"/>
              </a:rPr>
              <a:t>RSU ?????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3332160" y="578484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mbiente Urb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Text Box 25"/>
          <p:cNvSpPr/>
          <p:nvPr/>
        </p:nvSpPr>
        <p:spPr>
          <a:xfrm>
            <a:off x="3335400" y="479736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duc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26"/>
          <p:cNvSpPr/>
          <p:nvPr/>
        </p:nvSpPr>
        <p:spPr>
          <a:xfrm>
            <a:off x="3316320" y="5170320"/>
            <a:ext cx="5680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aúde Pública </a:t>
            </a:r>
            <a:r>
              <a:rPr b="1" lang="pt-BR" sz="2000" spc="-1" strike="noStrike">
                <a:solidFill>
                  <a:srgbClr val="ffff99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. Vig. Epidemi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. Controle de Vet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AutoShape 28"/>
          <p:cNvSpPr/>
          <p:nvPr/>
        </p:nvSpPr>
        <p:spPr>
          <a:xfrm>
            <a:off x="1258920" y="1371600"/>
            <a:ext cx="380880" cy="609480"/>
          </a:xfrm>
          <a:prstGeom prst="downArrow">
            <a:avLst>
              <a:gd name="adj1" fmla="val 50000"/>
              <a:gd name="adj2" fmla="val 4000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29"/>
          <p:cNvSpPr/>
          <p:nvPr/>
        </p:nvSpPr>
        <p:spPr>
          <a:xfrm>
            <a:off x="561240" y="2133720"/>
            <a:ext cx="1704600" cy="8254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Companh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Muni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Line 30"/>
          <p:cNvSpPr/>
          <p:nvPr/>
        </p:nvSpPr>
        <p:spPr>
          <a:xfrm>
            <a:off x="3051000" y="1295280"/>
            <a:ext cx="1800" cy="533412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31"/>
          <p:cNvSpPr/>
          <p:nvPr/>
        </p:nvSpPr>
        <p:spPr>
          <a:xfrm>
            <a:off x="3821760" y="304920"/>
            <a:ext cx="5078880" cy="45972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Gestão Integrada de Resíduos Sól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AutoShape 32"/>
          <p:cNvSpPr/>
          <p:nvPr/>
        </p:nvSpPr>
        <p:spPr>
          <a:xfrm>
            <a:off x="6095880" y="831960"/>
            <a:ext cx="304920" cy="457200"/>
          </a:xfrm>
          <a:prstGeom prst="downArrow">
            <a:avLst>
              <a:gd name="adj1" fmla="val 50000"/>
              <a:gd name="adj2" fmla="val 3748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33"/>
          <p:cNvSpPr/>
          <p:nvPr/>
        </p:nvSpPr>
        <p:spPr>
          <a:xfrm>
            <a:off x="3344760" y="1352520"/>
            <a:ext cx="56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lanejamento Estraté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34"/>
          <p:cNvSpPr/>
          <p:nvPr/>
        </p:nvSpPr>
        <p:spPr>
          <a:xfrm>
            <a:off x="3348000" y="1809720"/>
            <a:ext cx="71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rcabouço Legal – Reg. de Limpeza Urb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Text Box 35"/>
          <p:cNvSpPr/>
          <p:nvPr/>
        </p:nvSpPr>
        <p:spPr>
          <a:xfrm>
            <a:off x="3340080" y="2290680"/>
            <a:ext cx="55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Jurídica, Administrativa e Financ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Text Box 36"/>
          <p:cNvSpPr/>
          <p:nvPr/>
        </p:nvSpPr>
        <p:spPr>
          <a:xfrm>
            <a:off x="3344400" y="2679840"/>
            <a:ext cx="363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olítica de Recursos Huma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37"/>
          <p:cNvSpPr/>
          <p:nvPr/>
        </p:nvSpPr>
        <p:spPr>
          <a:xfrm>
            <a:off x="3354840" y="3049560"/>
            <a:ext cx="564408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Trabalho e Renda - Geração de emprego e re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                        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- Trabalho inform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                              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- Coleta Seletiv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38"/>
          <p:cNvSpPr/>
          <p:nvPr/>
        </p:nvSpPr>
        <p:spPr>
          <a:xfrm>
            <a:off x="3328920" y="6159600"/>
            <a:ext cx="581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erviço de Limpeza Urbana – Modelo Tecnoló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Text Box 39"/>
          <p:cNvSpPr/>
          <p:nvPr/>
        </p:nvSpPr>
        <p:spPr>
          <a:xfrm>
            <a:off x="3328920" y="4081320"/>
            <a:ext cx="549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de Comunicação e mobilização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Text Box 40"/>
          <p:cNvSpPr/>
          <p:nvPr/>
        </p:nvSpPr>
        <p:spPr>
          <a:xfrm>
            <a:off x="3301200" y="444960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de Fiscaliz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1" name="Object 41"/>
          <p:cNvGraphicFramePr/>
          <p:nvPr/>
        </p:nvGraphicFramePr>
        <p:xfrm>
          <a:off x="228600" y="4572000"/>
          <a:ext cx="865080" cy="186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Object 4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4572000"/>
                    <a:ext cx="86508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Text Box 42"/>
          <p:cNvSpPr/>
          <p:nvPr/>
        </p:nvSpPr>
        <p:spPr>
          <a:xfrm>
            <a:off x="0" y="3886200"/>
            <a:ext cx="1371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AutoShape 43"/>
          <p:cNvSpPr/>
          <p:nvPr/>
        </p:nvSpPr>
        <p:spPr>
          <a:xfrm>
            <a:off x="0" y="3500280"/>
            <a:ext cx="1447920" cy="1143000"/>
          </a:xfrm>
          <a:prstGeom prst="cloudCallout">
            <a:avLst>
              <a:gd name="adj1" fmla="val -328"/>
              <a:gd name="adj2" fmla="val 353194"/>
            </a:avLst>
          </a:prstGeom>
          <a:solidFill>
            <a:srgbClr val="0000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Text Box 44"/>
          <p:cNvSpPr/>
          <p:nvPr/>
        </p:nvSpPr>
        <p:spPr>
          <a:xfrm>
            <a:off x="139680" y="37530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66"/>
                </a:solidFill>
                <a:latin typeface="Times New Roman"/>
              </a:rPr>
              <a:t>GESTÃO 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0066"/>
                </a:solidFill>
                <a:latin typeface="Times New Roman"/>
              </a:rPr>
              <a:t>RSU ?????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Text Box 45"/>
          <p:cNvSpPr/>
          <p:nvPr/>
        </p:nvSpPr>
        <p:spPr>
          <a:xfrm>
            <a:off x="3332160" y="5784840"/>
            <a:ext cx="229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mbiente Urb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Text Box 46"/>
          <p:cNvSpPr/>
          <p:nvPr/>
        </p:nvSpPr>
        <p:spPr>
          <a:xfrm>
            <a:off x="3335400" y="4797360"/>
            <a:ext cx="139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duc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Text Box 47"/>
          <p:cNvSpPr/>
          <p:nvPr/>
        </p:nvSpPr>
        <p:spPr>
          <a:xfrm>
            <a:off x="3316320" y="5170320"/>
            <a:ext cx="5680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Times New Roman"/>
              </a:rPr>
              <a:t>.</a:t>
            </a:r>
            <a:r>
              <a:rPr b="1" lang="pt-BR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aúde Pública </a:t>
            </a:r>
            <a:r>
              <a:rPr b="1" lang="pt-BR" sz="2000" spc="-1" strike="noStrike">
                <a:solidFill>
                  <a:srgbClr val="ffff99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. Vig. Epidemi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. Controle de Vet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4"/>
          <p:cNvGraphicFramePr/>
          <p:nvPr/>
        </p:nvGraphicFramePr>
        <p:xfrm>
          <a:off x="1440" y="0"/>
          <a:ext cx="914112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0"/>
                    <a:ext cx="914112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AutoShape 5"/>
          <p:cNvSpPr/>
          <p:nvPr/>
        </p:nvSpPr>
        <p:spPr>
          <a:xfrm>
            <a:off x="900000" y="3141720"/>
            <a:ext cx="720720" cy="1297080"/>
          </a:xfrm>
          <a:custGeom>
            <a:avLst/>
            <a:gdLst>
              <a:gd name="textAreaLeft" fmla="*/ 96480 w 720720"/>
              <a:gd name="textAreaRight" fmla="*/ 624240 w 720720"/>
              <a:gd name="textAreaTop" fmla="*/ 226800 h 1297080"/>
              <a:gd name="textAreaBottom" fmla="*/ 94032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AutoShape 6"/>
          <p:cNvSpPr/>
          <p:nvPr/>
        </p:nvSpPr>
        <p:spPr>
          <a:xfrm>
            <a:off x="7812000" y="3213000"/>
            <a:ext cx="576360" cy="1584360"/>
          </a:xfrm>
          <a:custGeom>
            <a:avLst/>
            <a:gdLst>
              <a:gd name="textAreaLeft" fmla="*/ 77040 w 576360"/>
              <a:gd name="textAreaRight" fmla="*/ 499320 w 576360"/>
              <a:gd name="textAreaTop" fmla="*/ 277200 h 1584360"/>
              <a:gd name="textAreaBottom" fmla="*/ 114876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3995640" y="5229360"/>
            <a:ext cx="1366920" cy="433080"/>
          </a:xfrm>
          <a:custGeom>
            <a:avLst/>
            <a:gdLst>
              <a:gd name="textAreaLeft" fmla="*/ 239040 w 1366920"/>
              <a:gd name="textAreaRight" fmla="*/ 991080 w 1366920"/>
              <a:gd name="textAreaTop" fmla="*/ 57960 h 433080"/>
              <a:gd name="textAreaBottom" fmla="*/ 375120 h 43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AutoShape 8"/>
          <p:cNvSpPr/>
          <p:nvPr/>
        </p:nvSpPr>
        <p:spPr>
          <a:xfrm rot="2367600">
            <a:off x="2742840" y="1252080"/>
            <a:ext cx="503280" cy="1150920"/>
          </a:xfrm>
          <a:custGeom>
            <a:avLst/>
            <a:gdLst>
              <a:gd name="textAreaLeft" fmla="*/ 67320 w 503280"/>
              <a:gd name="textAreaRight" fmla="*/ 435960 w 503280"/>
              <a:gd name="textAreaTop" fmla="*/ 191160 h 1150920"/>
              <a:gd name="textAreaBottom" fmla="*/ 790560 h 115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178" stAng="-5400000" swAng="-5400000"/>
                <a:lnTo>
                  <a:pt x="0" y="11248"/>
                </a:lnTo>
                <a:arcTo wR="21600" hR="7178" stAng="10800000" swAng="-2593581"/>
                <a:lnTo>
                  <a:pt x="14400" y="21189"/>
                </a:lnTo>
                <a:lnTo>
                  <a:pt x="21600" y="16391"/>
                </a:lnTo>
                <a:lnTo>
                  <a:pt x="14400" y="10771"/>
                </a:lnTo>
                <a:lnTo>
                  <a:pt x="14400" y="13945"/>
                </a:lnTo>
                <a:arcTo wR="21600" hR="7178" stAng="8206419" swAng="2256924"/>
                <a:lnTo>
                  <a:pt x="886" y="9213"/>
                </a:lnTo>
                <a:arcTo wR="21600" hR="7178" stAng="-10463343" swAng="5063343"/>
                <a:close/>
              </a:path>
              <a:path fill="darkenLess" w="21600" h="21600">
                <a:moveTo>
                  <a:pt x="21600" y="0"/>
                </a:moveTo>
                <a:arcTo wR="21600" hR="7178" stAng="-5400000" swAng="-5400000"/>
                <a:lnTo>
                  <a:pt x="0" y="7178"/>
                </a:lnTo>
                <a:arcTo wR="21600" hR="7178" stAng="10800000" swAng="-336657"/>
                <a:lnTo>
                  <a:pt x="886" y="9213"/>
                </a:lnTo>
                <a:arcTo wR="21600" hR="7178" stAng="-10463343" swAng="5063343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AutoShape 9"/>
          <p:cNvSpPr/>
          <p:nvPr/>
        </p:nvSpPr>
        <p:spPr>
          <a:xfrm rot="12886800">
            <a:off x="6059160" y="1628640"/>
            <a:ext cx="1320840" cy="650880"/>
          </a:xfrm>
          <a:custGeom>
            <a:avLst/>
            <a:gdLst>
              <a:gd name="textAreaLeft" fmla="*/ 231120 w 1320840"/>
              <a:gd name="textAreaRight" fmla="*/ 957600 w 1320840"/>
              <a:gd name="textAreaTop" fmla="*/ 87120 h 650880"/>
              <a:gd name="textAreaBottom" fmla="*/ 563760 h 65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2138760" y="333360"/>
            <a:ext cx="5078880" cy="45972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9900"/>
                </a:solidFill>
                <a:latin typeface="Times New Roman"/>
              </a:rPr>
              <a:t>Gestão Integrada de Resíduos Sóli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495360" y="547200"/>
            <a:ext cx="86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ORMAS DE ADMINISTRAÇÃ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3"/>
          <p:cNvSpPr/>
          <p:nvPr/>
        </p:nvSpPr>
        <p:spPr>
          <a:xfrm>
            <a:off x="0" y="1773360"/>
            <a:ext cx="9144000" cy="45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 – PELO MUNICÍPI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iretamente pelo municíp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través de empresa pública específ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Através de empresa de economia mis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I – EXECUÇÃO INDIRETA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cess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rceiriz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sórcio intermunicip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Text Box 4"/>
          <p:cNvSpPr/>
          <p:nvPr/>
        </p:nvSpPr>
        <p:spPr>
          <a:xfrm>
            <a:off x="384120" y="333360"/>
            <a:ext cx="8569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ncess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Na concessão, a concessionária planeja, organiza, executa e coordena o serviço, </a:t>
            </a:r>
            <a:r>
              <a:rPr b="0" lang="pt-BR" sz="1800" spc="-1" strike="noStrike">
                <a:solidFill>
                  <a:srgbClr val="ff9900"/>
                </a:solidFill>
                <a:latin typeface="Arial"/>
              </a:rPr>
              <a:t>podendo inclusive terceirizar operações e arrecadar os pagamentos referentes à sua remuneração, diretamente junto ao usuário/beneficiário dos serviços.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 As concessões em geral são objeto de contratos a longo termo que possam garantir o retorno dos investimentos aplicados no sistema. Mas a grande dificuldade está nas poucas garantias que as concessionárias recebem quanto à arrecadação e o pagamento dos seus serviços e na fragilidade dos municípios em preparar os editais de concessão, conhecer custos e fiscalizar serviç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95280" y="3471840"/>
            <a:ext cx="8353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erceriz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A terceirização consolida o conceito próprio da administração pública, qual seja, de exercer as funções prioritárias de planejamento, coordenação e fiscalização, podendo deixar às empresas privadas a operação propriamente dita. É importante lembrar que a terceirização de serviços pode ser manifestada em diversas escalas, desde a contratação de empresas bem estruturadas com especialidade em determinado segmento operacional ­ tais como as operações nos aterros sanitários, até a contratação de microempresas ou trabalhadores autônomos, que possam promover, por exemplo, coleta com transporte de tração animal ou a operação manual de aterros de pequeno porte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468360" y="620640"/>
            <a:ext cx="813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nsórc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O consórcio caracteriza-se como um acordo entre municípios com o objetivo de alcançar metas comuns previamente estabelecidas. Para tanto, recursos ­ sejam humanos ou financeiros ­ dos municípios integrantes são reunidos sob a forma de um consórcio a fim de viabilizar a implantação de ação, programa ou projeto desejad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539640" y="35733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Quaisquer das alternativas ou de suas possíveis combinações, devem ser escolhidas com base no binômio </a:t>
            </a: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baixo custo-técnica ambiental correta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, sempre visando um sistema auto-sustentáve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495360" y="474120"/>
            <a:ext cx="86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ORMAS DE ADMINISTRAÇÃ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0" y="1628640"/>
            <a:ext cx="9144000" cy="25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II – Formas de Contrat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mpreitada Por Preço Global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mpreitada Por Preço Unitári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aref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250920" y="547200"/>
            <a:ext cx="864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ORMAS DE CONTRATAÇÃ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395280" y="1773360"/>
            <a:ext cx="845820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IPOS DE LICITAÇÃ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ENOR PREÇ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ELHOR TÉCN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ÉCNICA E PREÇ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nsultoria geralmente técnica e preç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ext Box 4"/>
          <p:cNvSpPr/>
          <p:nvPr/>
        </p:nvSpPr>
        <p:spPr>
          <a:xfrm>
            <a:off x="380880" y="257760"/>
            <a:ext cx="8077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ff"/>
                </a:solidFill>
                <a:latin typeface="Arial Black"/>
              </a:rPr>
              <a:t>3 R´s - REDUZIR, REUTILIZAR, RECICLAR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8" name="Object 5"/>
          <p:cNvGraphicFramePr/>
          <p:nvPr/>
        </p:nvGraphicFramePr>
        <p:xfrm>
          <a:off x="482760" y="1447920"/>
          <a:ext cx="8180280" cy="4876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1447920"/>
                    <a:ext cx="8180280" cy="487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ff"/>
                </a:solidFill>
                <a:latin typeface="Times New Roman"/>
              </a:rPr>
              <a:t>Hierarquia de ações da Gestão  de Resíduos Sólidos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0" y="38862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PRODUT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E PÓS-PRODUTO</a:t>
            </a:r>
            <a:r>
              <a:rPr b="1" lang="pt-BR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6781680" y="2895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Repensar</a:t>
            </a:r>
            <a:r>
              <a:rPr b="0" lang="pt-BR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Text Box 7"/>
          <p:cNvSpPr/>
          <p:nvPr/>
        </p:nvSpPr>
        <p:spPr>
          <a:xfrm>
            <a:off x="4572000" y="2895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Black"/>
              </a:rPr>
              <a:t>Reduzi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7238880" y="38098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Reeduc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5003640" y="3645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Black"/>
              </a:rPr>
              <a:t>Reutiliz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6934320" y="48769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Rever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6324480" y="58672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Revolucion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Text Box 12"/>
          <p:cNvSpPr/>
          <p:nvPr/>
        </p:nvSpPr>
        <p:spPr>
          <a:xfrm>
            <a:off x="5029200" y="44956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Black"/>
              </a:rPr>
              <a:t>Recicl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AutoShape 13"/>
          <p:cNvSpPr/>
          <p:nvPr/>
        </p:nvSpPr>
        <p:spPr>
          <a:xfrm>
            <a:off x="539640" y="1989000"/>
            <a:ext cx="6477120" cy="4572000"/>
          </a:xfrm>
          <a:custGeom>
            <a:avLst/>
            <a:gdLst>
              <a:gd name="textAreaLeft" fmla="*/ 948240 w 6477120"/>
              <a:gd name="textAreaRight" fmla="*/ 5528880 w 6477120"/>
              <a:gd name="textAreaTop" fmla="*/ 669240 h 4572000"/>
              <a:gd name="textAreaBottom" fmla="*/ 3902760 h 4572000"/>
            </a:gdLst>
            <a:ahLst/>
            <a:rect l="textAreaLeft" t="textAreaTop" r="textAreaRight" b="textAreaBottom"/>
            <a:pathLst>
              <a:path w="21600" h="21600">
                <a:moveTo>
                  <a:pt x="8502" y="13094"/>
                </a:moveTo>
                <a:cubicBezTo>
                  <a:pt x="9111" y="13704"/>
                  <a:pt x="9938" y="14047"/>
                  <a:pt x="10800" y="14047"/>
                </a:cubicBezTo>
                <a:cubicBezTo>
                  <a:pt x="12593" y="14047"/>
                  <a:pt x="14047" y="12593"/>
                  <a:pt x="14047" y="10800"/>
                </a:cubicBezTo>
                <a:cubicBezTo>
                  <a:pt x="14047" y="9006"/>
                  <a:pt x="12593" y="7553"/>
                  <a:pt x="10800" y="7553"/>
                </a:cubicBezTo>
                <a:cubicBezTo>
                  <a:pt x="9989" y="7552"/>
                  <a:pt x="9208" y="7856"/>
                  <a:pt x="8610" y="8402"/>
                </a:cubicBezTo>
                <a:lnTo>
                  <a:pt x="3516" y="2825"/>
                </a:lnTo>
                <a:cubicBezTo>
                  <a:pt x="5506" y="1007"/>
                  <a:pt x="810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7933" y="21600"/>
                  <a:pt x="5184" y="20460"/>
                  <a:pt x="3158" y="18431"/>
                </a:cubicBezTo>
                <a:lnTo>
                  <a:pt x="1247" y="20339"/>
                </a:lnTo>
                <a:lnTo>
                  <a:pt x="1253" y="11181"/>
                </a:lnTo>
                <a:lnTo>
                  <a:pt x="10412" y="11186"/>
                </a:lnTo>
                <a:lnTo>
                  <a:pt x="8502" y="13094"/>
                </a:lnTo>
                <a:close/>
              </a:path>
            </a:pathLst>
          </a:cu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Text Box 14"/>
          <p:cNvSpPr/>
          <p:nvPr/>
        </p:nvSpPr>
        <p:spPr>
          <a:xfrm>
            <a:off x="3352680" y="548640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Black"/>
              </a:rPr>
              <a:t>Tra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Text Box 15"/>
          <p:cNvSpPr/>
          <p:nvPr/>
        </p:nvSpPr>
        <p:spPr>
          <a:xfrm>
            <a:off x="1371600" y="51814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 Black"/>
              </a:rPr>
              <a:t>Disp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Text Box 16"/>
          <p:cNvSpPr/>
          <p:nvPr/>
        </p:nvSpPr>
        <p:spPr>
          <a:xfrm>
            <a:off x="2362320" y="24382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Black"/>
              </a:rPr>
              <a:t>MINIMIZ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AutoShape 17"/>
          <p:cNvSpPr/>
          <p:nvPr/>
        </p:nvSpPr>
        <p:spPr>
          <a:xfrm>
            <a:off x="539640" y="1916280"/>
            <a:ext cx="6477120" cy="4572000"/>
          </a:xfrm>
          <a:custGeom>
            <a:avLst/>
            <a:gdLst>
              <a:gd name="textAreaLeft" fmla="*/ 948240 w 6477120"/>
              <a:gd name="textAreaRight" fmla="*/ 5528880 w 6477120"/>
              <a:gd name="textAreaTop" fmla="*/ 669240 h 4572000"/>
              <a:gd name="textAreaBottom" fmla="*/ 3902760 h 4572000"/>
            </a:gdLst>
            <a:ahLst/>
            <a:rect l="textAreaLeft" t="textAreaTop" r="textAreaRight" b="textAreaBottom"/>
            <a:pathLst>
              <a:path w="21600" h="21600">
                <a:moveTo>
                  <a:pt x="8502" y="13094"/>
                </a:moveTo>
                <a:cubicBezTo>
                  <a:pt x="9111" y="13704"/>
                  <a:pt x="9938" y="14047"/>
                  <a:pt x="10800" y="14047"/>
                </a:cubicBezTo>
                <a:cubicBezTo>
                  <a:pt x="12593" y="14047"/>
                  <a:pt x="14047" y="12593"/>
                  <a:pt x="14047" y="10800"/>
                </a:cubicBezTo>
                <a:cubicBezTo>
                  <a:pt x="14047" y="9006"/>
                  <a:pt x="12593" y="7553"/>
                  <a:pt x="10800" y="7553"/>
                </a:cubicBezTo>
                <a:cubicBezTo>
                  <a:pt x="9989" y="7552"/>
                  <a:pt x="9208" y="7856"/>
                  <a:pt x="8610" y="8402"/>
                </a:cubicBezTo>
                <a:lnTo>
                  <a:pt x="3516" y="2825"/>
                </a:lnTo>
                <a:cubicBezTo>
                  <a:pt x="5506" y="1007"/>
                  <a:pt x="8104" y="-1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7933" y="21600"/>
                  <a:pt x="5184" y="20460"/>
                  <a:pt x="3158" y="18431"/>
                </a:cubicBezTo>
                <a:lnTo>
                  <a:pt x="1247" y="20339"/>
                </a:lnTo>
                <a:lnTo>
                  <a:pt x="1253" y="11181"/>
                </a:lnTo>
                <a:lnTo>
                  <a:pt x="10412" y="11186"/>
                </a:lnTo>
                <a:lnTo>
                  <a:pt x="8502" y="13094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Text Box 4"/>
          <p:cNvSpPr/>
          <p:nvPr/>
        </p:nvSpPr>
        <p:spPr>
          <a:xfrm>
            <a:off x="380880" y="257760"/>
            <a:ext cx="8077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ff"/>
                </a:solidFill>
                <a:latin typeface="Arial"/>
              </a:rPr>
              <a:t>REMUNERAÇÃO DO SERVIÇ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Rectangle 5"/>
          <p:cNvSpPr/>
          <p:nvPr/>
        </p:nvSpPr>
        <p:spPr>
          <a:xfrm>
            <a:off x="258840" y="1039680"/>
            <a:ext cx="8675640" cy="499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 – TAX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É um tributo resultante da oferta de um serviço pelo poder público, de pagamento obrigatório, que o contribuinte o utilize ou não, só pode ser criada mediante lei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I – TARIF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eço cobrado por um serviço prestado de forma facultativa. A tarifa somente é devida quando da efetiva utilização do serviço pelo usuário, serviço este que deverá ser bem definido e mensurado. O pagamento é obrigatório somente para usuários efe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324000" y="114480"/>
            <a:ext cx="856908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VAMOS REFLETIR UM POUCO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você faz com os resíduos que produz diariamente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acontece com o lixo de cada di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o poder público faz para gerenciar estes resíduo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acontece quando tomamos atitudes incorretas no descarte de resíduo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Qual a sua participação no modelo de gestão implantado em seu município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acontece nos lixõ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Por que há pessoas morando nos lixõ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Para onde vão os recursos gerados pela coleta seletiva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 que você pode fazer para muar este cenário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4"/>
          <p:cNvSpPr/>
          <p:nvPr/>
        </p:nvSpPr>
        <p:spPr>
          <a:xfrm>
            <a:off x="395280" y="332280"/>
            <a:ext cx="874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ff"/>
                </a:solidFill>
                <a:latin typeface="Arial"/>
              </a:rPr>
              <a:t>REMUNERAÇÃO DO SERVIÇO -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COMO COBRAR ?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5"/>
          <p:cNvSpPr/>
          <p:nvPr/>
        </p:nvSpPr>
        <p:spPr>
          <a:xfrm>
            <a:off x="468360" y="1413000"/>
            <a:ext cx="8585280" cy="504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 – Fortaleza (tarifa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tarifa foi baseada no volume de lixo de zonas da cidade (25 zonas), as faixas de consumo de energia e a área do imóvel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II – São Paulo (taxa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Baseou-se em uma declaração voluntária da quantidade de lixo gerada pelo usuá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8" name=""/>
          <p:cNvGraphicFramePr/>
          <p:nvPr/>
        </p:nvGraphicFramePr>
        <p:xfrm>
          <a:off x="611280" y="1989000"/>
          <a:ext cx="7993080" cy="3840480"/>
        </p:xfrm>
        <a:graphic>
          <a:graphicData uri="http://schemas.openxmlformats.org/drawingml/2006/table">
            <a:tbl>
              <a:tblPr/>
              <a:tblGrid>
                <a:gridCol w="3108240"/>
                <a:gridCol w="2220840"/>
                <a:gridCol w="2664000"/>
              </a:tblGrid>
              <a:tr h="368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Faix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eração por di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Valor por mês (R$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Residenc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Comerc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té 10 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,1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 a 20 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,2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20 a 30 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,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8,4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0 a 60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6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36,8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Mais de 60 litros (60 a 100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1,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61,3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00 a 200 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22,7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ima de 200 litr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Grande gerador – necessita contratar empresa cadastrada pela prefeitura e arcar com os custo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9" name="Text Box 133"/>
          <p:cNvSpPr/>
          <p:nvPr/>
        </p:nvSpPr>
        <p:spPr>
          <a:xfrm>
            <a:off x="0" y="112464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aixa e Valores para cobrança dos serviços de coleta de resíduos urbanos na cidade de São Paulo - 200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Text Box 134"/>
          <p:cNvSpPr/>
          <p:nvPr/>
        </p:nvSpPr>
        <p:spPr>
          <a:xfrm>
            <a:off x="395280" y="332280"/>
            <a:ext cx="8077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ff"/>
                </a:solidFill>
                <a:latin typeface="Arial Black"/>
              </a:rPr>
              <a:t>REMUNERAÇÃO DO SERVIÇO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4"/>
          <p:cNvSpPr/>
          <p:nvPr/>
        </p:nvSpPr>
        <p:spPr>
          <a:xfrm>
            <a:off x="0" y="1557360"/>
            <a:ext cx="9144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rt. 103 - A Taxa de Limpeza Pública - TLP tem como fato gerador a utilização efetiva ou potencial dos serviços municipais de coleta, remoção e destinação de lixo, prestados ao contribuinte ou postos à sua disposiç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rt. 104 - A taxa é calculada com base na 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UFIR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, de acordo com as seguintes fórmula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 - para os imóveis edificad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TLP = Ui x 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R$ 27,28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x Ac (onde: Ui = fator de utilização do imóvel, Ac = área construída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II - para imóveis não edificados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TLP = At x 0,03 x R$ 27,28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onde: At = área do terren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§ 1º - Na hipótese de utilização diversificada do imóvel, é aplicado o maior fator de utilização do imóvel (Ui), no cálculo da TLP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§ 2º - A taxa é cobrada em dobro para os imóveis não edificados e desprovidos de mur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250920" y="33336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III – Natal (taxa,cobrada em conjunto com o IPTU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Baseada no tipo de tipo de uso e área do imó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4"/>
          <p:cNvSpPr/>
          <p:nvPr/>
        </p:nvSpPr>
        <p:spPr>
          <a:xfrm>
            <a:off x="684360" y="1185840"/>
            <a:ext cx="8076960" cy="41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4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ff"/>
                </a:solidFill>
                <a:latin typeface="Arial Black"/>
              </a:rPr>
              <a:t>CAMINHOS DA POLÍTICA NACIONAL DE RESÍDUOS SÓLIDO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ffffff"/>
                </a:solidFill>
                <a:latin typeface="Arial"/>
              </a:rPr>
              <a:t>ADAPTADO DA APRESENTAÇÃO DE MARCO ANTONIO BOZINO DO MM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644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HISTÓRICO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2760" y="1454040"/>
            <a:ext cx="8534520" cy="57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 algn="just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Final da década de 80 -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rimeiras iniciativas legislativas para definição de diretrizes para resíduo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95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1 -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presentado o PL 203 e, posteriormente, apensados cerca de 70 PL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1999 -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elho do CONAMA aprova Proposição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1 -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Criada na Câmara dos Deputados a Comissão Especial de  Política Nacional de Resíduos”, tendo o Dep. Emerson Kapaz - Substitutivo Global da PL 203/91 e seus apensos. Comissão extinta pelo encerramento da legisl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4 -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QA/MMA reinicia as discussões internas com a                 Participação das diversas Secretarias do MMA, PNMA, PNMA,  IBAMA e GTI de Saneamento Ambiental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Agosto de 2004 -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AMA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ealiza o Seminário: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“ Contribuições à Proposição CONAMA - Política Nacional de Resíduos Sólidos”com a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ticipação da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EF, ANVISA, MTE, MDS, MCidades, IBAMA, ANA, Petrobrás, Câmara dos Deputados, OEMA’s,ABRS, ABEMA, ABIPET, ABRE, ABRELPE, ABPL, ASCAMAR, CNI, CNC, FIESP/CIESP, CEMPRE, universidades, empresas de consultoria,  prefeituras municipais e setor produtiv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75000"/>
              </a:lnSpc>
              <a:spcBef>
                <a:spcPts val="9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2005 - Criado o GT-GAU/SQA de Consolidação para a PNRS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             Sistematização das contribuições do Seminário </a:t>
            </a: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ONAM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5181480" y="5629320"/>
            <a:ext cx="2295720" cy="847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3" descr=""/>
          <p:cNvPicPr/>
          <p:nvPr/>
        </p:nvPicPr>
        <p:blipFill>
          <a:blip r:embed="rId2"/>
          <a:stretch/>
        </p:blipFill>
        <p:spPr>
          <a:xfrm>
            <a:off x="3581280" y="3008160"/>
            <a:ext cx="1868760" cy="14115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"/>
          <p:cNvPicPr/>
          <p:nvPr/>
        </p:nvPicPr>
        <p:blipFill>
          <a:blip r:embed="rId3"/>
          <a:stretch/>
        </p:blipFill>
        <p:spPr>
          <a:xfrm>
            <a:off x="1057320" y="4943520"/>
            <a:ext cx="2371680" cy="9237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"/>
          <p:cNvPicPr/>
          <p:nvPr/>
        </p:nvPicPr>
        <p:blipFill>
          <a:blip r:embed="rId4"/>
          <a:stretch/>
        </p:blipFill>
        <p:spPr>
          <a:xfrm>
            <a:off x="5867280" y="3876840"/>
            <a:ext cx="2219400" cy="9237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5"/>
          <a:stretch/>
        </p:blipFill>
        <p:spPr>
          <a:xfrm>
            <a:off x="752400" y="3571920"/>
            <a:ext cx="1838520" cy="1000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"/>
          <p:cNvPicPr/>
          <p:nvPr/>
        </p:nvPicPr>
        <p:blipFill>
          <a:blip r:embed="rId6"/>
          <a:stretch/>
        </p:blipFill>
        <p:spPr>
          <a:xfrm>
            <a:off x="600120" y="1971720"/>
            <a:ext cx="2448000" cy="1000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8" descr=""/>
          <p:cNvPicPr/>
          <p:nvPr/>
        </p:nvPicPr>
        <p:blipFill>
          <a:blip r:embed="rId7"/>
          <a:stretch/>
        </p:blipFill>
        <p:spPr>
          <a:xfrm>
            <a:off x="6095880" y="2048040"/>
            <a:ext cx="2219400" cy="9237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9" descr=""/>
          <p:cNvPicPr/>
          <p:nvPr/>
        </p:nvPicPr>
        <p:blipFill>
          <a:blip r:embed="rId8"/>
          <a:stretch/>
        </p:blipFill>
        <p:spPr>
          <a:xfrm>
            <a:off x="3343320" y="1133640"/>
            <a:ext cx="2066760" cy="84744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440" y="298080"/>
            <a:ext cx="776916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FONTES DE CONSULTA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66360" y="1562040"/>
            <a:ext cx="776916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VENÇÕES                                                         PROJE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ACIONAIS                                                         DE LE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OST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AS                           CONA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ÉCNICAS                                                           LITER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ÉCN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RIBUIÇÕ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 PNRS</a:t>
            </a: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                                                          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4495680" y="2057400"/>
            <a:ext cx="18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Line 13"/>
          <p:cNvSpPr/>
          <p:nvPr/>
        </p:nvSpPr>
        <p:spPr>
          <a:xfrm flipH="1">
            <a:off x="5698800" y="3048120"/>
            <a:ext cx="3366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Line 14"/>
          <p:cNvSpPr/>
          <p:nvPr/>
        </p:nvSpPr>
        <p:spPr>
          <a:xfrm>
            <a:off x="3124080" y="2971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Line 15"/>
          <p:cNvSpPr/>
          <p:nvPr/>
        </p:nvSpPr>
        <p:spPr>
          <a:xfrm>
            <a:off x="2895480" y="396252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Line 16"/>
          <p:cNvSpPr/>
          <p:nvPr/>
        </p:nvSpPr>
        <p:spPr>
          <a:xfrm flipV="1">
            <a:off x="3505320" y="4556160"/>
            <a:ext cx="228600" cy="412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Line 17"/>
          <p:cNvSpPr/>
          <p:nvPr/>
        </p:nvSpPr>
        <p:spPr>
          <a:xfrm flipH="1">
            <a:off x="5470200" y="4114800"/>
            <a:ext cx="260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Line 18"/>
          <p:cNvSpPr/>
          <p:nvPr/>
        </p:nvSpPr>
        <p:spPr>
          <a:xfrm>
            <a:off x="4952880" y="4648320"/>
            <a:ext cx="38124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Text Box 19"/>
          <p:cNvSpPr/>
          <p:nvPr/>
        </p:nvSpPr>
        <p:spPr>
          <a:xfrm>
            <a:off x="7467480" y="6583320"/>
            <a:ext cx="167652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808000"/>
                </a:solidFill>
                <a:latin typeface="Times New Roman"/>
              </a:rPr>
              <a:t>GAU/PGT/SQA/MM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11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AutoShape 117"/>
          <p:cNvSpPr/>
          <p:nvPr/>
        </p:nvSpPr>
        <p:spPr>
          <a:xfrm>
            <a:off x="7238880" y="5715000"/>
            <a:ext cx="1067040" cy="380880"/>
          </a:xfrm>
          <a:prstGeom prst="roundRect">
            <a:avLst>
              <a:gd name="adj" fmla="val 41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AutoShape 118"/>
          <p:cNvSpPr/>
          <p:nvPr/>
        </p:nvSpPr>
        <p:spPr>
          <a:xfrm>
            <a:off x="3352680" y="5715000"/>
            <a:ext cx="2667240" cy="380880"/>
          </a:xfrm>
          <a:prstGeom prst="roundRect">
            <a:avLst>
              <a:gd name="adj" fmla="val 41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AutoShape 119"/>
          <p:cNvSpPr/>
          <p:nvPr/>
        </p:nvSpPr>
        <p:spPr>
          <a:xfrm>
            <a:off x="5105520" y="4876920"/>
            <a:ext cx="3200400" cy="380880"/>
          </a:xfrm>
          <a:prstGeom prst="roundRect">
            <a:avLst>
              <a:gd name="adj" fmla="val 41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AutoShape 120"/>
          <p:cNvSpPr/>
          <p:nvPr/>
        </p:nvSpPr>
        <p:spPr>
          <a:xfrm>
            <a:off x="2438280" y="4876920"/>
            <a:ext cx="1905120" cy="380880"/>
          </a:xfrm>
          <a:prstGeom prst="roundRect">
            <a:avLst>
              <a:gd name="adj" fmla="val 41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AutoShape 121"/>
          <p:cNvSpPr/>
          <p:nvPr/>
        </p:nvSpPr>
        <p:spPr>
          <a:xfrm>
            <a:off x="838080" y="4038480"/>
            <a:ext cx="3962520" cy="457200"/>
          </a:xfrm>
          <a:prstGeom prst="roundRect">
            <a:avLst>
              <a:gd name="adj" fmla="val 34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AutoShape 122"/>
          <p:cNvSpPr/>
          <p:nvPr/>
        </p:nvSpPr>
        <p:spPr>
          <a:xfrm>
            <a:off x="6553080" y="2286000"/>
            <a:ext cx="1752840" cy="914400"/>
          </a:xfrm>
          <a:prstGeom prst="roundRect">
            <a:avLst>
              <a:gd name="adj" fmla="val 17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AutoShape 123"/>
          <p:cNvSpPr/>
          <p:nvPr/>
        </p:nvSpPr>
        <p:spPr>
          <a:xfrm>
            <a:off x="4952880" y="2286000"/>
            <a:ext cx="1143000" cy="914400"/>
          </a:xfrm>
          <a:prstGeom prst="roundRect">
            <a:avLst>
              <a:gd name="adj" fmla="val 17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AutoShape 124"/>
          <p:cNvSpPr/>
          <p:nvPr/>
        </p:nvSpPr>
        <p:spPr>
          <a:xfrm>
            <a:off x="3505320" y="2286000"/>
            <a:ext cx="1143000" cy="914400"/>
          </a:xfrm>
          <a:prstGeom prst="roundRect">
            <a:avLst>
              <a:gd name="adj" fmla="val 17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AutoShape 125"/>
          <p:cNvSpPr/>
          <p:nvPr/>
        </p:nvSpPr>
        <p:spPr>
          <a:xfrm>
            <a:off x="2057400" y="2286000"/>
            <a:ext cx="1143000" cy="914400"/>
          </a:xfrm>
          <a:prstGeom prst="roundRect">
            <a:avLst>
              <a:gd name="adj" fmla="val 17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AutoShape 126"/>
          <p:cNvSpPr/>
          <p:nvPr/>
        </p:nvSpPr>
        <p:spPr>
          <a:xfrm>
            <a:off x="533520" y="2286000"/>
            <a:ext cx="1295280" cy="914400"/>
          </a:xfrm>
          <a:prstGeom prst="roundRect">
            <a:avLst>
              <a:gd name="adj" fmla="val 171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AutoShape 127"/>
          <p:cNvSpPr/>
          <p:nvPr/>
        </p:nvSpPr>
        <p:spPr>
          <a:xfrm>
            <a:off x="3962520" y="1143000"/>
            <a:ext cx="799920" cy="457200"/>
          </a:xfrm>
          <a:prstGeom prst="roundRect">
            <a:avLst>
              <a:gd name="adj" fmla="val 34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Rectangle 128"/>
          <p:cNvSpPr/>
          <p:nvPr/>
        </p:nvSpPr>
        <p:spPr>
          <a:xfrm>
            <a:off x="685800" y="93600"/>
            <a:ext cx="777240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NTEGRAÇÃO DAS AÇÕ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Rectangle 129"/>
          <p:cNvSpPr/>
          <p:nvPr/>
        </p:nvSpPr>
        <p:spPr>
          <a:xfrm>
            <a:off x="685800" y="1219320"/>
            <a:ext cx="777240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24000" indent="-324000" algn="just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STÉRIOS                                                                                                              REPRESENTAÇÕ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 ÓRGÃOS               ESTADOS                  DF                    MUNICÍPIOS                             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DERAIS                                                                                                                         SOCIEDAD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451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ENAR FORMAS DE IMPLEMENTA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ICULAR AÇÕES                     GARANTIR ACESSO A INFORMAÇÃ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ELECER PROGRAMAS                                  POLÍTIC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 algn="just">
              <a:lnSpc>
                <a:spcPct val="95000"/>
              </a:lnSpc>
              <a:spcBef>
                <a:spcPts val="349"/>
              </a:spcBef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Line 130"/>
          <p:cNvSpPr/>
          <p:nvPr/>
        </p:nvSpPr>
        <p:spPr>
          <a:xfrm>
            <a:off x="4343400" y="1600200"/>
            <a:ext cx="144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Line 131"/>
          <p:cNvSpPr/>
          <p:nvPr/>
        </p:nvSpPr>
        <p:spPr>
          <a:xfrm>
            <a:off x="4343400" y="1828800"/>
            <a:ext cx="312408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Line 132"/>
          <p:cNvSpPr/>
          <p:nvPr/>
        </p:nvSpPr>
        <p:spPr>
          <a:xfrm>
            <a:off x="7467480" y="182880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Line 133"/>
          <p:cNvSpPr/>
          <p:nvPr/>
        </p:nvSpPr>
        <p:spPr>
          <a:xfrm>
            <a:off x="5486400" y="18288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Line 134"/>
          <p:cNvSpPr/>
          <p:nvPr/>
        </p:nvSpPr>
        <p:spPr>
          <a:xfrm>
            <a:off x="4343400" y="18288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Line 135"/>
          <p:cNvSpPr/>
          <p:nvPr/>
        </p:nvSpPr>
        <p:spPr>
          <a:xfrm flipH="1">
            <a:off x="1203480" y="1828800"/>
            <a:ext cx="3155760" cy="144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Line 136"/>
          <p:cNvSpPr/>
          <p:nvPr/>
        </p:nvSpPr>
        <p:spPr>
          <a:xfrm>
            <a:off x="1219320" y="182880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Line 137"/>
          <p:cNvSpPr/>
          <p:nvPr/>
        </p:nvSpPr>
        <p:spPr>
          <a:xfrm>
            <a:off x="2666880" y="1828800"/>
            <a:ext cx="180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Line 138"/>
          <p:cNvSpPr/>
          <p:nvPr/>
        </p:nvSpPr>
        <p:spPr>
          <a:xfrm>
            <a:off x="1828800" y="2743200"/>
            <a:ext cx="2286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Line 139"/>
          <p:cNvSpPr/>
          <p:nvPr/>
        </p:nvSpPr>
        <p:spPr>
          <a:xfrm>
            <a:off x="4648320" y="2743200"/>
            <a:ext cx="3045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Line 140"/>
          <p:cNvSpPr/>
          <p:nvPr/>
        </p:nvSpPr>
        <p:spPr>
          <a:xfrm>
            <a:off x="6095880" y="2743200"/>
            <a:ext cx="457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Line 141"/>
          <p:cNvSpPr/>
          <p:nvPr/>
        </p:nvSpPr>
        <p:spPr>
          <a:xfrm>
            <a:off x="3200400" y="2743200"/>
            <a:ext cx="3049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Line 142"/>
          <p:cNvSpPr/>
          <p:nvPr/>
        </p:nvSpPr>
        <p:spPr>
          <a:xfrm>
            <a:off x="4419720" y="3200400"/>
            <a:ext cx="144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Line 143"/>
          <p:cNvSpPr/>
          <p:nvPr/>
        </p:nvSpPr>
        <p:spPr>
          <a:xfrm flipH="1">
            <a:off x="2727000" y="3505320"/>
            <a:ext cx="170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Line 144"/>
          <p:cNvSpPr/>
          <p:nvPr/>
        </p:nvSpPr>
        <p:spPr>
          <a:xfrm>
            <a:off x="2743200" y="350532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Line 145"/>
          <p:cNvSpPr/>
          <p:nvPr/>
        </p:nvSpPr>
        <p:spPr>
          <a:xfrm>
            <a:off x="3276720" y="4495680"/>
            <a:ext cx="14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Line 146"/>
          <p:cNvSpPr/>
          <p:nvPr/>
        </p:nvSpPr>
        <p:spPr>
          <a:xfrm>
            <a:off x="4038480" y="52578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Line 147"/>
          <p:cNvSpPr/>
          <p:nvPr/>
        </p:nvSpPr>
        <p:spPr>
          <a:xfrm>
            <a:off x="6019920" y="5867280"/>
            <a:ext cx="11430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Line 148"/>
          <p:cNvSpPr/>
          <p:nvPr/>
        </p:nvSpPr>
        <p:spPr>
          <a:xfrm flipV="1">
            <a:off x="7772400" y="5241960"/>
            <a:ext cx="1440" cy="48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Line 149"/>
          <p:cNvSpPr/>
          <p:nvPr/>
        </p:nvSpPr>
        <p:spPr>
          <a:xfrm flipV="1">
            <a:off x="6781680" y="3489480"/>
            <a:ext cx="1800" cy="14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Line 150"/>
          <p:cNvSpPr/>
          <p:nvPr/>
        </p:nvSpPr>
        <p:spPr>
          <a:xfrm flipH="1">
            <a:off x="5394240" y="3505320"/>
            <a:ext cx="1403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Line 151"/>
          <p:cNvSpPr/>
          <p:nvPr/>
        </p:nvSpPr>
        <p:spPr>
          <a:xfrm flipV="1">
            <a:off x="4419720" y="1584000"/>
            <a:ext cx="1440" cy="71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Line 152"/>
          <p:cNvSpPr/>
          <p:nvPr/>
        </p:nvSpPr>
        <p:spPr>
          <a:xfrm flipV="1">
            <a:off x="4495680" y="3184200"/>
            <a:ext cx="18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Line 153"/>
          <p:cNvSpPr/>
          <p:nvPr/>
        </p:nvSpPr>
        <p:spPr>
          <a:xfrm flipH="1">
            <a:off x="4479840" y="3505320"/>
            <a:ext cx="1022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2" name="Group 154"/>
          <p:cNvGrpSpPr/>
          <p:nvPr/>
        </p:nvGrpSpPr>
        <p:grpSpPr>
          <a:xfrm>
            <a:off x="6472440" y="6450120"/>
            <a:ext cx="2671560" cy="385560"/>
            <a:chOff x="6472440" y="6450120"/>
            <a:chExt cx="2671560" cy="385560"/>
          </a:xfrm>
        </p:grpSpPr>
        <p:sp>
          <p:nvSpPr>
            <p:cNvPr id="273" name="AutoShape 155"/>
            <p:cNvSpPr/>
            <p:nvPr/>
          </p:nvSpPr>
          <p:spPr>
            <a:xfrm>
              <a:off x="6477120" y="6451560"/>
              <a:ext cx="2654280" cy="38412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4" name="Group 156"/>
            <p:cNvGrpSpPr/>
            <p:nvPr/>
          </p:nvGrpSpPr>
          <p:grpSpPr>
            <a:xfrm>
              <a:off x="6472440" y="6450120"/>
              <a:ext cx="2671560" cy="384120"/>
              <a:chOff x="6472440" y="6450120"/>
              <a:chExt cx="2671560" cy="384120"/>
            </a:xfrm>
          </p:grpSpPr>
          <p:sp>
            <p:nvSpPr>
              <p:cNvPr id="275" name="AutoShape 157"/>
              <p:cNvSpPr/>
              <p:nvPr/>
            </p:nvSpPr>
            <p:spPr>
              <a:xfrm>
                <a:off x="6477120" y="6451560"/>
                <a:ext cx="2643120" cy="37296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76" name="Group 158"/>
              <p:cNvGrpSpPr/>
              <p:nvPr/>
            </p:nvGrpSpPr>
            <p:grpSpPr>
              <a:xfrm>
                <a:off x="6472440" y="6450120"/>
                <a:ext cx="2671560" cy="384120"/>
                <a:chOff x="6472440" y="6450120"/>
                <a:chExt cx="2671560" cy="384120"/>
              </a:xfrm>
            </p:grpSpPr>
            <p:sp>
              <p:nvSpPr>
                <p:cNvPr id="277" name="AutoShape 159"/>
                <p:cNvSpPr/>
                <p:nvPr/>
              </p:nvSpPr>
              <p:spPr>
                <a:xfrm>
                  <a:off x="6477120" y="6451560"/>
                  <a:ext cx="2633400" cy="36504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8" name="Group 160"/>
                <p:cNvGrpSpPr/>
                <p:nvPr/>
              </p:nvGrpSpPr>
              <p:grpSpPr>
                <a:xfrm>
                  <a:off x="6472440" y="6450120"/>
                  <a:ext cx="2671560" cy="384120"/>
                  <a:chOff x="6472440" y="6450120"/>
                  <a:chExt cx="2671560" cy="384120"/>
                </a:xfrm>
              </p:grpSpPr>
              <p:sp>
                <p:nvSpPr>
                  <p:cNvPr id="279" name="AutoShape 161"/>
                  <p:cNvSpPr/>
                  <p:nvPr/>
                </p:nvSpPr>
                <p:spPr>
                  <a:xfrm>
                    <a:off x="6477120" y="6451560"/>
                    <a:ext cx="2625480" cy="357120"/>
                  </a:xfrm>
                  <a:prstGeom prst="roundRect">
                    <a:avLst>
                      <a:gd name="adj" fmla="val 44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80" name="Group 162"/>
                  <p:cNvGrpSpPr/>
                  <p:nvPr/>
                </p:nvGrpSpPr>
                <p:grpSpPr>
                  <a:xfrm>
                    <a:off x="6472440" y="6450120"/>
                    <a:ext cx="2671560" cy="384120"/>
                    <a:chOff x="6472440" y="6450120"/>
                    <a:chExt cx="2671560" cy="384120"/>
                  </a:xfrm>
                </p:grpSpPr>
                <p:sp>
                  <p:nvSpPr>
                    <p:cNvPr id="281" name="AutoShape 163"/>
                    <p:cNvSpPr/>
                    <p:nvPr/>
                  </p:nvSpPr>
                  <p:spPr>
                    <a:xfrm>
                      <a:off x="6477120" y="6451560"/>
                      <a:ext cx="2619360" cy="351000"/>
                    </a:xfrm>
                    <a:prstGeom prst="roundRect">
                      <a:avLst>
                        <a:gd name="adj" fmla="val 45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82" name="Group 164"/>
                    <p:cNvGrpSpPr/>
                    <p:nvPr/>
                  </p:nvGrpSpPr>
                  <p:grpSpPr>
                    <a:xfrm>
                      <a:off x="6472440" y="6450120"/>
                      <a:ext cx="2671560" cy="384120"/>
                      <a:chOff x="6472440" y="6450120"/>
                      <a:chExt cx="2671560" cy="384120"/>
                    </a:xfrm>
                  </p:grpSpPr>
                  <p:sp>
                    <p:nvSpPr>
                      <p:cNvPr id="283" name="AutoShape 165"/>
                      <p:cNvSpPr/>
                      <p:nvPr/>
                    </p:nvSpPr>
                    <p:spPr>
                      <a:xfrm>
                        <a:off x="6477120" y="6451560"/>
                        <a:ext cx="2612880" cy="34452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84" name="Group 166"/>
                      <p:cNvGrpSpPr/>
                      <p:nvPr/>
                    </p:nvGrpSpPr>
                    <p:grpSpPr>
                      <a:xfrm>
                        <a:off x="6472440" y="6450120"/>
                        <a:ext cx="2671560" cy="384120"/>
                        <a:chOff x="6472440" y="6450120"/>
                        <a:chExt cx="2671560" cy="384120"/>
                      </a:xfrm>
                    </p:grpSpPr>
                    <p:sp>
                      <p:nvSpPr>
                        <p:cNvPr id="285" name="AutoShape 167"/>
                        <p:cNvSpPr/>
                        <p:nvPr/>
                      </p:nvSpPr>
                      <p:spPr>
                        <a:xfrm>
                          <a:off x="6477120" y="6451560"/>
                          <a:ext cx="2609640" cy="33984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86" name="Group 168"/>
                        <p:cNvGrpSpPr/>
                        <p:nvPr/>
                      </p:nvGrpSpPr>
                      <p:grpSpPr>
                        <a:xfrm>
                          <a:off x="6472440" y="6450120"/>
                          <a:ext cx="2671560" cy="384120"/>
                          <a:chOff x="6472440" y="6450120"/>
                          <a:chExt cx="2671560" cy="384120"/>
                        </a:xfrm>
                      </p:grpSpPr>
                      <p:sp>
                        <p:nvSpPr>
                          <p:cNvPr id="287" name="AutoShape 169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608200" cy="338040"/>
                          </a:xfrm>
                          <a:prstGeom prst="roundRect">
                            <a:avLst>
                              <a:gd name="adj" fmla="val 468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288" name="Group 170"/>
                          <p:cNvGrpSpPr/>
                          <p:nvPr/>
                        </p:nvGrpSpPr>
                        <p:grpSpPr>
                          <a:xfrm>
                            <a:off x="6472440" y="6450120"/>
                            <a:ext cx="2671560" cy="384120"/>
                            <a:chOff x="6472440" y="6450120"/>
                            <a:chExt cx="2671560" cy="384120"/>
                          </a:xfrm>
                        </p:grpSpPr>
                        <p:sp>
                          <p:nvSpPr>
                            <p:cNvPr id="289" name="AutoShape 171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606400" cy="338040"/>
                            </a:xfrm>
                            <a:prstGeom prst="roundRect">
                              <a:avLst>
                                <a:gd name="adj" fmla="val 468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290" name="AutoShape 172"/>
                            <p:cNvSpPr/>
                            <p:nvPr/>
                          </p:nvSpPr>
                          <p:spPr>
                            <a:xfrm>
                              <a:off x="6472440" y="6450120"/>
                              <a:ext cx="2671560" cy="384120"/>
                            </a:xfrm>
                            <a:prstGeom prst="roundRect">
                              <a:avLst>
                                <a:gd name="adj" fmla="val 468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500040"/>
            <a:ext cx="776592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PRINCIPAIS CONCEITOS ADOTADOS 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667800" y="1680840"/>
            <a:ext cx="7766280" cy="47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4120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GESTÃO, GERENCIAMENTO 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MANEJO INTEGRADO D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RESÍDUOS SÓLID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 algn="ctr">
              <a:lnSpc>
                <a:spcPct val="95000"/>
              </a:lnSpc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LOGÍSTICA REVERS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 algn="ctr"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RESÍDUOS e REJEI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41200" indent="0" algn="ctr">
              <a:spcBef>
                <a:spcPts val="901"/>
              </a:spcBef>
              <a:buNone/>
              <a:tabLst>
                <a:tab algn="l" pos="0"/>
                <a:tab algn="l" pos="241200"/>
                <a:tab algn="l" pos="689040"/>
                <a:tab algn="l" pos="1138320"/>
                <a:tab algn="l" pos="1587600"/>
                <a:tab algn="l" pos="2036880"/>
                <a:tab algn="l" pos="2486160"/>
                <a:tab algn="l" pos="2935440"/>
                <a:tab algn="l" pos="3384720"/>
                <a:tab algn="l" pos="3833640"/>
                <a:tab algn="l" pos="4282920"/>
                <a:tab algn="l" pos="4732200"/>
                <a:tab algn="l" pos="5181480"/>
                <a:tab algn="l" pos="5630760"/>
                <a:tab algn="l" pos="6080040"/>
                <a:tab algn="l" pos="6529320"/>
                <a:tab algn="l" pos="6978600"/>
                <a:tab algn="l" pos="7427880"/>
                <a:tab algn="l" pos="7877160"/>
                <a:tab algn="l" pos="8326440"/>
                <a:tab algn="l" pos="8775720"/>
                <a:tab algn="l" pos="9225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Freeform 4"/>
          <p:cNvSpPr/>
          <p:nvPr/>
        </p:nvSpPr>
        <p:spPr>
          <a:xfrm>
            <a:off x="547560" y="1600200"/>
            <a:ext cx="443160" cy="609480"/>
          </a:xfrm>
          <a:custGeom>
            <a:avLst/>
            <a:gdLst>
              <a:gd name="textAreaLeft" fmla="*/ 0 w 443160"/>
              <a:gd name="textAreaRight" fmla="*/ 443520 w 4431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Freeform 5"/>
          <p:cNvSpPr/>
          <p:nvPr/>
        </p:nvSpPr>
        <p:spPr>
          <a:xfrm>
            <a:off x="547560" y="3903840"/>
            <a:ext cx="443160" cy="609480"/>
          </a:xfrm>
          <a:custGeom>
            <a:avLst/>
            <a:gdLst>
              <a:gd name="textAreaLeft" fmla="*/ 0 w 443160"/>
              <a:gd name="textAreaRight" fmla="*/ 443520 w 4431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Freeform 6"/>
          <p:cNvSpPr/>
          <p:nvPr/>
        </p:nvSpPr>
        <p:spPr>
          <a:xfrm>
            <a:off x="547560" y="5162400"/>
            <a:ext cx="443160" cy="609840"/>
          </a:xfrm>
          <a:custGeom>
            <a:avLst/>
            <a:gdLst>
              <a:gd name="textAreaLeft" fmla="*/ 0 w 443160"/>
              <a:gd name="textAreaRight" fmla="*/ 443520 w 44316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/>
          </p:nvPr>
        </p:nvSpPr>
        <p:spPr>
          <a:xfrm>
            <a:off x="685800" y="1447920"/>
            <a:ext cx="77644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-324000">
              <a:lnSpc>
                <a:spcPct val="95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SÍDUOS: descarte da produção e do consumo/sistema de limpeza públ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EJEITOS: resíduos sólidos que não têm aproveitamento econômico por nenhum processo tecnológico disponível e acessí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"/>
          <p:cNvPicPr/>
          <p:nvPr/>
        </p:nvPicPr>
        <p:blipFill>
          <a:blip r:embed="rId1"/>
          <a:stretch/>
        </p:blipFill>
        <p:spPr>
          <a:xfrm>
            <a:off x="228600" y="4181400"/>
            <a:ext cx="4276800" cy="10764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3" descr=""/>
          <p:cNvPicPr/>
          <p:nvPr/>
        </p:nvPicPr>
        <p:blipFill>
          <a:blip r:embed="rId2"/>
          <a:stretch/>
        </p:blipFill>
        <p:spPr>
          <a:xfrm>
            <a:off x="838080" y="3191040"/>
            <a:ext cx="3057480" cy="8474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4" descr=""/>
          <p:cNvPicPr/>
          <p:nvPr/>
        </p:nvPicPr>
        <p:blipFill>
          <a:blip r:embed="rId3"/>
          <a:stretch/>
        </p:blipFill>
        <p:spPr>
          <a:xfrm>
            <a:off x="1600200" y="2133720"/>
            <a:ext cx="1685880" cy="1076040"/>
          </a:xfrm>
          <a:prstGeom prst="rect">
            <a:avLst/>
          </a:prstGeom>
          <a:ln w="0">
            <a:noFill/>
          </a:ln>
        </p:spPr>
      </p:pic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3160" y="500040"/>
            <a:ext cx="830556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TÃO – GERENCIAMENTO – MANEJO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84872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TÃO                                   DEFINE A POLÍTICA    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RENCIAMENTO                   IMPLEMENTA A POLÍT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        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EJO                   OPERACIONA A IMPLEMENTAÇÃO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Line 7"/>
          <p:cNvSpPr/>
          <p:nvPr/>
        </p:nvSpPr>
        <p:spPr>
          <a:xfrm flipH="1">
            <a:off x="3946680" y="2971800"/>
            <a:ext cx="793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Line 8"/>
          <p:cNvSpPr/>
          <p:nvPr/>
        </p:nvSpPr>
        <p:spPr>
          <a:xfrm flipH="1">
            <a:off x="3870000" y="3809880"/>
            <a:ext cx="7938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Line 9"/>
          <p:cNvSpPr/>
          <p:nvPr/>
        </p:nvSpPr>
        <p:spPr>
          <a:xfrm flipH="1">
            <a:off x="3413160" y="4800600"/>
            <a:ext cx="86976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5" name="Group 10"/>
          <p:cNvGrpSpPr/>
          <p:nvPr/>
        </p:nvGrpSpPr>
        <p:grpSpPr>
          <a:xfrm>
            <a:off x="6437520" y="6451560"/>
            <a:ext cx="2692080" cy="384120"/>
            <a:chOff x="6437520" y="6451560"/>
            <a:chExt cx="2692080" cy="384120"/>
          </a:xfrm>
        </p:grpSpPr>
        <p:sp>
          <p:nvSpPr>
            <p:cNvPr id="306" name="AutoShape 11"/>
            <p:cNvSpPr/>
            <p:nvPr/>
          </p:nvSpPr>
          <p:spPr>
            <a:xfrm>
              <a:off x="6477120" y="6451560"/>
              <a:ext cx="2652480" cy="38268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7" name="Group 12"/>
            <p:cNvGrpSpPr/>
            <p:nvPr/>
          </p:nvGrpSpPr>
          <p:grpSpPr>
            <a:xfrm>
              <a:off x="6437520" y="6451560"/>
              <a:ext cx="2679120" cy="384120"/>
              <a:chOff x="6437520" y="6451560"/>
              <a:chExt cx="2679120" cy="384120"/>
            </a:xfrm>
          </p:grpSpPr>
          <p:sp>
            <p:nvSpPr>
              <p:cNvPr id="308" name="AutoShape 13"/>
              <p:cNvSpPr/>
              <p:nvPr/>
            </p:nvSpPr>
            <p:spPr>
              <a:xfrm>
                <a:off x="6477120" y="6451560"/>
                <a:ext cx="2639520" cy="3700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09" name="Group 14"/>
              <p:cNvGrpSpPr/>
              <p:nvPr/>
            </p:nvGrpSpPr>
            <p:grpSpPr>
              <a:xfrm>
                <a:off x="6437520" y="6451560"/>
                <a:ext cx="2671560" cy="384120"/>
                <a:chOff x="6437520" y="6451560"/>
                <a:chExt cx="2671560" cy="384120"/>
              </a:xfrm>
            </p:grpSpPr>
            <p:sp>
              <p:nvSpPr>
                <p:cNvPr id="310" name="AutoShape 15"/>
                <p:cNvSpPr/>
                <p:nvPr/>
              </p:nvSpPr>
              <p:spPr>
                <a:xfrm>
                  <a:off x="6477120" y="6451560"/>
                  <a:ext cx="2628360" cy="36072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1" name="Group 16"/>
                <p:cNvGrpSpPr/>
                <p:nvPr/>
              </p:nvGrpSpPr>
              <p:grpSpPr>
                <a:xfrm>
                  <a:off x="6437520" y="6451560"/>
                  <a:ext cx="2671560" cy="384120"/>
                  <a:chOff x="6437520" y="6451560"/>
                  <a:chExt cx="2671560" cy="384120"/>
                </a:xfrm>
              </p:grpSpPr>
              <p:sp>
                <p:nvSpPr>
                  <p:cNvPr id="312" name="AutoShape 17"/>
                  <p:cNvSpPr/>
                  <p:nvPr/>
                </p:nvSpPr>
                <p:spPr>
                  <a:xfrm>
                    <a:off x="6477120" y="6451560"/>
                    <a:ext cx="2619000" cy="351360"/>
                  </a:xfrm>
                  <a:prstGeom prst="roundRect">
                    <a:avLst>
                      <a:gd name="adj" fmla="val 44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3" name="Group 18"/>
                  <p:cNvGrpSpPr/>
                  <p:nvPr/>
                </p:nvGrpSpPr>
                <p:grpSpPr>
                  <a:xfrm>
                    <a:off x="6437520" y="6451560"/>
                    <a:ext cx="2671560" cy="384120"/>
                    <a:chOff x="6437520" y="6451560"/>
                    <a:chExt cx="2671560" cy="384120"/>
                  </a:xfrm>
                </p:grpSpPr>
                <p:sp>
                  <p:nvSpPr>
                    <p:cNvPr id="314" name="AutoShape 19"/>
                    <p:cNvSpPr/>
                    <p:nvPr/>
                  </p:nvSpPr>
                  <p:spPr>
                    <a:xfrm>
                      <a:off x="6477120" y="6451560"/>
                      <a:ext cx="2611080" cy="343440"/>
                    </a:xfrm>
                    <a:prstGeom prst="roundRect">
                      <a:avLst>
                        <a:gd name="adj" fmla="val 45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15" name="Group 20"/>
                    <p:cNvGrpSpPr/>
                    <p:nvPr/>
                  </p:nvGrpSpPr>
                  <p:grpSpPr>
                    <a:xfrm>
                      <a:off x="6437520" y="6451560"/>
                      <a:ext cx="2671560" cy="384120"/>
                      <a:chOff x="6437520" y="6451560"/>
                      <a:chExt cx="2671560" cy="384120"/>
                    </a:xfrm>
                  </p:grpSpPr>
                  <p:sp>
                    <p:nvSpPr>
                      <p:cNvPr id="316" name="AutoShape 21"/>
                      <p:cNvSpPr/>
                      <p:nvPr/>
                    </p:nvSpPr>
                    <p:spPr>
                      <a:xfrm>
                        <a:off x="6477120" y="6451560"/>
                        <a:ext cx="2603160" cy="33552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17" name="Group 22"/>
                      <p:cNvGrpSpPr/>
                      <p:nvPr/>
                    </p:nvGrpSpPr>
                    <p:grpSpPr>
                      <a:xfrm>
                        <a:off x="6437520" y="6451560"/>
                        <a:ext cx="2671560" cy="384120"/>
                        <a:chOff x="6437520" y="6451560"/>
                        <a:chExt cx="2671560" cy="384120"/>
                      </a:xfrm>
                    </p:grpSpPr>
                    <p:sp>
                      <p:nvSpPr>
                        <p:cNvPr id="318" name="AutoShape 23"/>
                        <p:cNvSpPr/>
                        <p:nvPr/>
                      </p:nvSpPr>
                      <p:spPr>
                        <a:xfrm>
                          <a:off x="6477120" y="6451560"/>
                          <a:ext cx="2598480" cy="32904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19" name="Group 24"/>
                        <p:cNvGrpSpPr/>
                        <p:nvPr/>
                      </p:nvGrpSpPr>
                      <p:grpSpPr>
                        <a:xfrm>
                          <a:off x="6437520" y="6451560"/>
                          <a:ext cx="2671560" cy="384120"/>
                          <a:chOff x="6437520" y="6451560"/>
                          <a:chExt cx="2671560" cy="384120"/>
                        </a:xfrm>
                      </p:grpSpPr>
                      <p:sp>
                        <p:nvSpPr>
                          <p:cNvPr id="320" name="AutoShape 25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595240" cy="325800"/>
                          </a:xfrm>
                          <a:prstGeom prst="roundRect">
                            <a:avLst>
                              <a:gd name="adj" fmla="val 468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21" name="Group 26"/>
                          <p:cNvGrpSpPr/>
                          <p:nvPr/>
                        </p:nvGrpSpPr>
                        <p:grpSpPr>
                          <a:xfrm>
                            <a:off x="6437520" y="6451560"/>
                            <a:ext cx="2671560" cy="384120"/>
                            <a:chOff x="6437520" y="6451560"/>
                            <a:chExt cx="2671560" cy="384120"/>
                          </a:xfrm>
                        </p:grpSpPr>
                        <p:sp>
                          <p:nvSpPr>
                            <p:cNvPr id="322" name="AutoShape 27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592000" cy="324360"/>
                            </a:xfrm>
                            <a:prstGeom prst="roundRect">
                              <a:avLst>
                                <a:gd name="adj" fmla="val 468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23" name="AutoShape 28"/>
                            <p:cNvSpPr/>
                            <p:nvPr/>
                          </p:nvSpPr>
                          <p:spPr>
                            <a:xfrm>
                              <a:off x="6437520" y="6451560"/>
                              <a:ext cx="2671560" cy="384120"/>
                            </a:xfrm>
                            <a:prstGeom prst="roundRect">
                              <a:avLst>
                                <a:gd name="adj" fmla="val 468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808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1268280"/>
            <a:ext cx="8569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LEGISLAÇÃO BRASIL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Incisos VI e IX o art. 23, que estabelecem ser competência comum da União, os estados, o Distrito Federal e dos municípios proteger o meio ambiente e combater a poluição em qualquer das suas formas, bem como promover programas de construção de moradias e a melhoria do saneamento básic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Já os incisos I e V do art. 30 estabelecem como atribuição municipal legislar sobre assuntos de interesse local, especialmente quanto a organização dos seus serviços públicos, como é o caso a limpeza urban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533520" y="1590840"/>
            <a:ext cx="2066760" cy="16858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371520"/>
            <a:ext cx="7770960" cy="12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ESTÃO INTEGRADA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0960" cy="514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I-RS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     DEFINE A POLÍTIC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stados, Distrito Federal e Municíp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mpreende as ações referentes a tomada de decisões políticas e estratégicas, quanto aos aspectos institucionais, operacionais, financeiros, sociais e ambientais relacionados aos resíduos sóli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Group 5"/>
          <p:cNvGrpSpPr/>
          <p:nvPr/>
        </p:nvGrpSpPr>
        <p:grpSpPr>
          <a:xfrm>
            <a:off x="6460560" y="6451560"/>
            <a:ext cx="2675520" cy="384120"/>
            <a:chOff x="6460560" y="6451560"/>
            <a:chExt cx="2675520" cy="384120"/>
          </a:xfrm>
        </p:grpSpPr>
        <p:sp>
          <p:nvSpPr>
            <p:cNvPr id="328" name="AutoShape 6"/>
            <p:cNvSpPr/>
            <p:nvPr/>
          </p:nvSpPr>
          <p:spPr>
            <a:xfrm>
              <a:off x="6477120" y="6451560"/>
              <a:ext cx="2658960" cy="38412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9" name="Group 7"/>
            <p:cNvGrpSpPr/>
            <p:nvPr/>
          </p:nvGrpSpPr>
          <p:grpSpPr>
            <a:xfrm>
              <a:off x="6460560" y="6451560"/>
              <a:ext cx="2672640" cy="384120"/>
              <a:chOff x="6460560" y="6451560"/>
              <a:chExt cx="2672640" cy="384120"/>
            </a:xfrm>
          </p:grpSpPr>
          <p:sp>
            <p:nvSpPr>
              <p:cNvPr id="330" name="AutoShape 8"/>
              <p:cNvSpPr/>
              <p:nvPr/>
            </p:nvSpPr>
            <p:spPr>
              <a:xfrm>
                <a:off x="6477120" y="6451560"/>
                <a:ext cx="2656080" cy="37296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31" name="Group 9"/>
              <p:cNvGrpSpPr/>
              <p:nvPr/>
            </p:nvGrpSpPr>
            <p:grpSpPr>
              <a:xfrm>
                <a:off x="6460560" y="6451560"/>
                <a:ext cx="2672640" cy="384120"/>
                <a:chOff x="6460560" y="6451560"/>
                <a:chExt cx="2672640" cy="384120"/>
              </a:xfrm>
            </p:grpSpPr>
            <p:sp>
              <p:nvSpPr>
                <p:cNvPr id="332" name="AutoShape 10"/>
                <p:cNvSpPr/>
                <p:nvPr/>
              </p:nvSpPr>
              <p:spPr>
                <a:xfrm>
                  <a:off x="6477120" y="6451560"/>
                  <a:ext cx="2654280" cy="36504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3" name="Group 11"/>
                <p:cNvGrpSpPr/>
                <p:nvPr/>
              </p:nvGrpSpPr>
              <p:grpSpPr>
                <a:xfrm>
                  <a:off x="6460560" y="6451560"/>
                  <a:ext cx="2672640" cy="384120"/>
                  <a:chOff x="6460560" y="6451560"/>
                  <a:chExt cx="2672640" cy="384120"/>
                </a:xfrm>
              </p:grpSpPr>
              <p:sp>
                <p:nvSpPr>
                  <p:cNvPr id="334" name="AutoShape 12"/>
                  <p:cNvSpPr/>
                  <p:nvPr/>
                </p:nvSpPr>
                <p:spPr>
                  <a:xfrm>
                    <a:off x="6477120" y="6451560"/>
                    <a:ext cx="2654280" cy="357120"/>
                  </a:xfrm>
                  <a:prstGeom prst="roundRect">
                    <a:avLst>
                      <a:gd name="adj" fmla="val 43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35" name="Group 13"/>
                  <p:cNvGrpSpPr/>
                  <p:nvPr/>
                </p:nvGrpSpPr>
                <p:grpSpPr>
                  <a:xfrm>
                    <a:off x="6460560" y="6451560"/>
                    <a:ext cx="2672640" cy="384120"/>
                    <a:chOff x="6460560" y="6451560"/>
                    <a:chExt cx="2672640" cy="384120"/>
                  </a:xfrm>
                </p:grpSpPr>
                <p:sp>
                  <p:nvSpPr>
                    <p:cNvPr id="336" name="AutoShape 14"/>
                    <p:cNvSpPr/>
                    <p:nvPr/>
                  </p:nvSpPr>
                  <p:spPr>
                    <a:xfrm>
                      <a:off x="6477120" y="6451560"/>
                      <a:ext cx="2656080" cy="345960"/>
                    </a:xfrm>
                    <a:prstGeom prst="roundRect">
                      <a:avLst>
                        <a:gd name="adj" fmla="val 44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37" name="Group 15"/>
                    <p:cNvGrpSpPr/>
                    <p:nvPr/>
                  </p:nvGrpSpPr>
                  <p:grpSpPr>
                    <a:xfrm>
                      <a:off x="6460560" y="6451560"/>
                      <a:ext cx="2671560" cy="384120"/>
                      <a:chOff x="6460560" y="6451560"/>
                      <a:chExt cx="2671560" cy="384120"/>
                    </a:xfrm>
                  </p:grpSpPr>
                  <p:sp>
                    <p:nvSpPr>
                      <p:cNvPr id="338" name="AutoShape 16"/>
                      <p:cNvSpPr/>
                      <p:nvPr/>
                    </p:nvSpPr>
                    <p:spPr>
                      <a:xfrm>
                        <a:off x="6477120" y="6451560"/>
                        <a:ext cx="2649600" cy="339840"/>
                      </a:xfrm>
                      <a:prstGeom prst="roundRect">
                        <a:avLst>
                          <a:gd name="adj" fmla="val 454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39" name="Group 17"/>
                      <p:cNvGrpSpPr/>
                      <p:nvPr/>
                    </p:nvGrpSpPr>
                    <p:grpSpPr>
                      <a:xfrm>
                        <a:off x="6460560" y="6451560"/>
                        <a:ext cx="2671560" cy="384120"/>
                        <a:chOff x="6460560" y="6451560"/>
                        <a:chExt cx="2671560" cy="384120"/>
                      </a:xfrm>
                    </p:grpSpPr>
                    <p:sp>
                      <p:nvSpPr>
                        <p:cNvPr id="340" name="AutoShape 18"/>
                        <p:cNvSpPr/>
                        <p:nvPr/>
                      </p:nvSpPr>
                      <p:spPr>
                        <a:xfrm>
                          <a:off x="6477120" y="6451560"/>
                          <a:ext cx="2644560" cy="33372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41" name="Group 19"/>
                        <p:cNvGrpSpPr/>
                        <p:nvPr/>
                      </p:nvGrpSpPr>
                      <p:grpSpPr>
                        <a:xfrm>
                          <a:off x="6460560" y="6451560"/>
                          <a:ext cx="2671560" cy="384120"/>
                          <a:chOff x="6460560" y="6451560"/>
                          <a:chExt cx="2671560" cy="384120"/>
                        </a:xfrm>
                      </p:grpSpPr>
                      <p:sp>
                        <p:nvSpPr>
                          <p:cNvPr id="342" name="AutoShape 20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641320" cy="32904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43" name="Group 21"/>
                          <p:cNvGrpSpPr/>
                          <p:nvPr/>
                        </p:nvGrpSpPr>
                        <p:grpSpPr>
                          <a:xfrm>
                            <a:off x="6460560" y="6451560"/>
                            <a:ext cx="2671560" cy="384120"/>
                            <a:chOff x="6460560" y="6451560"/>
                            <a:chExt cx="2671560" cy="384120"/>
                          </a:xfrm>
                        </p:grpSpPr>
                        <p:sp>
                          <p:nvSpPr>
                            <p:cNvPr id="344" name="AutoShape 22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639880" cy="3276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45" name="AutoShape 23"/>
                            <p:cNvSpPr/>
                            <p:nvPr/>
                          </p:nvSpPr>
                          <p:spPr>
                            <a:xfrm>
                              <a:off x="6460560" y="6451560"/>
                              <a:ext cx="2671560" cy="38412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808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2" descr=""/>
          <p:cNvPicPr/>
          <p:nvPr/>
        </p:nvPicPr>
        <p:blipFill>
          <a:blip r:embed="rId1"/>
          <a:stretch/>
        </p:blipFill>
        <p:spPr>
          <a:xfrm>
            <a:off x="380880" y="1590840"/>
            <a:ext cx="2448000" cy="1076040"/>
          </a:xfrm>
          <a:prstGeom prst="rect">
            <a:avLst/>
          </a:prstGeom>
          <a:ln w="0">
            <a:noFill/>
          </a:ln>
        </p:spPr>
      </p:pic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371520"/>
            <a:ext cx="7770960" cy="120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GERENCIAMENTO E PLANO DE GERENCIAMENTO INTEGRADO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381880" cy="414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95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IRS            IMPLEMENTA A POLÍ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istrito Federal, Municípios e demais gerad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omada de decisões estratégicas quando do desenvolvimento e implementação das ações definidas no Plano de Gestão Integrada de Resíduos Sólido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9" name="Group 5"/>
          <p:cNvGrpSpPr/>
          <p:nvPr/>
        </p:nvGrpSpPr>
        <p:grpSpPr>
          <a:xfrm>
            <a:off x="6460560" y="6451560"/>
            <a:ext cx="2675520" cy="384120"/>
            <a:chOff x="6460560" y="6451560"/>
            <a:chExt cx="2675520" cy="384120"/>
          </a:xfrm>
        </p:grpSpPr>
        <p:sp>
          <p:nvSpPr>
            <p:cNvPr id="350" name="AutoShape 6"/>
            <p:cNvSpPr/>
            <p:nvPr/>
          </p:nvSpPr>
          <p:spPr>
            <a:xfrm>
              <a:off x="6477120" y="6451560"/>
              <a:ext cx="2658960" cy="38412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51" name="Group 7"/>
            <p:cNvGrpSpPr/>
            <p:nvPr/>
          </p:nvGrpSpPr>
          <p:grpSpPr>
            <a:xfrm>
              <a:off x="6460560" y="6451560"/>
              <a:ext cx="2672640" cy="384120"/>
              <a:chOff x="6460560" y="6451560"/>
              <a:chExt cx="2672640" cy="384120"/>
            </a:xfrm>
          </p:grpSpPr>
          <p:sp>
            <p:nvSpPr>
              <p:cNvPr id="352" name="AutoShape 8"/>
              <p:cNvSpPr/>
              <p:nvPr/>
            </p:nvSpPr>
            <p:spPr>
              <a:xfrm>
                <a:off x="6477120" y="6451560"/>
                <a:ext cx="2656080" cy="37296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53" name="Group 9"/>
              <p:cNvGrpSpPr/>
              <p:nvPr/>
            </p:nvGrpSpPr>
            <p:grpSpPr>
              <a:xfrm>
                <a:off x="6460560" y="6451560"/>
                <a:ext cx="2672640" cy="384120"/>
                <a:chOff x="6460560" y="6451560"/>
                <a:chExt cx="2672640" cy="384120"/>
              </a:xfrm>
            </p:grpSpPr>
            <p:sp>
              <p:nvSpPr>
                <p:cNvPr id="354" name="AutoShape 10"/>
                <p:cNvSpPr/>
                <p:nvPr/>
              </p:nvSpPr>
              <p:spPr>
                <a:xfrm>
                  <a:off x="6477120" y="6451560"/>
                  <a:ext cx="2654280" cy="36504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5" name="Group 11"/>
                <p:cNvGrpSpPr/>
                <p:nvPr/>
              </p:nvGrpSpPr>
              <p:grpSpPr>
                <a:xfrm>
                  <a:off x="6460560" y="6451560"/>
                  <a:ext cx="2672640" cy="384120"/>
                  <a:chOff x="6460560" y="6451560"/>
                  <a:chExt cx="2672640" cy="384120"/>
                </a:xfrm>
              </p:grpSpPr>
              <p:sp>
                <p:nvSpPr>
                  <p:cNvPr id="356" name="AutoShape 12"/>
                  <p:cNvSpPr/>
                  <p:nvPr/>
                </p:nvSpPr>
                <p:spPr>
                  <a:xfrm>
                    <a:off x="6477120" y="6451560"/>
                    <a:ext cx="2654280" cy="357120"/>
                  </a:xfrm>
                  <a:prstGeom prst="roundRect">
                    <a:avLst>
                      <a:gd name="adj" fmla="val 43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57" name="Group 13"/>
                  <p:cNvGrpSpPr/>
                  <p:nvPr/>
                </p:nvGrpSpPr>
                <p:grpSpPr>
                  <a:xfrm>
                    <a:off x="6460560" y="6451560"/>
                    <a:ext cx="2672640" cy="384120"/>
                    <a:chOff x="6460560" y="6451560"/>
                    <a:chExt cx="2672640" cy="384120"/>
                  </a:xfrm>
                </p:grpSpPr>
                <p:sp>
                  <p:nvSpPr>
                    <p:cNvPr id="358" name="AutoShape 14"/>
                    <p:cNvSpPr/>
                    <p:nvPr/>
                  </p:nvSpPr>
                  <p:spPr>
                    <a:xfrm>
                      <a:off x="6477120" y="6451560"/>
                      <a:ext cx="2656080" cy="345960"/>
                    </a:xfrm>
                    <a:prstGeom prst="roundRect">
                      <a:avLst>
                        <a:gd name="adj" fmla="val 44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59" name="Group 15"/>
                    <p:cNvGrpSpPr/>
                    <p:nvPr/>
                  </p:nvGrpSpPr>
                  <p:grpSpPr>
                    <a:xfrm>
                      <a:off x="6460560" y="6451560"/>
                      <a:ext cx="2671560" cy="384120"/>
                      <a:chOff x="6460560" y="6451560"/>
                      <a:chExt cx="2671560" cy="384120"/>
                    </a:xfrm>
                  </p:grpSpPr>
                  <p:sp>
                    <p:nvSpPr>
                      <p:cNvPr id="360" name="AutoShape 16"/>
                      <p:cNvSpPr/>
                      <p:nvPr/>
                    </p:nvSpPr>
                    <p:spPr>
                      <a:xfrm>
                        <a:off x="6477120" y="6451560"/>
                        <a:ext cx="2649600" cy="339840"/>
                      </a:xfrm>
                      <a:prstGeom prst="roundRect">
                        <a:avLst>
                          <a:gd name="adj" fmla="val 454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61" name="Group 17"/>
                      <p:cNvGrpSpPr/>
                      <p:nvPr/>
                    </p:nvGrpSpPr>
                    <p:grpSpPr>
                      <a:xfrm>
                        <a:off x="6460560" y="6451560"/>
                        <a:ext cx="2671560" cy="384120"/>
                        <a:chOff x="6460560" y="6451560"/>
                        <a:chExt cx="2671560" cy="384120"/>
                      </a:xfrm>
                    </p:grpSpPr>
                    <p:sp>
                      <p:nvSpPr>
                        <p:cNvPr id="362" name="AutoShape 18"/>
                        <p:cNvSpPr/>
                        <p:nvPr/>
                      </p:nvSpPr>
                      <p:spPr>
                        <a:xfrm>
                          <a:off x="6477120" y="6451560"/>
                          <a:ext cx="2644560" cy="33372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63" name="Group 19"/>
                        <p:cNvGrpSpPr/>
                        <p:nvPr/>
                      </p:nvGrpSpPr>
                      <p:grpSpPr>
                        <a:xfrm>
                          <a:off x="6460560" y="6451560"/>
                          <a:ext cx="2671560" cy="384120"/>
                          <a:chOff x="6460560" y="6451560"/>
                          <a:chExt cx="2671560" cy="384120"/>
                        </a:xfrm>
                      </p:grpSpPr>
                      <p:sp>
                        <p:nvSpPr>
                          <p:cNvPr id="364" name="AutoShape 20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641320" cy="32904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65" name="Group 21"/>
                          <p:cNvGrpSpPr/>
                          <p:nvPr/>
                        </p:nvGrpSpPr>
                        <p:grpSpPr>
                          <a:xfrm>
                            <a:off x="6460560" y="6451560"/>
                            <a:ext cx="2671560" cy="384120"/>
                            <a:chOff x="6460560" y="6451560"/>
                            <a:chExt cx="2671560" cy="384120"/>
                          </a:xfrm>
                        </p:grpSpPr>
                        <p:sp>
                          <p:nvSpPr>
                            <p:cNvPr id="366" name="AutoShape 22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639880" cy="3276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67" name="AutoShape 23"/>
                            <p:cNvSpPr/>
                            <p:nvPr/>
                          </p:nvSpPr>
                          <p:spPr>
                            <a:xfrm>
                              <a:off x="6460560" y="6451560"/>
                              <a:ext cx="2671560" cy="38412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808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"/>
          <p:cNvPicPr/>
          <p:nvPr/>
        </p:nvPicPr>
        <p:blipFill>
          <a:blip r:embed="rId1"/>
          <a:stretch/>
        </p:blipFill>
        <p:spPr>
          <a:xfrm>
            <a:off x="2286000" y="1590840"/>
            <a:ext cx="4048200" cy="10000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410760"/>
            <a:ext cx="7770960" cy="12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LANO DE MANEJO INTEGRADO</a:t>
            </a: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847280" cy="47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MI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               </a:t>
            </a:r>
            <a:r>
              <a:rPr b="0" lang="en-GB" sz="1000" spc="-1" strike="noStrike">
                <a:solidFill>
                  <a:srgbClr val="0000ff"/>
                </a:solidFill>
                <a:latin typeface="Times New Roman"/>
              </a:rPr>
              <a:t>Disponibilizado para consulta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CIONA A IMPLEMENTAÇ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en-GB" sz="2000" spc="-1" strike="noStrike">
                <a:solidFill>
                  <a:srgbClr val="ffffff"/>
                </a:solidFill>
                <a:latin typeface="Times New Roman"/>
              </a:rPr>
              <a:t>Todos os gera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Operacionalização das etapas de segregação, coleta, manipulação, acondicionamento, transporte, armazenamento, transbordo, triagem e tratamento, comercialização, logística reversa e disposição final dos rejeitos, observadas as diretrizes estabelecidas no Plano de Gerenciamento Integrado de Resíduos Sólid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1" name="Group 5"/>
          <p:cNvGrpSpPr/>
          <p:nvPr/>
        </p:nvGrpSpPr>
        <p:grpSpPr>
          <a:xfrm>
            <a:off x="6460560" y="6451560"/>
            <a:ext cx="2675520" cy="384120"/>
            <a:chOff x="6460560" y="6451560"/>
            <a:chExt cx="2675520" cy="384120"/>
          </a:xfrm>
        </p:grpSpPr>
        <p:sp>
          <p:nvSpPr>
            <p:cNvPr id="372" name="AutoShape 6"/>
            <p:cNvSpPr/>
            <p:nvPr/>
          </p:nvSpPr>
          <p:spPr>
            <a:xfrm>
              <a:off x="6477120" y="6451560"/>
              <a:ext cx="2658960" cy="38412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3" name="Group 7"/>
            <p:cNvGrpSpPr/>
            <p:nvPr/>
          </p:nvGrpSpPr>
          <p:grpSpPr>
            <a:xfrm>
              <a:off x="6460560" y="6451560"/>
              <a:ext cx="2672640" cy="384120"/>
              <a:chOff x="6460560" y="6451560"/>
              <a:chExt cx="2672640" cy="384120"/>
            </a:xfrm>
          </p:grpSpPr>
          <p:sp>
            <p:nvSpPr>
              <p:cNvPr id="374" name="AutoShape 8"/>
              <p:cNvSpPr/>
              <p:nvPr/>
            </p:nvSpPr>
            <p:spPr>
              <a:xfrm>
                <a:off x="6477120" y="6451560"/>
                <a:ext cx="2656080" cy="37296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75" name="Group 9"/>
              <p:cNvGrpSpPr/>
              <p:nvPr/>
            </p:nvGrpSpPr>
            <p:grpSpPr>
              <a:xfrm>
                <a:off x="6460560" y="6451560"/>
                <a:ext cx="2672640" cy="384120"/>
                <a:chOff x="6460560" y="6451560"/>
                <a:chExt cx="2672640" cy="384120"/>
              </a:xfrm>
            </p:grpSpPr>
            <p:sp>
              <p:nvSpPr>
                <p:cNvPr id="376" name="AutoShape 10"/>
                <p:cNvSpPr/>
                <p:nvPr/>
              </p:nvSpPr>
              <p:spPr>
                <a:xfrm>
                  <a:off x="6477120" y="6451560"/>
                  <a:ext cx="2654280" cy="36504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77" name="Group 11"/>
                <p:cNvGrpSpPr/>
                <p:nvPr/>
              </p:nvGrpSpPr>
              <p:grpSpPr>
                <a:xfrm>
                  <a:off x="6460560" y="6451560"/>
                  <a:ext cx="2672640" cy="384120"/>
                  <a:chOff x="6460560" y="6451560"/>
                  <a:chExt cx="2672640" cy="384120"/>
                </a:xfrm>
              </p:grpSpPr>
              <p:sp>
                <p:nvSpPr>
                  <p:cNvPr id="378" name="AutoShape 12"/>
                  <p:cNvSpPr/>
                  <p:nvPr/>
                </p:nvSpPr>
                <p:spPr>
                  <a:xfrm>
                    <a:off x="6477120" y="6451560"/>
                    <a:ext cx="2654280" cy="357120"/>
                  </a:xfrm>
                  <a:prstGeom prst="roundRect">
                    <a:avLst>
                      <a:gd name="adj" fmla="val 43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79" name="Group 13"/>
                  <p:cNvGrpSpPr/>
                  <p:nvPr/>
                </p:nvGrpSpPr>
                <p:grpSpPr>
                  <a:xfrm>
                    <a:off x="6460560" y="6451560"/>
                    <a:ext cx="2672640" cy="384120"/>
                    <a:chOff x="6460560" y="6451560"/>
                    <a:chExt cx="2672640" cy="384120"/>
                  </a:xfrm>
                </p:grpSpPr>
                <p:sp>
                  <p:nvSpPr>
                    <p:cNvPr id="380" name="AutoShape 14"/>
                    <p:cNvSpPr/>
                    <p:nvPr/>
                  </p:nvSpPr>
                  <p:spPr>
                    <a:xfrm>
                      <a:off x="6477120" y="6451560"/>
                      <a:ext cx="2656080" cy="345960"/>
                    </a:xfrm>
                    <a:prstGeom prst="roundRect">
                      <a:avLst>
                        <a:gd name="adj" fmla="val 44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81" name="Group 15"/>
                    <p:cNvGrpSpPr/>
                    <p:nvPr/>
                  </p:nvGrpSpPr>
                  <p:grpSpPr>
                    <a:xfrm>
                      <a:off x="6460560" y="6451560"/>
                      <a:ext cx="2671560" cy="384120"/>
                      <a:chOff x="6460560" y="6451560"/>
                      <a:chExt cx="2671560" cy="384120"/>
                    </a:xfrm>
                  </p:grpSpPr>
                  <p:sp>
                    <p:nvSpPr>
                      <p:cNvPr id="382" name="AutoShape 16"/>
                      <p:cNvSpPr/>
                      <p:nvPr/>
                    </p:nvSpPr>
                    <p:spPr>
                      <a:xfrm>
                        <a:off x="6477120" y="6451560"/>
                        <a:ext cx="2649600" cy="339840"/>
                      </a:xfrm>
                      <a:prstGeom prst="roundRect">
                        <a:avLst>
                          <a:gd name="adj" fmla="val 454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83" name="Group 17"/>
                      <p:cNvGrpSpPr/>
                      <p:nvPr/>
                    </p:nvGrpSpPr>
                    <p:grpSpPr>
                      <a:xfrm>
                        <a:off x="6460560" y="6451560"/>
                        <a:ext cx="2671560" cy="384120"/>
                        <a:chOff x="6460560" y="6451560"/>
                        <a:chExt cx="2671560" cy="384120"/>
                      </a:xfrm>
                    </p:grpSpPr>
                    <p:sp>
                      <p:nvSpPr>
                        <p:cNvPr id="384" name="AutoShape 18"/>
                        <p:cNvSpPr/>
                        <p:nvPr/>
                      </p:nvSpPr>
                      <p:spPr>
                        <a:xfrm>
                          <a:off x="6477120" y="6451560"/>
                          <a:ext cx="2644560" cy="33372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385" name="Group 19"/>
                        <p:cNvGrpSpPr/>
                        <p:nvPr/>
                      </p:nvGrpSpPr>
                      <p:grpSpPr>
                        <a:xfrm>
                          <a:off x="6460560" y="6451560"/>
                          <a:ext cx="2671560" cy="384120"/>
                          <a:chOff x="6460560" y="6451560"/>
                          <a:chExt cx="2671560" cy="384120"/>
                        </a:xfrm>
                      </p:grpSpPr>
                      <p:sp>
                        <p:nvSpPr>
                          <p:cNvPr id="386" name="AutoShape 20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641320" cy="32904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87" name="Group 21"/>
                          <p:cNvGrpSpPr/>
                          <p:nvPr/>
                        </p:nvGrpSpPr>
                        <p:grpSpPr>
                          <a:xfrm>
                            <a:off x="6460560" y="6451560"/>
                            <a:ext cx="2671560" cy="384120"/>
                            <a:chOff x="6460560" y="6451560"/>
                            <a:chExt cx="2671560" cy="384120"/>
                          </a:xfrm>
                        </p:grpSpPr>
                        <p:sp>
                          <p:nvSpPr>
                            <p:cNvPr id="388" name="AutoShape 22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639880" cy="3276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89" name="AutoShape 23"/>
                            <p:cNvSpPr/>
                            <p:nvPr/>
                          </p:nvSpPr>
                          <p:spPr>
                            <a:xfrm>
                              <a:off x="6460560" y="6451560"/>
                              <a:ext cx="2671560" cy="38412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808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95280" y="-675000"/>
            <a:ext cx="8305920" cy="273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LOGÍSTICA REVERSA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391" name="Group 3"/>
          <p:cNvGrpSpPr/>
          <p:nvPr/>
        </p:nvGrpSpPr>
        <p:grpSpPr>
          <a:xfrm>
            <a:off x="6477120" y="6451560"/>
            <a:ext cx="2652480" cy="382680"/>
            <a:chOff x="6477120" y="6451560"/>
            <a:chExt cx="2652480" cy="382680"/>
          </a:xfrm>
        </p:grpSpPr>
        <p:sp>
          <p:nvSpPr>
            <p:cNvPr id="392" name="AutoShape 4"/>
            <p:cNvSpPr/>
            <p:nvPr/>
          </p:nvSpPr>
          <p:spPr>
            <a:xfrm>
              <a:off x="6477120" y="6451560"/>
              <a:ext cx="2652480" cy="38268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93" name="Group 5"/>
            <p:cNvGrpSpPr/>
            <p:nvPr/>
          </p:nvGrpSpPr>
          <p:grpSpPr>
            <a:xfrm>
              <a:off x="6477120" y="6451560"/>
              <a:ext cx="2639520" cy="370080"/>
              <a:chOff x="6477120" y="6451560"/>
              <a:chExt cx="2639520" cy="370080"/>
            </a:xfrm>
          </p:grpSpPr>
          <p:sp>
            <p:nvSpPr>
              <p:cNvPr id="394" name="AutoShape 6"/>
              <p:cNvSpPr/>
              <p:nvPr/>
            </p:nvSpPr>
            <p:spPr>
              <a:xfrm>
                <a:off x="6477120" y="6451560"/>
                <a:ext cx="2639520" cy="3700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5" name="Group 7"/>
              <p:cNvGrpSpPr/>
              <p:nvPr/>
            </p:nvGrpSpPr>
            <p:grpSpPr>
              <a:xfrm>
                <a:off x="6477120" y="6451560"/>
                <a:ext cx="2628360" cy="360720"/>
                <a:chOff x="6477120" y="6451560"/>
                <a:chExt cx="2628360" cy="360720"/>
              </a:xfrm>
            </p:grpSpPr>
            <p:sp>
              <p:nvSpPr>
                <p:cNvPr id="396" name="AutoShape 8"/>
                <p:cNvSpPr/>
                <p:nvPr/>
              </p:nvSpPr>
              <p:spPr>
                <a:xfrm>
                  <a:off x="6477120" y="6451560"/>
                  <a:ext cx="2628360" cy="36072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97" name="Group 9"/>
                <p:cNvGrpSpPr/>
                <p:nvPr/>
              </p:nvGrpSpPr>
              <p:grpSpPr>
                <a:xfrm>
                  <a:off x="6477120" y="6451560"/>
                  <a:ext cx="2619000" cy="351360"/>
                  <a:chOff x="6477120" y="6451560"/>
                  <a:chExt cx="2619000" cy="351360"/>
                </a:xfrm>
              </p:grpSpPr>
              <p:sp>
                <p:nvSpPr>
                  <p:cNvPr id="398" name="AutoShape 10"/>
                  <p:cNvSpPr/>
                  <p:nvPr/>
                </p:nvSpPr>
                <p:spPr>
                  <a:xfrm>
                    <a:off x="6477120" y="6451560"/>
                    <a:ext cx="2619000" cy="351360"/>
                  </a:xfrm>
                  <a:prstGeom prst="roundRect">
                    <a:avLst>
                      <a:gd name="adj" fmla="val 44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99" name="Group 11"/>
                  <p:cNvGrpSpPr/>
                  <p:nvPr/>
                </p:nvGrpSpPr>
                <p:grpSpPr>
                  <a:xfrm>
                    <a:off x="6477120" y="6451560"/>
                    <a:ext cx="2611080" cy="343440"/>
                    <a:chOff x="6477120" y="6451560"/>
                    <a:chExt cx="2611080" cy="343440"/>
                  </a:xfrm>
                </p:grpSpPr>
                <p:sp>
                  <p:nvSpPr>
                    <p:cNvPr id="400" name="AutoShape 12"/>
                    <p:cNvSpPr/>
                    <p:nvPr/>
                  </p:nvSpPr>
                  <p:spPr>
                    <a:xfrm>
                      <a:off x="6477120" y="6451560"/>
                      <a:ext cx="2611080" cy="343440"/>
                    </a:xfrm>
                    <a:prstGeom prst="roundRect">
                      <a:avLst>
                        <a:gd name="adj" fmla="val 45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01" name="Group 13"/>
                    <p:cNvGrpSpPr/>
                    <p:nvPr/>
                  </p:nvGrpSpPr>
                  <p:grpSpPr>
                    <a:xfrm>
                      <a:off x="6477120" y="6451560"/>
                      <a:ext cx="2603160" cy="335520"/>
                      <a:chOff x="6477120" y="6451560"/>
                      <a:chExt cx="2603160" cy="335520"/>
                    </a:xfrm>
                  </p:grpSpPr>
                  <p:sp>
                    <p:nvSpPr>
                      <p:cNvPr id="402" name="AutoShape 14"/>
                      <p:cNvSpPr/>
                      <p:nvPr/>
                    </p:nvSpPr>
                    <p:spPr>
                      <a:xfrm>
                        <a:off x="6477120" y="6451560"/>
                        <a:ext cx="2603160" cy="33552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03" name="AutoShape 15"/>
                      <p:cNvSpPr/>
                      <p:nvPr/>
                    </p:nvSpPr>
                    <p:spPr>
                      <a:xfrm>
                        <a:off x="6477120" y="6451560"/>
                        <a:ext cx="2603160" cy="33408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404" name="Text Box 17"/>
          <p:cNvSpPr/>
          <p:nvPr/>
        </p:nvSpPr>
        <p:spPr>
          <a:xfrm>
            <a:off x="324000" y="1268280"/>
            <a:ext cx="8607240" cy="29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Conjunto de ações, procedimentos e meios, destinados a facilitar a coleta e a restituição dos resíduos sólidos ao centro que os produziu, para o seu reaproveitamento na forma de novas matérias-primas em seu processo produtivo ou de terceiros, seu tratamento, e a disposição final adequada dos rejeit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Rectangle 18"/>
          <p:cNvSpPr/>
          <p:nvPr/>
        </p:nvSpPr>
        <p:spPr>
          <a:xfrm>
            <a:off x="250920" y="3930840"/>
            <a:ext cx="8642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 Logística Reversa agrega valor na cadeia com o objetivo de tornar possível o retorno dos bens ou de seus materiais ao ciclo produtivo e posteriormente no ponto de consumo novamente. Agrega valor econômico, social, ecológico, legal e de localização ao planejar os bolsões reversos e informações de como operacionalizar os mesm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CANAIS DE DISTRIBUIÇÃO DIRETOS E REVERS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7" name="Text Box 3"/>
          <p:cNvSpPr/>
          <p:nvPr/>
        </p:nvSpPr>
        <p:spPr>
          <a:xfrm>
            <a:off x="4038480" y="2057400"/>
            <a:ext cx="121932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atérias Primas Virgen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AutoShape 4"/>
          <p:cNvSpPr/>
          <p:nvPr/>
        </p:nvSpPr>
        <p:spPr>
          <a:xfrm>
            <a:off x="4419720" y="251460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4038480" y="2819520"/>
            <a:ext cx="114300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Fabrica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AutoShape 6"/>
          <p:cNvSpPr/>
          <p:nvPr/>
        </p:nvSpPr>
        <p:spPr>
          <a:xfrm>
            <a:off x="4419720" y="312408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Text Box 7"/>
          <p:cNvSpPr/>
          <p:nvPr/>
        </p:nvSpPr>
        <p:spPr>
          <a:xfrm>
            <a:off x="4038480" y="3352680"/>
            <a:ext cx="114300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istribui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AutoShape 8"/>
          <p:cNvSpPr/>
          <p:nvPr/>
        </p:nvSpPr>
        <p:spPr>
          <a:xfrm>
            <a:off x="4419720" y="365760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Text Box 9"/>
          <p:cNvSpPr/>
          <p:nvPr/>
        </p:nvSpPr>
        <p:spPr>
          <a:xfrm>
            <a:off x="4038480" y="3962520"/>
            <a:ext cx="114300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Varej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Text Box 10"/>
          <p:cNvSpPr/>
          <p:nvPr/>
        </p:nvSpPr>
        <p:spPr>
          <a:xfrm>
            <a:off x="4038480" y="4495680"/>
            <a:ext cx="114300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onsumid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AutoShape 11"/>
          <p:cNvSpPr/>
          <p:nvPr/>
        </p:nvSpPr>
        <p:spPr>
          <a:xfrm>
            <a:off x="4419720" y="4267080"/>
            <a:ext cx="304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Text Box 12"/>
          <p:cNvSpPr/>
          <p:nvPr/>
        </p:nvSpPr>
        <p:spPr>
          <a:xfrm>
            <a:off x="2286000" y="5105520"/>
            <a:ext cx="19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Text Box 13"/>
          <p:cNvSpPr/>
          <p:nvPr/>
        </p:nvSpPr>
        <p:spPr>
          <a:xfrm>
            <a:off x="2438280" y="5257800"/>
            <a:ext cx="1981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Text Box 14"/>
          <p:cNvSpPr/>
          <p:nvPr/>
        </p:nvSpPr>
        <p:spPr>
          <a:xfrm>
            <a:off x="2590920" y="541008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Text Box 15"/>
          <p:cNvSpPr/>
          <p:nvPr/>
        </p:nvSpPr>
        <p:spPr>
          <a:xfrm>
            <a:off x="1828800" y="5181480"/>
            <a:ext cx="297180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PRODUTOS DE PÓS - VEN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Text Box 16"/>
          <p:cNvSpPr/>
          <p:nvPr/>
        </p:nvSpPr>
        <p:spPr>
          <a:xfrm>
            <a:off x="3886200" y="5791320"/>
            <a:ext cx="380988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PRODUTOS DE PÓS - CONSUM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AutoShape 17"/>
          <p:cNvSpPr/>
          <p:nvPr/>
        </p:nvSpPr>
        <p:spPr>
          <a:xfrm>
            <a:off x="4419720" y="4876920"/>
            <a:ext cx="45720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AutoShape 18"/>
          <p:cNvSpPr/>
          <p:nvPr/>
        </p:nvSpPr>
        <p:spPr>
          <a:xfrm>
            <a:off x="4800600" y="5410080"/>
            <a:ext cx="6858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Text Box 19"/>
          <p:cNvSpPr/>
          <p:nvPr/>
        </p:nvSpPr>
        <p:spPr>
          <a:xfrm>
            <a:off x="6172200" y="5181480"/>
            <a:ext cx="106668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ole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Text Box 20"/>
          <p:cNvSpPr/>
          <p:nvPr/>
        </p:nvSpPr>
        <p:spPr>
          <a:xfrm>
            <a:off x="1981080" y="4419720"/>
            <a:ext cx="106704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ole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Text Box 21"/>
          <p:cNvSpPr/>
          <p:nvPr/>
        </p:nvSpPr>
        <p:spPr>
          <a:xfrm>
            <a:off x="5867280" y="2971800"/>
            <a:ext cx="2057400" cy="5544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Reuso  / Desmanche/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Reciclagem Industr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Text Box 22"/>
          <p:cNvSpPr/>
          <p:nvPr/>
        </p:nvSpPr>
        <p:spPr>
          <a:xfrm>
            <a:off x="6095880" y="3809880"/>
            <a:ext cx="129564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istribuição Revers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Text Box 23"/>
          <p:cNvSpPr/>
          <p:nvPr/>
        </p:nvSpPr>
        <p:spPr>
          <a:xfrm>
            <a:off x="6172200" y="4495680"/>
            <a:ext cx="106668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Varejo Revers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Text Box 24"/>
          <p:cNvSpPr/>
          <p:nvPr/>
        </p:nvSpPr>
        <p:spPr>
          <a:xfrm>
            <a:off x="1981080" y="3581280"/>
            <a:ext cx="106704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istribuição Revers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Text Box 25"/>
          <p:cNvSpPr/>
          <p:nvPr/>
        </p:nvSpPr>
        <p:spPr>
          <a:xfrm>
            <a:off x="1981080" y="2819520"/>
            <a:ext cx="106704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Seleção / Destin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AutoShape 26"/>
          <p:cNvSpPr/>
          <p:nvPr/>
        </p:nvSpPr>
        <p:spPr>
          <a:xfrm>
            <a:off x="6629400" y="548640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AutoShape 27"/>
          <p:cNvSpPr/>
          <p:nvPr/>
        </p:nvSpPr>
        <p:spPr>
          <a:xfrm>
            <a:off x="6629400" y="495288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AutoShape 28"/>
          <p:cNvSpPr/>
          <p:nvPr/>
        </p:nvSpPr>
        <p:spPr>
          <a:xfrm>
            <a:off x="6629400" y="419112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AutoShape 29"/>
          <p:cNvSpPr/>
          <p:nvPr/>
        </p:nvSpPr>
        <p:spPr>
          <a:xfrm>
            <a:off x="2362320" y="3276720"/>
            <a:ext cx="3045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AutoShape 30"/>
          <p:cNvSpPr/>
          <p:nvPr/>
        </p:nvSpPr>
        <p:spPr>
          <a:xfrm>
            <a:off x="2362320" y="4038480"/>
            <a:ext cx="3045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AutoShape 31"/>
          <p:cNvSpPr/>
          <p:nvPr/>
        </p:nvSpPr>
        <p:spPr>
          <a:xfrm>
            <a:off x="2362320" y="4724280"/>
            <a:ext cx="3045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Line 32"/>
          <p:cNvSpPr/>
          <p:nvPr/>
        </p:nvSpPr>
        <p:spPr>
          <a:xfrm>
            <a:off x="3200400" y="2895480"/>
            <a:ext cx="83808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Line 33"/>
          <p:cNvSpPr/>
          <p:nvPr/>
        </p:nvSpPr>
        <p:spPr>
          <a:xfrm>
            <a:off x="3124080" y="2971800"/>
            <a:ext cx="914400" cy="9144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Text Box 34"/>
          <p:cNvSpPr/>
          <p:nvPr/>
        </p:nvSpPr>
        <p:spPr>
          <a:xfrm>
            <a:off x="5715000" y="2057400"/>
            <a:ext cx="1295280" cy="5544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atérias Prim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Secundári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Text Box 35"/>
          <p:cNvSpPr/>
          <p:nvPr/>
        </p:nvSpPr>
        <p:spPr>
          <a:xfrm>
            <a:off x="1981080" y="1981080"/>
            <a:ext cx="121932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ercados Secundári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AutoShape 36"/>
          <p:cNvSpPr/>
          <p:nvPr/>
        </p:nvSpPr>
        <p:spPr>
          <a:xfrm>
            <a:off x="2362320" y="2514600"/>
            <a:ext cx="3045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AutoShape 37"/>
          <p:cNvSpPr/>
          <p:nvPr/>
        </p:nvSpPr>
        <p:spPr>
          <a:xfrm>
            <a:off x="6095880" y="266688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Line 38"/>
          <p:cNvSpPr/>
          <p:nvPr/>
        </p:nvSpPr>
        <p:spPr>
          <a:xfrm flipH="1">
            <a:off x="5181480" y="2666880"/>
            <a:ext cx="609840" cy="38124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3" name="Text Box 39"/>
          <p:cNvSpPr/>
          <p:nvPr/>
        </p:nvSpPr>
        <p:spPr>
          <a:xfrm>
            <a:off x="8305920" y="2971800"/>
            <a:ext cx="304560" cy="32050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D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PÓS- CONSUMO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Text Box 40"/>
          <p:cNvSpPr/>
          <p:nvPr/>
        </p:nvSpPr>
        <p:spPr>
          <a:xfrm>
            <a:off x="1066680" y="2743200"/>
            <a:ext cx="381240" cy="29354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CDR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PÓ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VEN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Text Box 41"/>
          <p:cNvSpPr/>
          <p:nvPr/>
        </p:nvSpPr>
        <p:spPr>
          <a:xfrm>
            <a:off x="1523880" y="6019920"/>
            <a:ext cx="121932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estino não  Segur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Text Box 42"/>
          <p:cNvSpPr/>
          <p:nvPr/>
        </p:nvSpPr>
        <p:spPr>
          <a:xfrm>
            <a:off x="1523880" y="5638680"/>
            <a:ext cx="1219320" cy="2764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Destino Segur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Line 43"/>
          <p:cNvSpPr/>
          <p:nvPr/>
        </p:nvSpPr>
        <p:spPr>
          <a:xfrm flipH="1" flipV="1">
            <a:off x="2819160" y="5714640"/>
            <a:ext cx="1066680" cy="15228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Line 44"/>
          <p:cNvSpPr/>
          <p:nvPr/>
        </p:nvSpPr>
        <p:spPr>
          <a:xfrm flipH="1">
            <a:off x="2742840" y="5943600"/>
            <a:ext cx="1143000" cy="22860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Text Box 45"/>
          <p:cNvSpPr/>
          <p:nvPr/>
        </p:nvSpPr>
        <p:spPr>
          <a:xfrm>
            <a:off x="7162920" y="2133720"/>
            <a:ext cx="1218960" cy="4590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07932" dir="135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Times New Roman"/>
              </a:rPr>
              <a:t>Mercados Secundári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AutoShape 46"/>
          <p:cNvSpPr/>
          <p:nvPr/>
        </p:nvSpPr>
        <p:spPr>
          <a:xfrm>
            <a:off x="7391520" y="2666880"/>
            <a:ext cx="30456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AutoShape 47"/>
          <p:cNvSpPr/>
          <p:nvPr/>
        </p:nvSpPr>
        <p:spPr>
          <a:xfrm>
            <a:off x="6629400" y="3505320"/>
            <a:ext cx="304920" cy="22860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Line 48"/>
          <p:cNvSpPr/>
          <p:nvPr/>
        </p:nvSpPr>
        <p:spPr>
          <a:xfrm>
            <a:off x="3048120" y="3200400"/>
            <a:ext cx="2743200" cy="0"/>
          </a:xfrm>
          <a:prstGeom prst="line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EVALORIZAÇÃO DE  BENS DE PÓS - VEN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4" name="Text Box 3"/>
          <p:cNvSpPr/>
          <p:nvPr/>
        </p:nvSpPr>
        <p:spPr>
          <a:xfrm>
            <a:off x="1295280" y="2133720"/>
            <a:ext cx="2590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457200" y="1905120"/>
            <a:ext cx="4114800" cy="4214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IVOS DE RETO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ERROS DE EXPEDI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PRODUTOS CONSIGNA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EXCESSO DE ESTOQU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GIRO BAIX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PRODUTOS SAZON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EFEITUO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ECALL DE PRODU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VALIDADE EXPIRA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ANIFICADOS TRÂNSI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Text Box 5"/>
          <p:cNvSpPr/>
          <p:nvPr/>
        </p:nvSpPr>
        <p:spPr>
          <a:xfrm>
            <a:off x="4724280" y="1905120"/>
            <a:ext cx="4419720" cy="421488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TINOS DOS PRODU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MERCADO PRIMÁ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CONSER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EMANUF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MERCADO SECUNDÁR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OAÇÃO EM CARID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ESMAN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EMANUFA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RECICLAGEM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DISPOSIÇÃO F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REVALORIZAÇÃO DOS BENS PÓS - CONSUM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8" name="Text Box 3"/>
          <p:cNvSpPr/>
          <p:nvPr/>
        </p:nvSpPr>
        <p:spPr>
          <a:xfrm>
            <a:off x="609480" y="2133720"/>
            <a:ext cx="3886200" cy="308304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TIVO DO RETORN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IM DE UTILIDADE AO PRIMEIRO UTILIZA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SALVAD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FIM DE VIDA ÚTIL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COMPONEN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SÍDUOS INDUSTRI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Text Box 4"/>
          <p:cNvSpPr/>
          <p:nvPr/>
        </p:nvSpPr>
        <p:spPr>
          <a:xfrm>
            <a:off x="4648320" y="2149560"/>
            <a:ext cx="3733560" cy="360756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STINOS DOS PRODUTO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MERCADO SECUNDÁ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MANUFATU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DESMAN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RECICLAGE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ATERRO SANITÁRI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INCINER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10920" y="40428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LGUNS CANAIS REVERSOS DE PÓS - VENDA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REVISTAS E JORNA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LIVRO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RETORNO DO VAREJ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EMBALAGENS RETORNÁVE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8439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00"/>
                </a:solidFill>
                <a:latin typeface="Arial"/>
              </a:rPr>
              <a:t>ALGUNS CANAIS REVERSOS DE PÓS-CONSUMO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LEILÕES INDUSTRI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AUTOMÓVEIS ; ELETRODOMÉST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COMPUTADORES E PERIFÉRIC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BATERIAS DE AUTOMÓVE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EMBALAGENS DESCARTÁVE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"/>
              </a:rPr>
              <a:t>RESÍDUOS INDUSTRIA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O NOVO CONSUMIDOR E A   </a:t>
            </a:r>
            <a:br>
              <a:rPr sz="3600"/>
            </a:br>
            <a:r>
              <a:rPr b="1" lang="pt-BR" sz="3600" spc="-1" strike="noStrike">
                <a:solidFill>
                  <a:srgbClr val="ffffff"/>
                </a:solidFill>
                <a:latin typeface="Arial"/>
              </a:rPr>
              <a:t>LOGÍSTICA REVERSA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5" name="Oval 3"/>
          <p:cNvSpPr/>
          <p:nvPr/>
        </p:nvSpPr>
        <p:spPr>
          <a:xfrm>
            <a:off x="457200" y="2743200"/>
            <a:ext cx="167652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OMPR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Oval 4"/>
          <p:cNvSpPr/>
          <p:nvPr/>
        </p:nvSpPr>
        <p:spPr>
          <a:xfrm>
            <a:off x="2286000" y="2819520"/>
            <a:ext cx="1447920" cy="3808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US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Oval 5"/>
          <p:cNvSpPr/>
          <p:nvPr/>
        </p:nvSpPr>
        <p:spPr>
          <a:xfrm>
            <a:off x="1600200" y="3200400"/>
            <a:ext cx="1376280" cy="38088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DISP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AutoShape 6"/>
          <p:cNvSpPr/>
          <p:nvPr/>
        </p:nvSpPr>
        <p:spPr>
          <a:xfrm>
            <a:off x="3809880" y="2514600"/>
            <a:ext cx="685800" cy="609480"/>
          </a:xfrm>
          <a:prstGeom prst="rightArrow">
            <a:avLst>
              <a:gd name="adj1" fmla="val 50000"/>
              <a:gd name="adj2" fmla="val 28131"/>
            </a:avLst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Oval 7"/>
          <p:cNvSpPr/>
          <p:nvPr/>
        </p:nvSpPr>
        <p:spPr>
          <a:xfrm>
            <a:off x="4648320" y="2895480"/>
            <a:ext cx="1523880" cy="45720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DUZI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Oval 8"/>
          <p:cNvSpPr/>
          <p:nvPr/>
        </p:nvSpPr>
        <p:spPr>
          <a:xfrm>
            <a:off x="6477120" y="2895480"/>
            <a:ext cx="1447560" cy="38124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US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1" name="Oval 9"/>
          <p:cNvSpPr/>
          <p:nvPr/>
        </p:nvSpPr>
        <p:spPr>
          <a:xfrm>
            <a:off x="5486400" y="3276720"/>
            <a:ext cx="1752480" cy="38088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RECIC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AutoShape 10"/>
          <p:cNvSpPr/>
          <p:nvPr/>
        </p:nvSpPr>
        <p:spPr>
          <a:xfrm rot="11800200">
            <a:off x="7010280" y="3657240"/>
            <a:ext cx="76680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AutoShape 11"/>
          <p:cNvSpPr/>
          <p:nvPr/>
        </p:nvSpPr>
        <p:spPr>
          <a:xfrm rot="10759800">
            <a:off x="4419000" y="4419000"/>
            <a:ext cx="60804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Oval 12"/>
          <p:cNvSpPr/>
          <p:nvPr/>
        </p:nvSpPr>
        <p:spPr>
          <a:xfrm>
            <a:off x="2590920" y="5257800"/>
            <a:ext cx="182880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GOVERNOS /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OCIEDAD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Oval 13"/>
          <p:cNvSpPr/>
          <p:nvPr/>
        </p:nvSpPr>
        <p:spPr>
          <a:xfrm>
            <a:off x="152280" y="5257800"/>
            <a:ext cx="198144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CADEI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RODUTIV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AutoShape 14"/>
          <p:cNvSpPr/>
          <p:nvPr/>
        </p:nvSpPr>
        <p:spPr>
          <a:xfrm>
            <a:off x="2133720" y="5334120"/>
            <a:ext cx="380880" cy="38088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e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Text Box 15"/>
          <p:cNvSpPr/>
          <p:nvPr/>
        </p:nvSpPr>
        <p:spPr>
          <a:xfrm>
            <a:off x="1295280" y="2057400"/>
            <a:ext cx="228600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UL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DO CONSUM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Text Box 16"/>
          <p:cNvSpPr/>
          <p:nvPr/>
        </p:nvSpPr>
        <p:spPr>
          <a:xfrm>
            <a:off x="5181480" y="2057400"/>
            <a:ext cx="243864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CULTURA AMBIENTALIS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Text Box 17"/>
          <p:cNvSpPr/>
          <p:nvPr/>
        </p:nvSpPr>
        <p:spPr>
          <a:xfrm>
            <a:off x="5562720" y="4572000"/>
            <a:ext cx="2286000" cy="7038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NOVO CLIENTE E CONSUMID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Text Box 18"/>
          <p:cNvSpPr/>
          <p:nvPr/>
        </p:nvSpPr>
        <p:spPr>
          <a:xfrm>
            <a:off x="1447920" y="4495680"/>
            <a:ext cx="2057400" cy="64260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LEGISLAÇÕES AMBIENTA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270000" y="171360"/>
            <a:ext cx="8569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O QUE SIGNIFICA GESTÃO INTEGRADA?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Processo que compreende as ações referentes à tomada de decisões políticas e estratégicas quanto aos aspectos institucionais, operacionais, financeiros, sociais e ambientais relacionados aos resíduos sólidos, capaz de orientar a organização do setor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A Gestão Nacional 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é que determina através da política nacional de resíduos sólidos, os planos, as estratégias setoriais, os aspectos legislativos, e as regulações ambientais e institucionai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A Gestão Estadual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é a que determina através de sua política estadual o conjunto de normas e procedimentos sobre o manejo integrado e a coloca para que os municípios tenham uma Lei que estabeleça normas e metas de gest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A Gestão Municipal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cuida mais dos aspectos de execução com qualidade o modelo desenvolvido, pelo manejo integrado dos resíduos, para um município ou para um conjunto de municípios, mediante a aprovação dos elementos de decisão política, administrativos, socioculturais e financeir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REGULAMENTAÇÕES </a:t>
            </a:r>
            <a:br>
              <a:rPr sz="3600"/>
            </a:b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AMBIENTAI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24000" y="224784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USA - RESPONSABILIZA GOVERNOS LOCAI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EUROPA - RESPONSABILIZAÇÃO DA CADEIA DIRE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JAPÃO - POUCAS LEIS E CONSCIÊNCIA MA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BRASIL: RESPONSABILIDADE PRODUTO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PRODUTOS PERIGOSOS: LEI EXPRES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MAIS : LEI EM CURSO NA CÂMARA FEDER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ffff00"/>
                </a:solidFill>
                <a:latin typeface="Arial"/>
              </a:rPr>
              <a:t>ESTRATÉGIAS DE IMPLANTAÇÃO DA LOG.REV. 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ESTRATÉGIA ORGANIZA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MPETITIVIDADE E RESPONSABILIDADE EMPRESARI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FUNÇÕES  ESPECÍFIC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ADEQUAÇÃO DO MIX DE PRODUT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OJETO PARA LOGÍSTICA REVERSA / EMBALAGENS</a:t>
            </a: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ROCESSOS  INDUSTRIAIS / ANÁLISE DO CICLO DE VID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ROJETO DA REDE REVER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NÍVEIS  DE INTEG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LETAS / CONSOLIDAÇÃO / MERCADOS / INFORMAÇÕ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PARCERIAS / TERCEIRIZAÇÕES 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PROJETO DOS ASPECTOS FISCA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LASSIFICAÇÕES / PROPRIEDA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3559320" y="2403360"/>
            <a:ext cx="260280" cy="451080"/>
            <a:chOff x="3559320" y="2403360"/>
            <a:chExt cx="260280" cy="451080"/>
          </a:xfrm>
        </p:grpSpPr>
        <p:sp>
          <p:nvSpPr>
            <p:cNvPr id="486" name="AutoShape 3"/>
            <p:cNvSpPr/>
            <p:nvPr/>
          </p:nvSpPr>
          <p:spPr>
            <a:xfrm>
              <a:off x="3565440" y="2403360"/>
              <a:ext cx="254160" cy="451080"/>
            </a:xfrm>
            <a:custGeom>
              <a:avLst/>
              <a:gdLst>
                <a:gd name="textAreaLeft" fmla="*/ 360 w 254160"/>
                <a:gd name="textAreaRight" fmla="*/ 253800 w 254160"/>
                <a:gd name="textAreaTop" fmla="*/ 360 h 451080"/>
                <a:gd name="textAreaBottom" fmla="*/ 450720 h 451080"/>
              </a:gdLst>
              <a:ahLst/>
              <a:rect l="textAreaLeft" t="textAreaTop" r="textAreaRight" b="textAreaBottom"/>
              <a:pathLst>
                <a:path w="21600" h="38312">
                  <a:moveTo>
                    <a:pt x="135" y="0"/>
                  </a:moveTo>
                  <a:arcTo wR="135" hR="135" stAng="16200000" swAng="-5400000"/>
                  <a:lnTo>
                    <a:pt x="0" y="38177"/>
                  </a:lnTo>
                  <a:arcTo wR="135" hR="135" stAng="10800000" swAng="-5400000"/>
                  <a:lnTo>
                    <a:pt x="21465" y="38312"/>
                  </a:lnTo>
                  <a:arcTo wR="135" hR="135" stAng="5400000" swAng="-5400000"/>
                  <a:lnTo>
                    <a:pt x="21600" y="135"/>
                  </a:lnTo>
                  <a:arcTo wR="135" hR="135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7" name="Group 4"/>
            <p:cNvGrpSpPr/>
            <p:nvPr/>
          </p:nvGrpSpPr>
          <p:grpSpPr>
            <a:xfrm>
              <a:off x="3559320" y="2403360"/>
              <a:ext cx="257760" cy="447840"/>
              <a:chOff x="3559320" y="2403360"/>
              <a:chExt cx="257760" cy="447840"/>
            </a:xfrm>
          </p:grpSpPr>
          <p:sp>
            <p:nvSpPr>
              <p:cNvPr id="488" name="AutoShape 5"/>
              <p:cNvSpPr/>
              <p:nvPr/>
            </p:nvSpPr>
            <p:spPr>
              <a:xfrm>
                <a:off x="3565440" y="2403360"/>
                <a:ext cx="249480" cy="447840"/>
              </a:xfrm>
              <a:custGeom>
                <a:avLst/>
                <a:gdLst>
                  <a:gd name="textAreaLeft" fmla="*/ 360 w 249480"/>
                  <a:gd name="textAreaRight" fmla="*/ 249120 w 249480"/>
                  <a:gd name="textAreaTop" fmla="*/ 360 h 447840"/>
                  <a:gd name="textAreaBottom" fmla="*/ 447480 h 447840"/>
                </a:gdLst>
                <a:ahLst/>
                <a:rect l="textAreaLeft" t="textAreaTop" r="textAreaRight" b="textAreaBottom"/>
                <a:pathLst>
                  <a:path w="21600" h="38749">
                    <a:moveTo>
                      <a:pt x="136" y="0"/>
                    </a:moveTo>
                    <a:arcTo wR="136" hR="136" stAng="16200000" swAng="-5400000"/>
                    <a:lnTo>
                      <a:pt x="0" y="38613"/>
                    </a:lnTo>
                    <a:arcTo wR="136" hR="136" stAng="10800000" swAng="-5400000"/>
                    <a:lnTo>
                      <a:pt x="21464" y="38749"/>
                    </a:lnTo>
                    <a:arcTo wR="136" hR="136" stAng="5400000" swAng="-5400000"/>
                    <a:lnTo>
                      <a:pt x="21600" y="136"/>
                    </a:lnTo>
                    <a:arcTo wR="136" hR="136" stAng="0" swAng="-5400000"/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89" name="Group 6"/>
              <p:cNvGrpSpPr/>
              <p:nvPr/>
            </p:nvGrpSpPr>
            <p:grpSpPr>
              <a:xfrm>
                <a:off x="3559320" y="2403360"/>
                <a:ext cx="257760" cy="444600"/>
                <a:chOff x="3559320" y="2403360"/>
                <a:chExt cx="257760" cy="444600"/>
              </a:xfrm>
            </p:grpSpPr>
            <p:sp>
              <p:nvSpPr>
                <p:cNvPr id="490" name="AutoShape 7"/>
                <p:cNvSpPr/>
                <p:nvPr/>
              </p:nvSpPr>
              <p:spPr>
                <a:xfrm>
                  <a:off x="3565440" y="2403360"/>
                  <a:ext cx="246600" cy="444600"/>
                </a:xfrm>
                <a:custGeom>
                  <a:avLst/>
                  <a:gdLst>
                    <a:gd name="textAreaLeft" fmla="*/ 360 w 246600"/>
                    <a:gd name="textAreaRight" fmla="*/ 246240 w 246600"/>
                    <a:gd name="textAreaTop" fmla="*/ 360 h 444600"/>
                    <a:gd name="textAreaBottom" fmla="*/ 444240 h 444600"/>
                  </a:gdLst>
                  <a:ahLst/>
                  <a:rect l="textAreaLeft" t="textAreaTop" r="textAreaRight" b="textAreaBottom"/>
                  <a:pathLst>
                    <a:path w="21600" h="38918">
                      <a:moveTo>
                        <a:pt x="136" y="0"/>
                      </a:moveTo>
                      <a:arcTo wR="136" hR="136" stAng="16200000" swAng="-5400000"/>
                      <a:lnTo>
                        <a:pt x="0" y="38782"/>
                      </a:lnTo>
                      <a:arcTo wR="136" hR="136" stAng="10800000" swAng="-5400000"/>
                      <a:lnTo>
                        <a:pt x="21464" y="38918"/>
                      </a:lnTo>
                      <a:arcTo wR="136" hR="136" stAng="5400000" swAng="-5400000"/>
                      <a:lnTo>
                        <a:pt x="21600" y="136"/>
                      </a:lnTo>
                      <a:arcTo wR="136" hR="136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1" name="Group 8"/>
                <p:cNvGrpSpPr/>
                <p:nvPr/>
              </p:nvGrpSpPr>
              <p:grpSpPr>
                <a:xfrm>
                  <a:off x="3559320" y="2403360"/>
                  <a:ext cx="257760" cy="442080"/>
                  <a:chOff x="3559320" y="2403360"/>
                  <a:chExt cx="257760" cy="442080"/>
                </a:xfrm>
              </p:grpSpPr>
              <p:sp>
                <p:nvSpPr>
                  <p:cNvPr id="492" name="AutoShape 9"/>
                  <p:cNvSpPr/>
                  <p:nvPr/>
                </p:nvSpPr>
                <p:spPr>
                  <a:xfrm>
                    <a:off x="3565440" y="2403360"/>
                    <a:ext cx="245160" cy="441360"/>
                  </a:xfrm>
                  <a:custGeom>
                    <a:avLst/>
                    <a:gdLst>
                      <a:gd name="textAreaLeft" fmla="*/ 360 w 245160"/>
                      <a:gd name="textAreaRight" fmla="*/ 244800 w 245160"/>
                      <a:gd name="textAreaTop" fmla="*/ 360 h 441360"/>
                      <a:gd name="textAreaBottom" fmla="*/ 441000 h 441360"/>
                    </a:gdLst>
                    <a:ahLst/>
                    <a:rect l="textAreaLeft" t="textAreaTop" r="textAreaRight" b="textAreaBottom"/>
                    <a:pathLst>
                      <a:path w="21600" h="38861">
                        <a:moveTo>
                          <a:pt x="136" y="0"/>
                        </a:moveTo>
                        <a:arcTo wR="136" hR="136" stAng="16200000" swAng="-5400000"/>
                        <a:lnTo>
                          <a:pt x="0" y="38725"/>
                        </a:lnTo>
                        <a:arcTo wR="136" hR="136" stAng="10800000" swAng="-5400000"/>
                        <a:lnTo>
                          <a:pt x="21464" y="38861"/>
                        </a:lnTo>
                        <a:arcTo wR="136" hR="136" stAng="5400000" swAng="-5400000"/>
                        <a:lnTo>
                          <a:pt x="21600" y="136"/>
                        </a:lnTo>
                        <a:arcTo wR="136" hR="136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" name="AutoShape 10"/>
                  <p:cNvSpPr/>
                  <p:nvPr/>
                </p:nvSpPr>
                <p:spPr>
                  <a:xfrm>
                    <a:off x="3559320" y="2403360"/>
                    <a:ext cx="257760" cy="442080"/>
                  </a:xfrm>
                  <a:custGeom>
                    <a:avLst/>
                    <a:gdLst>
                      <a:gd name="textAreaLeft" fmla="*/ 360 w 257760"/>
                      <a:gd name="textAreaRight" fmla="*/ 257400 w 257760"/>
                      <a:gd name="textAreaTop" fmla="*/ 360 h 442080"/>
                      <a:gd name="textAreaBottom" fmla="*/ 441720 h 442080"/>
                    </a:gdLst>
                    <a:ahLst/>
                    <a:rect l="textAreaLeft" t="textAreaTop" r="textAreaRight" b="textAreaBottom"/>
                    <a:pathLst>
                      <a:path w="21600" h="37024">
                        <a:moveTo>
                          <a:pt x="136" y="0"/>
                        </a:moveTo>
                        <a:arcTo wR="136" hR="136" stAng="16200000" swAng="-5400000"/>
                        <a:lnTo>
                          <a:pt x="0" y="36888"/>
                        </a:lnTo>
                        <a:arcTo wR="136" hR="136" stAng="10800000" swAng="-5400000"/>
                        <a:lnTo>
                          <a:pt x="21464" y="37024"/>
                        </a:lnTo>
                        <a:arcTo wR="136" hR="136" stAng="5400000" swAng="-5400000"/>
                        <a:lnTo>
                          <a:pt x="21600" y="136"/>
                        </a:lnTo>
                        <a:arcTo wR="136" hR="136" stAng="0" swAng="-5400000"/>
                        <a:close/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95000"/>
                      </a:lnSpc>
                      <a:tabLst>
                        <a:tab algn="l" pos="0"/>
                        <a:tab algn="l" pos="447840"/>
                        <a:tab algn="l" pos="896760"/>
                        <a:tab algn="l" pos="1346040"/>
                        <a:tab algn="l" pos="1795320"/>
                        <a:tab algn="l" pos="2244600"/>
                        <a:tab algn="l" pos="2693880"/>
                        <a:tab algn="l" pos="3143160"/>
                        <a:tab algn="l" pos="3592440"/>
                        <a:tab algn="l" pos="4041720"/>
                        <a:tab algn="l" pos="4491000"/>
                        <a:tab algn="l" pos="4940280"/>
                        <a:tab algn="l" pos="5389560"/>
                        <a:tab algn="l" pos="5838840"/>
                        <a:tab algn="l" pos="6288120"/>
                        <a:tab algn="l" pos="6737400"/>
                        <a:tab algn="l" pos="7186680"/>
                        <a:tab algn="l" pos="7635960"/>
                        <a:tab algn="l" pos="8085240"/>
                        <a:tab algn="l" pos="8534520"/>
                        <a:tab algn="l" pos="8983800"/>
                        <a:tab algn="l" pos="9144000"/>
                        <a:tab algn="l" pos="10058400"/>
                      </a:tabLst>
                    </a:pPr>
                    <a:r>
                      <a:rPr b="0" lang="en-GB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pic>
        <p:nvPicPr>
          <p:cNvPr id="494" name="Picture 11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477120" cy="623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10920" y="259920"/>
            <a:ext cx="7723080" cy="7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49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LOGÍSTICA REVERSA</a:t>
            </a:r>
            <a:endParaRPr b="0" lang="en-US" sz="3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20360" y="2016000"/>
            <a:ext cx="7723080" cy="407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275400" indent="-275400" algn="just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Promover ações para a garantia do fluxo de retorno dos resíduos sólidos gerados: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911520" indent="-258480" algn="just">
              <a:lnSpc>
                <a:spcPct val="95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para a própria cadeia produtiva do gerador; ou 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lvl="1" marL="911520" indent="-258480" algn="just">
              <a:lnSpc>
                <a:spcPct val="95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100" spc="-1" strike="noStrike">
                <a:solidFill>
                  <a:srgbClr val="ffffff"/>
                </a:solidFill>
                <a:latin typeface="Arial"/>
              </a:rPr>
              <a:t>para cadeias produtivas de outros geradores.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-27540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Reduzir a poluição e o desperdício de materiais, associados à geração de resíduos sólido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275400" indent="-27540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568440"/>
                <a:tab algn="l" pos="66816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Proporcionar maior incentivo à substituição dos insumos por outros que não degradem o meio ambiente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Rectangle 4"/>
          <p:cNvSpPr/>
          <p:nvPr/>
        </p:nvSpPr>
        <p:spPr>
          <a:xfrm>
            <a:off x="684360" y="1052640"/>
            <a:ext cx="772308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00"/>
                </a:solidFill>
                <a:latin typeface="Arial"/>
              </a:rPr>
              <a:t>INSTRUMENTO DE DESENVOLVIMENTO ECONÔMICO, AMBIENTAL E SOCIA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/>
          </p:nvPr>
        </p:nvSpPr>
        <p:spPr>
          <a:xfrm>
            <a:off x="685440" y="448920"/>
            <a:ext cx="7940520" cy="703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84120" indent="-384120" algn="just">
              <a:lnSpc>
                <a:spcPct val="95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Compatibilizar interesses conflitantes entre os agentes econômicos, ambientais, sociais, culturais e políticos que atuam nos município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Promover o alinhamento entre os processos de gestão empresarial e mercadológica com os de gestão ambiental, com o objetivo de desenvolver  estratégias sustentávei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Estimular a produção e o consumo de produtos derivados de materiais reciclados  e ambientalmente corretos;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Propiciar que  as atividades produtivas alcancem marco de eficiência e sustentabilidade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84120" indent="0" algn="just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12240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685440" y="228240"/>
            <a:ext cx="3808440" cy="658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Na implementaçã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revenir a geração dos resíduos sólidos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duzir os resíduos sólidos na sua origem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reutilizar os materiais, maximizando o nível de rotação do sistema revers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mplementar sistemas de recuperação dos resíduos sólidos,  na forma de novas matérias-primas,  novos  produtos ou em outros ciclos produtiv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646160" y="609120"/>
            <a:ext cx="4116600" cy="576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688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Projetos consorciados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omentar e regular o mercado de resíduos sólidos sujeitos à reutilização e tratamento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centivar o crescimento deste mercado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-3268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iabilizar a infra-estrutura necessária para a coleta, tratamento e comercialização  dos resíduos sólidos na forma de novas matérias-prima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68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1" name="Group 4"/>
          <p:cNvGrpSpPr/>
          <p:nvPr/>
        </p:nvGrpSpPr>
        <p:grpSpPr>
          <a:xfrm>
            <a:off x="6460560" y="6451560"/>
            <a:ext cx="2675520" cy="384120"/>
            <a:chOff x="6460560" y="6451560"/>
            <a:chExt cx="2675520" cy="384120"/>
          </a:xfrm>
        </p:grpSpPr>
        <p:sp>
          <p:nvSpPr>
            <p:cNvPr id="502" name="AutoShape 5"/>
            <p:cNvSpPr/>
            <p:nvPr/>
          </p:nvSpPr>
          <p:spPr>
            <a:xfrm>
              <a:off x="6477120" y="6451560"/>
              <a:ext cx="2658960" cy="38412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03" name="Group 6"/>
            <p:cNvGrpSpPr/>
            <p:nvPr/>
          </p:nvGrpSpPr>
          <p:grpSpPr>
            <a:xfrm>
              <a:off x="6460560" y="6451560"/>
              <a:ext cx="2672640" cy="384120"/>
              <a:chOff x="6460560" y="6451560"/>
              <a:chExt cx="2672640" cy="384120"/>
            </a:xfrm>
          </p:grpSpPr>
          <p:sp>
            <p:nvSpPr>
              <p:cNvPr id="504" name="AutoShape 7"/>
              <p:cNvSpPr/>
              <p:nvPr/>
            </p:nvSpPr>
            <p:spPr>
              <a:xfrm>
                <a:off x="6477120" y="6451560"/>
                <a:ext cx="2656080" cy="372960"/>
              </a:xfrm>
              <a:prstGeom prst="roundRect">
                <a:avLst>
                  <a:gd name="adj" fmla="val 421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05" name="Group 8"/>
              <p:cNvGrpSpPr/>
              <p:nvPr/>
            </p:nvGrpSpPr>
            <p:grpSpPr>
              <a:xfrm>
                <a:off x="6460560" y="6451560"/>
                <a:ext cx="2672640" cy="384120"/>
                <a:chOff x="6460560" y="6451560"/>
                <a:chExt cx="2672640" cy="384120"/>
              </a:xfrm>
            </p:grpSpPr>
            <p:sp>
              <p:nvSpPr>
                <p:cNvPr id="506" name="AutoShape 9"/>
                <p:cNvSpPr/>
                <p:nvPr/>
              </p:nvSpPr>
              <p:spPr>
                <a:xfrm>
                  <a:off x="6477120" y="6451560"/>
                  <a:ext cx="2654280" cy="36504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07" name="Group 10"/>
                <p:cNvGrpSpPr/>
                <p:nvPr/>
              </p:nvGrpSpPr>
              <p:grpSpPr>
                <a:xfrm>
                  <a:off x="6460560" y="6451560"/>
                  <a:ext cx="2672640" cy="384120"/>
                  <a:chOff x="6460560" y="6451560"/>
                  <a:chExt cx="2672640" cy="384120"/>
                </a:xfrm>
              </p:grpSpPr>
              <p:sp>
                <p:nvSpPr>
                  <p:cNvPr id="508" name="AutoShape 11"/>
                  <p:cNvSpPr/>
                  <p:nvPr/>
                </p:nvSpPr>
                <p:spPr>
                  <a:xfrm>
                    <a:off x="6477120" y="6451560"/>
                    <a:ext cx="2654280" cy="357120"/>
                  </a:xfrm>
                  <a:prstGeom prst="roundRect">
                    <a:avLst>
                      <a:gd name="adj" fmla="val 435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09" name="Group 12"/>
                  <p:cNvGrpSpPr/>
                  <p:nvPr/>
                </p:nvGrpSpPr>
                <p:grpSpPr>
                  <a:xfrm>
                    <a:off x="6460560" y="6451560"/>
                    <a:ext cx="2672640" cy="384120"/>
                    <a:chOff x="6460560" y="6451560"/>
                    <a:chExt cx="2672640" cy="384120"/>
                  </a:xfrm>
                </p:grpSpPr>
                <p:sp>
                  <p:nvSpPr>
                    <p:cNvPr id="510" name="AutoShape 13"/>
                    <p:cNvSpPr/>
                    <p:nvPr/>
                  </p:nvSpPr>
                  <p:spPr>
                    <a:xfrm>
                      <a:off x="6477120" y="6451560"/>
                      <a:ext cx="2656080" cy="345960"/>
                    </a:xfrm>
                    <a:prstGeom prst="roundRect">
                      <a:avLst>
                        <a:gd name="adj" fmla="val 449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11" name="Group 14"/>
                    <p:cNvGrpSpPr/>
                    <p:nvPr/>
                  </p:nvGrpSpPr>
                  <p:grpSpPr>
                    <a:xfrm>
                      <a:off x="6460560" y="6451560"/>
                      <a:ext cx="2671560" cy="384120"/>
                      <a:chOff x="6460560" y="6451560"/>
                      <a:chExt cx="2671560" cy="384120"/>
                    </a:xfrm>
                  </p:grpSpPr>
                  <p:sp>
                    <p:nvSpPr>
                      <p:cNvPr id="512" name="AutoShape 15"/>
                      <p:cNvSpPr/>
                      <p:nvPr/>
                    </p:nvSpPr>
                    <p:spPr>
                      <a:xfrm>
                        <a:off x="6477120" y="6451560"/>
                        <a:ext cx="2649600" cy="339840"/>
                      </a:xfrm>
                      <a:prstGeom prst="roundRect">
                        <a:avLst>
                          <a:gd name="adj" fmla="val 454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13" name="Group 16"/>
                      <p:cNvGrpSpPr/>
                      <p:nvPr/>
                    </p:nvGrpSpPr>
                    <p:grpSpPr>
                      <a:xfrm>
                        <a:off x="6460560" y="6451560"/>
                        <a:ext cx="2671560" cy="384120"/>
                        <a:chOff x="6460560" y="6451560"/>
                        <a:chExt cx="2671560" cy="384120"/>
                      </a:xfrm>
                    </p:grpSpPr>
                    <p:sp>
                      <p:nvSpPr>
                        <p:cNvPr id="514" name="AutoShape 17"/>
                        <p:cNvSpPr/>
                        <p:nvPr/>
                      </p:nvSpPr>
                      <p:spPr>
                        <a:xfrm>
                          <a:off x="6477120" y="6451560"/>
                          <a:ext cx="2644560" cy="333720"/>
                        </a:xfrm>
                        <a:prstGeom prst="roundRect">
                          <a:avLst>
                            <a:gd name="adj" fmla="val 463"/>
                          </a:avLst>
                        </a:prstGeom>
                        <a:noFill/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ffffff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15" name="Group 18"/>
                        <p:cNvGrpSpPr/>
                        <p:nvPr/>
                      </p:nvGrpSpPr>
                      <p:grpSpPr>
                        <a:xfrm>
                          <a:off x="6460560" y="6451560"/>
                          <a:ext cx="2671560" cy="384120"/>
                          <a:chOff x="6460560" y="6451560"/>
                          <a:chExt cx="2671560" cy="384120"/>
                        </a:xfrm>
                      </p:grpSpPr>
                      <p:sp>
                        <p:nvSpPr>
                          <p:cNvPr id="516" name="AutoShape 19"/>
                          <p:cNvSpPr/>
                          <p:nvPr/>
                        </p:nvSpPr>
                        <p:spPr>
                          <a:xfrm>
                            <a:off x="6477120" y="6451560"/>
                            <a:ext cx="2641320" cy="329040"/>
                          </a:xfrm>
                          <a:prstGeom prst="roundRect">
                            <a:avLst>
                              <a:gd name="adj" fmla="val 463"/>
                            </a:avLst>
                          </a:prstGeom>
                          <a:noFill/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ffffff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517" name="Group 20"/>
                          <p:cNvGrpSpPr/>
                          <p:nvPr/>
                        </p:nvGrpSpPr>
                        <p:grpSpPr>
                          <a:xfrm>
                            <a:off x="6460560" y="6451560"/>
                            <a:ext cx="2671560" cy="384120"/>
                            <a:chOff x="6460560" y="6451560"/>
                            <a:chExt cx="2671560" cy="384120"/>
                          </a:xfrm>
                        </p:grpSpPr>
                        <p:sp>
                          <p:nvSpPr>
                            <p:cNvPr id="518" name="AutoShape 21"/>
                            <p:cNvSpPr/>
                            <p:nvPr/>
                          </p:nvSpPr>
                          <p:spPr>
                            <a:xfrm>
                              <a:off x="6477120" y="6451560"/>
                              <a:ext cx="2639880" cy="32760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ctr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519" name="AutoShape 22"/>
                            <p:cNvSpPr/>
                            <p:nvPr/>
                          </p:nvSpPr>
                          <p:spPr>
                            <a:xfrm>
                              <a:off x="6460560" y="6451560"/>
                              <a:ext cx="2671560" cy="384120"/>
                            </a:xfrm>
                            <a:prstGeom prst="roundRect">
                              <a:avLst>
                                <a:gd name="adj" fmla="val 463"/>
                              </a:avLst>
                            </a:prstGeom>
                            <a:noFill/>
                            <a:ln w="0">
                              <a:noFill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wrap="none" lIns="90000" rIns="90000" tIns="46800" bIns="46800" anchor="t">
                              <a:spAutoFit/>
                            </a:bodyPr>
                            <a:p>
                              <a:pPr>
                                <a:lnSpc>
                                  <a:spcPct val="95000"/>
                                </a:lnSpc>
                                <a:tabLst>
                                  <a:tab algn="l" pos="0"/>
                                  <a:tab algn="l" pos="447840"/>
                                  <a:tab algn="l" pos="896760"/>
                                  <a:tab algn="l" pos="1346040"/>
                                  <a:tab algn="l" pos="1795320"/>
                                  <a:tab algn="l" pos="2244600"/>
                                  <a:tab algn="l" pos="2693880"/>
                                  <a:tab algn="l" pos="3143160"/>
                                  <a:tab algn="l" pos="3592440"/>
                                  <a:tab algn="l" pos="4041720"/>
                                  <a:tab algn="l" pos="4491000"/>
                                  <a:tab algn="l" pos="4940280"/>
                                  <a:tab algn="l" pos="5389560"/>
                                  <a:tab algn="l" pos="5838840"/>
                                  <a:tab algn="l" pos="6288120"/>
                                  <a:tab algn="l" pos="6737400"/>
                                  <a:tab algn="l" pos="7186680"/>
                                  <a:tab algn="l" pos="7635960"/>
                                  <a:tab algn="l" pos="8085240"/>
                                  <a:tab algn="l" pos="8534520"/>
                                  <a:tab algn="l" pos="8983800"/>
                                  <a:tab algn="l" pos="9144000"/>
                                  <a:tab algn="l" pos="10058400"/>
                                </a:tabLst>
                              </a:pPr>
                              <a:r>
                                <a:rPr b="1" lang="en-GB" sz="2000" spc="-1" strike="noStrike">
                                  <a:solidFill>
                                    <a:srgbClr val="808000"/>
                                  </a:solidFill>
                                  <a:latin typeface="Times New Roman"/>
                                </a:rPr>
                                <a:t>GAU/PGT/SQA/MMA</a:t>
                              </a:r>
                              <a:endParaRPr b="0" lang="en-US" sz="2000" spc="-1" strike="noStrike">
                                <a:solidFill>
                                  <a:srgbClr val="ffffff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</p:grpSp>
              </p:grpSp>
            </p:grpSp>
          </p:grpSp>
        </p:grpSp>
      </p:grpSp>
      <p:sp>
        <p:nvSpPr>
          <p:cNvPr id="520" name="Freeform 23"/>
          <p:cNvSpPr/>
          <p:nvPr/>
        </p:nvSpPr>
        <p:spPr>
          <a:xfrm>
            <a:off x="4495680" y="533520"/>
            <a:ext cx="443160" cy="609480"/>
          </a:xfrm>
          <a:custGeom>
            <a:avLst/>
            <a:gdLst>
              <a:gd name="textAreaLeft" fmla="*/ 0 w 443160"/>
              <a:gd name="textAreaRight" fmla="*/ 443520 w 44316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Freeform 24"/>
          <p:cNvSpPr/>
          <p:nvPr/>
        </p:nvSpPr>
        <p:spPr>
          <a:xfrm>
            <a:off x="395280" y="609480"/>
            <a:ext cx="442800" cy="609840"/>
          </a:xfrm>
          <a:custGeom>
            <a:avLst/>
            <a:gdLst>
              <a:gd name="textAreaLeft" fmla="*/ 0 w 442800"/>
              <a:gd name="textAreaRight" fmla="*/ 443160 w 4428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761760" y="48960"/>
            <a:ext cx="7769160" cy="54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brigações 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23" name="Group 3"/>
          <p:cNvGrpSpPr/>
          <p:nvPr/>
        </p:nvGrpSpPr>
        <p:grpSpPr>
          <a:xfrm>
            <a:off x="228600" y="609480"/>
            <a:ext cx="8762760" cy="6267600"/>
            <a:chOff x="228600" y="609480"/>
            <a:chExt cx="8762760" cy="6267600"/>
          </a:xfrm>
        </p:grpSpPr>
        <p:grpSp>
          <p:nvGrpSpPr>
            <p:cNvPr id="524" name="Group 4"/>
            <p:cNvGrpSpPr/>
            <p:nvPr/>
          </p:nvGrpSpPr>
          <p:grpSpPr>
            <a:xfrm>
              <a:off x="228600" y="5165280"/>
              <a:ext cx="8748000" cy="1711800"/>
              <a:chOff x="228600" y="5165280"/>
              <a:chExt cx="8748000" cy="1711800"/>
            </a:xfrm>
          </p:grpSpPr>
          <p:sp>
            <p:nvSpPr>
              <p:cNvPr id="525" name="AutoShape 5"/>
              <p:cNvSpPr/>
              <p:nvPr/>
            </p:nvSpPr>
            <p:spPr>
              <a:xfrm>
                <a:off x="228600" y="5165280"/>
                <a:ext cx="8748000" cy="1679400"/>
              </a:xfrm>
              <a:prstGeom prst="roundRect">
                <a:avLst>
                  <a:gd name="adj" fmla="val 102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Text Box 6"/>
              <p:cNvSpPr/>
              <p:nvPr/>
            </p:nvSpPr>
            <p:spPr>
              <a:xfrm>
                <a:off x="228600" y="5165280"/>
                <a:ext cx="8748000" cy="171180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49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Times New Roman"/>
                  </a:rPr>
                  <a:t>d) garantir que estejam impressas, em local visível e destacado, nos materiais que acondicionam os produtos de sua responsabilidade, informações sobre as possibilidades de reutilização e tratamento, advertindo o consumidor quanto aos riscos ambientais resultantes de seu abandono no solo, em cursos d'água ou qualquer outro local que não o previsto em lei, ou autorizado pelo órgão ambiental competente, bem como, divulgar por meio de campanhas publicitárias, programas  e mensagens educativas de combate ao descarte indevido e inadequado no meio ambiente dos resíduos sólidos dos produtos de sua responsabilidade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27" name="AutoShape 7"/>
            <p:cNvSpPr/>
            <p:nvPr/>
          </p:nvSpPr>
          <p:spPr>
            <a:xfrm>
              <a:off x="6066720" y="3945960"/>
              <a:ext cx="2922840" cy="1224360"/>
            </a:xfrm>
            <a:prstGeom prst="roundRect">
              <a:avLst>
                <a:gd name="adj" fmla="val 144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AutoShape 8"/>
            <p:cNvSpPr/>
            <p:nvPr/>
          </p:nvSpPr>
          <p:spPr>
            <a:xfrm>
              <a:off x="3151800" y="3945960"/>
              <a:ext cx="2924640" cy="1224360"/>
            </a:xfrm>
            <a:prstGeom prst="roundRect">
              <a:avLst>
                <a:gd name="adj" fmla="val 144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9" name="Group 9"/>
            <p:cNvGrpSpPr/>
            <p:nvPr/>
          </p:nvGrpSpPr>
          <p:grpSpPr>
            <a:xfrm>
              <a:off x="228600" y="3945960"/>
              <a:ext cx="2912760" cy="1211400"/>
              <a:chOff x="228600" y="3945960"/>
              <a:chExt cx="2912760" cy="1211400"/>
            </a:xfrm>
          </p:grpSpPr>
          <p:sp>
            <p:nvSpPr>
              <p:cNvPr id="530" name="AutoShape 10"/>
              <p:cNvSpPr/>
              <p:nvPr/>
            </p:nvSpPr>
            <p:spPr>
              <a:xfrm>
                <a:off x="228600" y="3945960"/>
                <a:ext cx="2912760" cy="1211400"/>
              </a:xfrm>
              <a:prstGeom prst="roundRect">
                <a:avLst>
                  <a:gd name="adj" fmla="val 144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Text Box 11"/>
              <p:cNvSpPr/>
              <p:nvPr/>
            </p:nvSpPr>
            <p:spPr>
              <a:xfrm>
                <a:off x="228600" y="3945960"/>
                <a:ext cx="2912760" cy="1105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</a:rPr>
                  <a:t>c</a:t>
                </a:r>
                <a:r>
                  <a:rPr b="1" lang="en-GB" sz="1400" spc="-1" strike="noStrike">
                    <a:solidFill>
                      <a:srgbClr val="ffffff"/>
                    </a:solidFill>
                    <a:latin typeface="Times New Roman"/>
                  </a:rPr>
                  <a:t>) articular com sua rede de comercialização a implementação da estrutura necessária para garantir o fluxo reverso dos resíduos sólidos gerados</a:t>
                </a: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</a:rPr>
                  <a:t>;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32" name="AutoShape 12"/>
            <p:cNvSpPr/>
            <p:nvPr/>
          </p:nvSpPr>
          <p:spPr>
            <a:xfrm>
              <a:off x="6066720" y="2643480"/>
              <a:ext cx="2922840" cy="1308240"/>
            </a:xfrm>
            <a:prstGeom prst="roundRect">
              <a:avLst>
                <a:gd name="adj" fmla="val 134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3" name="Group 13"/>
            <p:cNvGrpSpPr/>
            <p:nvPr/>
          </p:nvGrpSpPr>
          <p:grpSpPr>
            <a:xfrm>
              <a:off x="3151800" y="2643480"/>
              <a:ext cx="2910960" cy="1295280"/>
              <a:chOff x="3151800" y="2643480"/>
              <a:chExt cx="2910960" cy="1295280"/>
            </a:xfrm>
          </p:grpSpPr>
          <p:sp>
            <p:nvSpPr>
              <p:cNvPr id="534" name="AutoShape 14"/>
              <p:cNvSpPr/>
              <p:nvPr/>
            </p:nvSpPr>
            <p:spPr>
              <a:xfrm>
                <a:off x="3151800" y="2643480"/>
                <a:ext cx="2910960" cy="1295280"/>
              </a:xfrm>
              <a:prstGeom prst="roundRect">
                <a:avLst>
                  <a:gd name="adj" fmla="val 134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Text Box 15"/>
              <p:cNvSpPr/>
              <p:nvPr/>
            </p:nvSpPr>
            <p:spPr>
              <a:xfrm>
                <a:off x="3151800" y="2643480"/>
                <a:ext cx="2910960" cy="1105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Times New Roman"/>
                  </a:rPr>
                  <a:t>b)  garantir o recebimento,  criar e manter postos destinados à coleta dos resíduos sólidos do sistema reverso,  e informar ao consumidor a localização desses postos.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Group 16"/>
            <p:cNvGrpSpPr/>
            <p:nvPr/>
          </p:nvGrpSpPr>
          <p:grpSpPr>
            <a:xfrm>
              <a:off x="228600" y="2643480"/>
              <a:ext cx="2912760" cy="1295280"/>
              <a:chOff x="228600" y="2643480"/>
              <a:chExt cx="2912760" cy="1295280"/>
            </a:xfrm>
          </p:grpSpPr>
          <p:sp>
            <p:nvSpPr>
              <p:cNvPr id="537" name="AutoShape 17"/>
              <p:cNvSpPr/>
              <p:nvPr/>
            </p:nvSpPr>
            <p:spPr>
              <a:xfrm>
                <a:off x="228600" y="2643480"/>
                <a:ext cx="2912760" cy="1295280"/>
              </a:xfrm>
              <a:prstGeom prst="roundRect">
                <a:avLst>
                  <a:gd name="adj" fmla="val 134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Text Box 18"/>
              <p:cNvSpPr/>
              <p:nvPr/>
            </p:nvSpPr>
            <p:spPr>
              <a:xfrm>
                <a:off x="228600" y="2643480"/>
                <a:ext cx="2912760" cy="110556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ffffff"/>
                    </a:solidFill>
                    <a:latin typeface="Times New Roman"/>
                  </a:rPr>
                  <a:t>b) coletar os resíduos sólidos e dar disposição final ambientalmente adequada aos rejeitos, sob pena de  responder civil e criminalmente nos termos da legislação ambiental;  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39" name="Group 19"/>
            <p:cNvGrpSpPr/>
            <p:nvPr/>
          </p:nvGrpSpPr>
          <p:grpSpPr>
            <a:xfrm>
              <a:off x="6066720" y="1204560"/>
              <a:ext cx="2910960" cy="1480680"/>
              <a:chOff x="6066720" y="1204560"/>
              <a:chExt cx="2910960" cy="1480680"/>
            </a:xfrm>
          </p:grpSpPr>
          <p:sp>
            <p:nvSpPr>
              <p:cNvPr id="540" name="AutoShape 20"/>
              <p:cNvSpPr/>
              <p:nvPr/>
            </p:nvSpPr>
            <p:spPr>
              <a:xfrm>
                <a:off x="6066720" y="1204560"/>
                <a:ext cx="2910960" cy="1427400"/>
              </a:xfrm>
              <a:prstGeom prst="roundRect">
                <a:avLst>
                  <a:gd name="adj" fmla="val 125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Text Box 21"/>
              <p:cNvSpPr/>
              <p:nvPr/>
            </p:nvSpPr>
            <p:spPr>
              <a:xfrm>
                <a:off x="6066720" y="1204560"/>
                <a:ext cx="2910960" cy="14806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Times New Roman"/>
                  </a:rPr>
                  <a:t>a) após a utilização do produto, efetuar a entrega  dos resíduos sólidos reversos aos comerciantes e distribuidores, ou destiná-los aos postos de coleta especificados.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2" name="Group 22"/>
            <p:cNvGrpSpPr/>
            <p:nvPr/>
          </p:nvGrpSpPr>
          <p:grpSpPr>
            <a:xfrm>
              <a:off x="3151800" y="1204560"/>
              <a:ext cx="2910960" cy="1470240"/>
              <a:chOff x="3151800" y="1204560"/>
              <a:chExt cx="2910960" cy="1470240"/>
            </a:xfrm>
          </p:grpSpPr>
          <p:sp>
            <p:nvSpPr>
              <p:cNvPr id="543" name="AutoShape 23"/>
              <p:cNvSpPr/>
              <p:nvPr/>
            </p:nvSpPr>
            <p:spPr>
              <a:xfrm>
                <a:off x="3151800" y="1204560"/>
                <a:ext cx="2910960" cy="1427400"/>
              </a:xfrm>
              <a:prstGeom prst="roundRect">
                <a:avLst>
                  <a:gd name="adj" fmla="val 125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Text Box 24"/>
              <p:cNvSpPr/>
              <p:nvPr/>
            </p:nvSpPr>
            <p:spPr>
              <a:xfrm>
                <a:off x="3151800" y="1204560"/>
                <a:ext cx="2910960" cy="14702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600" spc="-1" strike="noStrike">
                    <a:solidFill>
                      <a:srgbClr val="ffffff"/>
                    </a:solidFill>
                    <a:latin typeface="Times New Roman"/>
                  </a:rPr>
                  <a:t>a) receber, acondicionar e armazenar temporariamente, de forma ambientalmente segura, os resíduos sólidos do sistema reverso;</a:t>
                </a: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5" name="Group 25"/>
            <p:cNvGrpSpPr/>
            <p:nvPr/>
          </p:nvGrpSpPr>
          <p:grpSpPr>
            <a:xfrm>
              <a:off x="228600" y="1204560"/>
              <a:ext cx="2912760" cy="1427400"/>
              <a:chOff x="228600" y="1204560"/>
              <a:chExt cx="2912760" cy="1427400"/>
            </a:xfrm>
          </p:grpSpPr>
          <p:sp>
            <p:nvSpPr>
              <p:cNvPr id="546" name="AutoShape 26"/>
              <p:cNvSpPr/>
              <p:nvPr/>
            </p:nvSpPr>
            <p:spPr>
              <a:xfrm>
                <a:off x="228600" y="1204560"/>
                <a:ext cx="2912760" cy="1427400"/>
              </a:xfrm>
              <a:prstGeom prst="roundRect">
                <a:avLst>
                  <a:gd name="adj" fmla="val 125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Text Box 27"/>
              <p:cNvSpPr/>
              <p:nvPr/>
            </p:nvSpPr>
            <p:spPr>
              <a:xfrm>
                <a:off x="228600" y="1204560"/>
                <a:ext cx="2912760" cy="7873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ff"/>
                    </a:solidFill>
                    <a:latin typeface="Times New Roman"/>
                  </a:rPr>
                  <a:t>a</a:t>
                </a:r>
                <a:r>
                  <a:rPr b="1" lang="en-GB" sz="1600" spc="-1" strike="noStrike">
                    <a:solidFill>
                      <a:srgbClr val="ffffff"/>
                    </a:solidFill>
                    <a:latin typeface="Times New Roman"/>
                  </a:rPr>
                  <a:t>) adotar tecnologias de modo a absorver ou reaproveitar os resíduos sólidos reversos;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Group 28"/>
            <p:cNvGrpSpPr/>
            <p:nvPr/>
          </p:nvGrpSpPr>
          <p:grpSpPr>
            <a:xfrm>
              <a:off x="6066720" y="609480"/>
              <a:ext cx="2907720" cy="578520"/>
              <a:chOff x="6066720" y="609480"/>
              <a:chExt cx="2907720" cy="578520"/>
            </a:xfrm>
          </p:grpSpPr>
          <p:sp>
            <p:nvSpPr>
              <p:cNvPr id="549" name="AutoShape 29"/>
              <p:cNvSpPr/>
              <p:nvPr/>
            </p:nvSpPr>
            <p:spPr>
              <a:xfrm>
                <a:off x="6066720" y="609480"/>
                <a:ext cx="2907720" cy="578520"/>
              </a:xfrm>
              <a:prstGeom prst="roundRect">
                <a:avLst>
                  <a:gd name="adj" fmla="val 306"/>
                </a:avLst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Text Box 30"/>
              <p:cNvSpPr/>
              <p:nvPr/>
            </p:nvSpPr>
            <p:spPr>
              <a:xfrm>
                <a:off x="6066720" y="609480"/>
                <a:ext cx="2907720" cy="267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33440"/>
                    <a:tab algn="l" pos="882720"/>
                    <a:tab algn="l" pos="1332000"/>
                    <a:tab algn="l" pos="1781280"/>
                    <a:tab algn="l" pos="2230560"/>
                    <a:tab algn="l" pos="2679840"/>
                    <a:tab algn="l" pos="3129120"/>
                    <a:tab algn="l" pos="3578400"/>
                    <a:tab algn="l" pos="4027320"/>
                    <a:tab algn="l" pos="4476600"/>
                    <a:tab algn="l" pos="4925880"/>
                    <a:tab algn="l" pos="5389560"/>
                    <a:tab algn="l" pos="5824440"/>
                    <a:tab algn="l" pos="6273720"/>
                    <a:tab algn="l" pos="6723000"/>
                    <a:tab algn="l" pos="7172280"/>
                    <a:tab algn="l" pos="7621560"/>
                    <a:tab algn="l" pos="8070840"/>
                    <a:tab algn="l" pos="8520120"/>
                    <a:tab algn="l" pos="8969400"/>
                    <a:tab algn="l" pos="8970840"/>
                    <a:tab algn="l" pos="9420120"/>
                    <a:tab algn="l" pos="9869400"/>
                    <a:tab algn="l" pos="10321920"/>
                    <a:tab algn="l" pos="10779120"/>
                    <a:tab algn="l" pos="10780560"/>
                  </a:tabLst>
                </a:pPr>
                <a:r>
                  <a:rPr b="1" lang="en-GB" sz="1200" spc="-1" strike="noStrike">
                    <a:solidFill>
                      <a:srgbClr val="ffff00"/>
                    </a:solidFill>
                    <a:latin typeface="Times New Roman"/>
                  </a:rPr>
                  <a:t> </a:t>
                </a:r>
                <a:r>
                  <a:rPr b="1" lang="en-GB" sz="1200" spc="-1" strike="noStrike">
                    <a:solidFill>
                      <a:srgbClr val="ffff00"/>
                    </a:solidFill>
                    <a:latin typeface="Times New Roman"/>
                  </a:rPr>
                  <a:t>CONSUMIDORES:</a:t>
                </a:r>
                <a:r>
                  <a:rPr b="1" lang="en-GB" sz="1200" spc="-1" strike="noStrike">
                    <a:solidFill>
                      <a:srgbClr val="ffff00"/>
                    </a:solidFill>
                    <a:latin typeface="Times New Roman"/>
                  </a:rPr>
                  <a:t>	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1" name="Group 31"/>
            <p:cNvGrpSpPr/>
            <p:nvPr/>
          </p:nvGrpSpPr>
          <p:grpSpPr>
            <a:xfrm>
              <a:off x="3151800" y="609480"/>
              <a:ext cx="2907720" cy="578520"/>
              <a:chOff x="3151800" y="609480"/>
              <a:chExt cx="2907720" cy="578520"/>
            </a:xfrm>
          </p:grpSpPr>
          <p:sp>
            <p:nvSpPr>
              <p:cNvPr id="552" name="AutoShape 32"/>
              <p:cNvSpPr/>
              <p:nvPr/>
            </p:nvSpPr>
            <p:spPr>
              <a:xfrm>
                <a:off x="3151800" y="609480"/>
                <a:ext cx="2907720" cy="578520"/>
              </a:xfrm>
              <a:prstGeom prst="roundRect">
                <a:avLst>
                  <a:gd name="adj" fmla="val 306"/>
                </a:avLst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Text Box 33"/>
              <p:cNvSpPr/>
              <p:nvPr/>
            </p:nvSpPr>
            <p:spPr>
              <a:xfrm>
                <a:off x="3151800" y="609480"/>
                <a:ext cx="2907720" cy="4402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00"/>
                    </a:solidFill>
                    <a:latin typeface="Times New Roman"/>
                  </a:rPr>
                  <a:t>REVENDEDORES, COMERCIANTES E DISTRIBUIDORES: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54" name="Group 34"/>
            <p:cNvGrpSpPr/>
            <p:nvPr/>
          </p:nvGrpSpPr>
          <p:grpSpPr>
            <a:xfrm>
              <a:off x="228600" y="609480"/>
              <a:ext cx="2909520" cy="578520"/>
              <a:chOff x="228600" y="609480"/>
              <a:chExt cx="2909520" cy="578520"/>
            </a:xfrm>
          </p:grpSpPr>
          <p:sp>
            <p:nvSpPr>
              <p:cNvPr id="555" name="AutoShape 35"/>
              <p:cNvSpPr/>
              <p:nvPr/>
            </p:nvSpPr>
            <p:spPr>
              <a:xfrm>
                <a:off x="228600" y="609480"/>
                <a:ext cx="2909520" cy="578520"/>
              </a:xfrm>
              <a:prstGeom prst="roundRect">
                <a:avLst>
                  <a:gd name="adj" fmla="val 306"/>
                </a:avLst>
              </a:prstGeom>
              <a:solidFill>
                <a:srgbClr val="66cc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Text Box 36"/>
              <p:cNvSpPr/>
              <p:nvPr/>
            </p:nvSpPr>
            <p:spPr>
              <a:xfrm>
                <a:off x="228600" y="609480"/>
                <a:ext cx="2909520" cy="2671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just">
                  <a:lnSpc>
                    <a:spcPct val="95000"/>
                  </a:lnSpc>
                  <a:spcBef>
                    <a:spcPts val="300"/>
                  </a:spcBef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ffff00"/>
                    </a:solidFill>
                    <a:latin typeface="Times New Roman"/>
                  </a:rPr>
                  <a:t>FABRICANTES E IMPORTADORES: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7" name="Line 37"/>
            <p:cNvSpPr/>
            <p:nvPr/>
          </p:nvSpPr>
          <p:spPr>
            <a:xfrm>
              <a:off x="228600" y="609480"/>
              <a:ext cx="8761320" cy="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Line 38"/>
            <p:cNvSpPr/>
            <p:nvPr/>
          </p:nvSpPr>
          <p:spPr>
            <a:xfrm>
              <a:off x="228600" y="1204560"/>
              <a:ext cx="8761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Line 39"/>
            <p:cNvSpPr/>
            <p:nvPr/>
          </p:nvSpPr>
          <p:spPr>
            <a:xfrm>
              <a:off x="228600" y="2643480"/>
              <a:ext cx="8761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Line 40"/>
            <p:cNvSpPr/>
            <p:nvPr/>
          </p:nvSpPr>
          <p:spPr>
            <a:xfrm>
              <a:off x="228600" y="3945960"/>
              <a:ext cx="87613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Line 41"/>
            <p:cNvSpPr/>
            <p:nvPr/>
          </p:nvSpPr>
          <p:spPr>
            <a:xfrm>
              <a:off x="228600" y="5165280"/>
              <a:ext cx="8761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Line 42"/>
            <p:cNvSpPr/>
            <p:nvPr/>
          </p:nvSpPr>
          <p:spPr>
            <a:xfrm>
              <a:off x="228600" y="6857640"/>
              <a:ext cx="8761320" cy="1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Line 43"/>
            <p:cNvSpPr/>
            <p:nvPr/>
          </p:nvSpPr>
          <p:spPr>
            <a:xfrm>
              <a:off x="228600" y="609480"/>
              <a:ext cx="1800" cy="6248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Line 44"/>
            <p:cNvSpPr/>
            <p:nvPr/>
          </p:nvSpPr>
          <p:spPr>
            <a:xfrm>
              <a:off x="3151800" y="609480"/>
              <a:ext cx="1440" cy="45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Line 45"/>
            <p:cNvSpPr/>
            <p:nvPr/>
          </p:nvSpPr>
          <p:spPr>
            <a:xfrm>
              <a:off x="6066720" y="609480"/>
              <a:ext cx="1440" cy="45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Line 46"/>
            <p:cNvSpPr/>
            <p:nvPr/>
          </p:nvSpPr>
          <p:spPr>
            <a:xfrm>
              <a:off x="8989920" y="609480"/>
              <a:ext cx="1440" cy="62481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0960" cy="90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00"/>
              </a:spcBef>
              <a:spcAft>
                <a:spcPts val="1400"/>
              </a:spcAft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OCEDIMENTOS ESPECIAIS OU DIFERENCIADO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287360"/>
            <a:ext cx="7770960" cy="568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 algn="just">
              <a:lnSpc>
                <a:spcPct val="95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A metodologia a ser empregada no manuseio dos resíduos sólidos especiais ou diferenciados, que por sua classificação e especificidades necessitem de procedimentos peculiares,  será objeto de regulação no Plano de Gerenciamento Integrado de Resíduos Sólidos  do Ente Público interessa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9" name="Group 4"/>
          <p:cNvGrpSpPr/>
          <p:nvPr/>
        </p:nvGrpSpPr>
        <p:grpSpPr>
          <a:xfrm>
            <a:off x="6477120" y="6451560"/>
            <a:ext cx="2652480" cy="382680"/>
            <a:chOff x="6477120" y="6451560"/>
            <a:chExt cx="2652480" cy="382680"/>
          </a:xfrm>
        </p:grpSpPr>
        <p:sp>
          <p:nvSpPr>
            <p:cNvPr id="570" name="AutoShape 5"/>
            <p:cNvSpPr/>
            <p:nvPr/>
          </p:nvSpPr>
          <p:spPr>
            <a:xfrm>
              <a:off x="6477120" y="6451560"/>
              <a:ext cx="2652480" cy="38268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71" name="Group 6"/>
            <p:cNvGrpSpPr/>
            <p:nvPr/>
          </p:nvGrpSpPr>
          <p:grpSpPr>
            <a:xfrm>
              <a:off x="6477120" y="6451560"/>
              <a:ext cx="2639520" cy="370080"/>
              <a:chOff x="6477120" y="6451560"/>
              <a:chExt cx="2639520" cy="370080"/>
            </a:xfrm>
          </p:grpSpPr>
          <p:sp>
            <p:nvSpPr>
              <p:cNvPr id="572" name="AutoShape 7"/>
              <p:cNvSpPr/>
              <p:nvPr/>
            </p:nvSpPr>
            <p:spPr>
              <a:xfrm>
                <a:off x="6477120" y="6451560"/>
                <a:ext cx="2639520" cy="3700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73" name="Group 8"/>
              <p:cNvGrpSpPr/>
              <p:nvPr/>
            </p:nvGrpSpPr>
            <p:grpSpPr>
              <a:xfrm>
                <a:off x="6477120" y="6451560"/>
                <a:ext cx="2628360" cy="360720"/>
                <a:chOff x="6477120" y="6451560"/>
                <a:chExt cx="2628360" cy="360720"/>
              </a:xfrm>
            </p:grpSpPr>
            <p:sp>
              <p:nvSpPr>
                <p:cNvPr id="574" name="AutoShape 9"/>
                <p:cNvSpPr/>
                <p:nvPr/>
              </p:nvSpPr>
              <p:spPr>
                <a:xfrm>
                  <a:off x="6477120" y="6451560"/>
                  <a:ext cx="2628360" cy="36072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75" name="Group 10"/>
                <p:cNvGrpSpPr/>
                <p:nvPr/>
              </p:nvGrpSpPr>
              <p:grpSpPr>
                <a:xfrm>
                  <a:off x="6477120" y="6451560"/>
                  <a:ext cx="2619000" cy="351360"/>
                  <a:chOff x="6477120" y="6451560"/>
                  <a:chExt cx="2619000" cy="351360"/>
                </a:xfrm>
              </p:grpSpPr>
              <p:sp>
                <p:nvSpPr>
                  <p:cNvPr id="576" name="AutoShape 11"/>
                  <p:cNvSpPr/>
                  <p:nvPr/>
                </p:nvSpPr>
                <p:spPr>
                  <a:xfrm>
                    <a:off x="6477120" y="6451560"/>
                    <a:ext cx="2619000" cy="351360"/>
                  </a:xfrm>
                  <a:prstGeom prst="roundRect">
                    <a:avLst>
                      <a:gd name="adj" fmla="val 44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77" name="Group 12"/>
                  <p:cNvGrpSpPr/>
                  <p:nvPr/>
                </p:nvGrpSpPr>
                <p:grpSpPr>
                  <a:xfrm>
                    <a:off x="6477120" y="6451560"/>
                    <a:ext cx="2611080" cy="343440"/>
                    <a:chOff x="6477120" y="6451560"/>
                    <a:chExt cx="2611080" cy="343440"/>
                  </a:xfrm>
                </p:grpSpPr>
                <p:sp>
                  <p:nvSpPr>
                    <p:cNvPr id="578" name="AutoShape 13"/>
                    <p:cNvSpPr/>
                    <p:nvPr/>
                  </p:nvSpPr>
                  <p:spPr>
                    <a:xfrm>
                      <a:off x="6477120" y="6451560"/>
                      <a:ext cx="2611080" cy="343440"/>
                    </a:xfrm>
                    <a:prstGeom prst="roundRect">
                      <a:avLst>
                        <a:gd name="adj" fmla="val 45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79" name="Group 14"/>
                    <p:cNvGrpSpPr/>
                    <p:nvPr/>
                  </p:nvGrpSpPr>
                  <p:grpSpPr>
                    <a:xfrm>
                      <a:off x="6477120" y="6451560"/>
                      <a:ext cx="2603160" cy="335520"/>
                      <a:chOff x="6477120" y="6451560"/>
                      <a:chExt cx="2603160" cy="335520"/>
                    </a:xfrm>
                  </p:grpSpPr>
                  <p:sp>
                    <p:nvSpPr>
                      <p:cNvPr id="580" name="AutoShape 15"/>
                      <p:cNvSpPr/>
                      <p:nvPr/>
                    </p:nvSpPr>
                    <p:spPr>
                      <a:xfrm>
                        <a:off x="6477120" y="6451560"/>
                        <a:ext cx="2603160" cy="33552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81" name="AutoShape 16"/>
                      <p:cNvSpPr/>
                      <p:nvPr/>
                    </p:nvSpPr>
                    <p:spPr>
                      <a:xfrm>
                        <a:off x="6477120" y="6451560"/>
                        <a:ext cx="2603160" cy="33408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582" name="Freeform 17"/>
          <p:cNvSpPr/>
          <p:nvPr/>
        </p:nvSpPr>
        <p:spPr>
          <a:xfrm>
            <a:off x="587520" y="272880"/>
            <a:ext cx="442800" cy="609840"/>
          </a:xfrm>
          <a:custGeom>
            <a:avLst/>
            <a:gdLst>
              <a:gd name="textAreaLeft" fmla="*/ 0 w 442800"/>
              <a:gd name="textAreaRight" fmla="*/ 443160 w 44280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20360" y="673200"/>
            <a:ext cx="772308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INSTRUMENTOS ECONÔMICOS E FINANCEIROS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0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oder Públ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120 dias para propor alternativas de fomentos e incentivos creditícios, fiscais e financeiros para indústrias ou instituiçõ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Uniã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struturar linhas de financiamento para atender iniciativas ambientai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Instituições oficiais de crédi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cilitar as operações de crédito e financiamento</a:t>
            </a: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5" name="Group 4"/>
          <p:cNvGrpSpPr/>
          <p:nvPr/>
        </p:nvGrpSpPr>
        <p:grpSpPr>
          <a:xfrm>
            <a:off x="7068960" y="6461280"/>
            <a:ext cx="2059200" cy="380880"/>
            <a:chOff x="7068960" y="6461280"/>
            <a:chExt cx="2059200" cy="380880"/>
          </a:xfrm>
        </p:grpSpPr>
        <p:sp>
          <p:nvSpPr>
            <p:cNvPr id="586" name="AutoShape 5"/>
            <p:cNvSpPr/>
            <p:nvPr/>
          </p:nvSpPr>
          <p:spPr>
            <a:xfrm>
              <a:off x="7068960" y="6461280"/>
              <a:ext cx="2059200" cy="380880"/>
            </a:xfrm>
            <a:prstGeom prst="roundRect">
              <a:avLst>
                <a:gd name="adj" fmla="val 41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AutoShape 6"/>
            <p:cNvSpPr/>
            <p:nvPr/>
          </p:nvSpPr>
          <p:spPr>
            <a:xfrm>
              <a:off x="7070400" y="6461280"/>
              <a:ext cx="180720" cy="368280"/>
            </a:xfrm>
            <a:custGeom>
              <a:avLst/>
              <a:gdLst>
                <a:gd name="textAreaLeft" fmla="*/ 360 w 180720"/>
                <a:gd name="textAreaRight" fmla="*/ 180360 w 180720"/>
                <a:gd name="textAreaTop" fmla="*/ 360 h 368280"/>
                <a:gd name="textAreaBottom" fmla="*/ 367920 h 368280"/>
              </a:gdLst>
              <a:ahLst/>
              <a:rect l="textAreaLeft" t="textAreaTop" r="textAreaRight" b="textAreaBottom"/>
              <a:pathLst>
                <a:path w="21600" h="43973">
                  <a:moveTo>
                    <a:pt x="189" y="0"/>
                  </a:moveTo>
                  <a:arcTo wR="189" hR="189" stAng="16200000" swAng="-5400000"/>
                  <a:lnTo>
                    <a:pt x="0" y="43784"/>
                  </a:lnTo>
                  <a:arcTo wR="189" hR="189" stAng="10800000" swAng="-5400000"/>
                  <a:lnTo>
                    <a:pt x="21411" y="43973"/>
                  </a:lnTo>
                  <a:arcTo wR="189" hR="189" stAng="5400000" swAng="-5400000"/>
                  <a:lnTo>
                    <a:pt x="21600" y="189"/>
                  </a:lnTo>
                  <a:arcTo wR="189" hR="189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88" name="Group 7"/>
          <p:cNvGrpSpPr/>
          <p:nvPr/>
        </p:nvGrpSpPr>
        <p:grpSpPr>
          <a:xfrm>
            <a:off x="6477120" y="6451560"/>
            <a:ext cx="2652480" cy="382680"/>
            <a:chOff x="6477120" y="6451560"/>
            <a:chExt cx="2652480" cy="382680"/>
          </a:xfrm>
        </p:grpSpPr>
        <p:sp>
          <p:nvSpPr>
            <p:cNvPr id="589" name="AutoShape 8"/>
            <p:cNvSpPr/>
            <p:nvPr/>
          </p:nvSpPr>
          <p:spPr>
            <a:xfrm>
              <a:off x="6477120" y="6451560"/>
              <a:ext cx="2652480" cy="382680"/>
            </a:xfrm>
            <a:prstGeom prst="roundRect">
              <a:avLst>
                <a:gd name="adj" fmla="val 41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0" name="Group 9"/>
            <p:cNvGrpSpPr/>
            <p:nvPr/>
          </p:nvGrpSpPr>
          <p:grpSpPr>
            <a:xfrm>
              <a:off x="6477120" y="6451560"/>
              <a:ext cx="2639520" cy="370080"/>
              <a:chOff x="6477120" y="6451560"/>
              <a:chExt cx="2639520" cy="370080"/>
            </a:xfrm>
          </p:grpSpPr>
          <p:sp>
            <p:nvSpPr>
              <p:cNvPr id="591" name="AutoShape 10"/>
              <p:cNvSpPr/>
              <p:nvPr/>
            </p:nvSpPr>
            <p:spPr>
              <a:xfrm>
                <a:off x="6477120" y="6451560"/>
                <a:ext cx="2639520" cy="370080"/>
              </a:xfrm>
              <a:prstGeom prst="roundRect">
                <a:avLst>
                  <a:gd name="adj" fmla="val 426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592" name="Group 11"/>
              <p:cNvGrpSpPr/>
              <p:nvPr/>
            </p:nvGrpSpPr>
            <p:grpSpPr>
              <a:xfrm>
                <a:off x="6477120" y="6451560"/>
                <a:ext cx="2628360" cy="360720"/>
                <a:chOff x="6477120" y="6451560"/>
                <a:chExt cx="2628360" cy="360720"/>
              </a:xfrm>
            </p:grpSpPr>
            <p:sp>
              <p:nvSpPr>
                <p:cNvPr id="593" name="AutoShape 12"/>
                <p:cNvSpPr/>
                <p:nvPr/>
              </p:nvSpPr>
              <p:spPr>
                <a:xfrm>
                  <a:off x="6477120" y="6451560"/>
                  <a:ext cx="2628360" cy="360720"/>
                </a:xfrm>
                <a:prstGeom prst="roundRect">
                  <a:avLst>
                    <a:gd name="adj" fmla="val 431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94" name="Group 13"/>
                <p:cNvGrpSpPr/>
                <p:nvPr/>
              </p:nvGrpSpPr>
              <p:grpSpPr>
                <a:xfrm>
                  <a:off x="6477120" y="6451560"/>
                  <a:ext cx="2619000" cy="351360"/>
                  <a:chOff x="6477120" y="6451560"/>
                  <a:chExt cx="2619000" cy="351360"/>
                </a:xfrm>
              </p:grpSpPr>
              <p:sp>
                <p:nvSpPr>
                  <p:cNvPr id="595" name="AutoShape 14"/>
                  <p:cNvSpPr/>
                  <p:nvPr/>
                </p:nvSpPr>
                <p:spPr>
                  <a:xfrm>
                    <a:off x="6477120" y="6451560"/>
                    <a:ext cx="2619000" cy="351360"/>
                  </a:xfrm>
                  <a:prstGeom prst="roundRect">
                    <a:avLst>
                      <a:gd name="adj" fmla="val 444"/>
                    </a:avLst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96" name="Group 15"/>
                  <p:cNvGrpSpPr/>
                  <p:nvPr/>
                </p:nvGrpSpPr>
                <p:grpSpPr>
                  <a:xfrm>
                    <a:off x="6477120" y="6451560"/>
                    <a:ext cx="2611080" cy="343440"/>
                    <a:chOff x="6477120" y="6451560"/>
                    <a:chExt cx="2611080" cy="343440"/>
                  </a:xfrm>
                </p:grpSpPr>
                <p:sp>
                  <p:nvSpPr>
                    <p:cNvPr id="597" name="AutoShape 16"/>
                    <p:cNvSpPr/>
                    <p:nvPr/>
                  </p:nvSpPr>
                  <p:spPr>
                    <a:xfrm>
                      <a:off x="6477120" y="6451560"/>
                      <a:ext cx="2611080" cy="343440"/>
                    </a:xfrm>
                    <a:prstGeom prst="roundRect">
                      <a:avLst>
                        <a:gd name="adj" fmla="val 454"/>
                      </a:avLst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98" name="Group 17"/>
                    <p:cNvGrpSpPr/>
                    <p:nvPr/>
                  </p:nvGrpSpPr>
                  <p:grpSpPr>
                    <a:xfrm>
                      <a:off x="6477120" y="6451560"/>
                      <a:ext cx="2603160" cy="335520"/>
                      <a:chOff x="6477120" y="6451560"/>
                      <a:chExt cx="2603160" cy="335520"/>
                    </a:xfrm>
                  </p:grpSpPr>
                  <p:sp>
                    <p:nvSpPr>
                      <p:cNvPr id="599" name="AutoShape 18"/>
                      <p:cNvSpPr/>
                      <p:nvPr/>
                    </p:nvSpPr>
                    <p:spPr>
                      <a:xfrm>
                        <a:off x="6477120" y="6451560"/>
                        <a:ext cx="2603160" cy="33552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00" name="AutoShape 19"/>
                      <p:cNvSpPr/>
                      <p:nvPr/>
                    </p:nvSpPr>
                    <p:spPr>
                      <a:xfrm>
                        <a:off x="6477120" y="6451560"/>
                        <a:ext cx="2603160" cy="334080"/>
                      </a:xfrm>
                      <a:prstGeom prst="roundRect">
                        <a:avLst>
                          <a:gd name="adj" fmla="val 463"/>
                        </a:avLst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ffffff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  <p:sp>
        <p:nvSpPr>
          <p:cNvPr id="601" name="Freeform 20"/>
          <p:cNvSpPr/>
          <p:nvPr/>
        </p:nvSpPr>
        <p:spPr>
          <a:xfrm>
            <a:off x="246240" y="614520"/>
            <a:ext cx="442800" cy="609480"/>
          </a:xfrm>
          <a:custGeom>
            <a:avLst/>
            <a:gdLst>
              <a:gd name="textAreaLeft" fmla="*/ 0 w 442800"/>
              <a:gd name="textAreaRight" fmla="*/ 443160 w 4428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231" h="1694">
                <a:moveTo>
                  <a:pt x="0" y="422"/>
                </a:moveTo>
                <a:lnTo>
                  <a:pt x="922" y="422"/>
                </a:lnTo>
                <a:lnTo>
                  <a:pt x="922" y="0"/>
                </a:lnTo>
                <a:lnTo>
                  <a:pt x="1230" y="846"/>
                </a:lnTo>
                <a:lnTo>
                  <a:pt x="922" y="1693"/>
                </a:lnTo>
                <a:lnTo>
                  <a:pt x="922" y="1269"/>
                </a:lnTo>
                <a:lnTo>
                  <a:pt x="0" y="1269"/>
                </a:lnTo>
                <a:lnTo>
                  <a:pt x="0" y="422"/>
                </a:lnTo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/>
          </p:nvPr>
        </p:nvSpPr>
        <p:spPr>
          <a:xfrm>
            <a:off x="609120" y="1752480"/>
            <a:ext cx="8153640" cy="513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4000" indent="-324000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Aprovação do PGI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dição prévia para o recebimento de incentivos e financia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olíticas Estaduais de 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ator condicionante para repasses e financiament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Prioridade na concessão de benefícios financeiros e creditíci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-3240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stituições públicas e privadas que promovam ações complementares e consonantes com o Projeto de Le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4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3" name="Text Box 3"/>
          <p:cNvSpPr/>
          <p:nvPr/>
        </p:nvSpPr>
        <p:spPr>
          <a:xfrm>
            <a:off x="1066680" y="457200"/>
            <a:ext cx="7102440" cy="6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FATORES CONDICIONANT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70000" y="380880"/>
            <a:ext cx="856908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O QUE SIGNIFICA GERENCIAMENTO INTEGRADO ??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É o processo que compreende as atividades referentes à tomada de decisões estratégicas quanto aos aspectos da prestação, fiscalização, e do controle dos serviços públicos de manejo integrado dos resíduos sólidos nas suas diferentes etapas: segregação, acondicionamento, coleta, transporte, armazenamento, transferência, triagem, tratamento, reciclagem, comercialização, e destinação final dos resíduos sólidos urban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ffff"/>
                </a:solidFill>
                <a:latin typeface="Arial"/>
              </a:rPr>
              <a:t>PENIDO (2000)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, diz que o gerenciamento Integrado de RSU é, em síntese, o envolvimento de diferentes órgãos da administração pública e da sociedade civil com o propósito de realizar a limpeza urbana, a coleta, o tratamento e a disposição final do lixo. Elevando assim a qualidade de vida da população e promovendo o asseio da cidade, levando em consideração as características das fontes de produção, o volume e os tipos de resídu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270000" y="380880"/>
            <a:ext cx="856908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MODELOS DE GESTÃO NA ATUALIDA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a) Modelo de Gestão Convenciona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É o processo que acontece na maior parte das cidades brasileiras. Qualquer município que tenha incorporado aos seus serviços a prestação dos serviços de limpeza urbana, desenvolve um modelo de gestão próprio, ainda que de forma rudimentar, pois em seu modelo de desenvolvimento municipal ele desenvolve ações referenciais político-estratégicas, ações institucionais e legais, ações financeiras e ambientais. Não ocorre a participação da populaçã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b) Modelo de Gestão Participativ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É o processo em que o modelo de gestão passa pela discussão com os seus munícipes. Deve ser desenvolvido com ênfase na correlação da limpeza urbana com os demais sistemas de saneamento (abastecimento de água, a drenagem urbana, coleta e tratamento de águas residuárias e controle de vetores). Envolve a definição ações referenciais político-estratégicas, institucionais e legais, financeiras e ambientais, com a participação de todos os atores o sistema de limpeza, quer sejam formais (prefeituras, empresas, etc.), como os informais (catadores, carroceiros, carrinheiros, deposeiros, etc...)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1835280" y="1197000"/>
            <a:ext cx="172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403280" y="692280"/>
            <a:ext cx="20163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Ge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157400" y="1844640"/>
            <a:ext cx="2665440" cy="78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Manipul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Acondiciona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1476360" y="3141720"/>
            <a:ext cx="201600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Cole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547640" y="5445000"/>
            <a:ext cx="2016360" cy="368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Destino Fin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114480" y="3975120"/>
            <a:ext cx="1758600" cy="137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ransferênci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&a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3373560" y="3933720"/>
            <a:ext cx="1944720" cy="1377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epar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rata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Transformaçã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2484360" y="1052640"/>
            <a:ext cx="0" cy="792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2484360" y="2637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Line 13"/>
          <p:cNvSpPr/>
          <p:nvPr/>
        </p:nvSpPr>
        <p:spPr>
          <a:xfrm>
            <a:off x="2484360" y="3573360"/>
            <a:ext cx="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Line 14"/>
          <p:cNvSpPr/>
          <p:nvPr/>
        </p:nvSpPr>
        <p:spPr>
          <a:xfrm>
            <a:off x="900000" y="3429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Line 15"/>
          <p:cNvSpPr/>
          <p:nvPr/>
        </p:nvSpPr>
        <p:spPr>
          <a:xfrm>
            <a:off x="4348080" y="342900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Line 16"/>
          <p:cNvSpPr/>
          <p:nvPr/>
        </p:nvSpPr>
        <p:spPr>
          <a:xfrm>
            <a:off x="900000" y="342900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17"/>
          <p:cNvSpPr/>
          <p:nvPr/>
        </p:nvSpPr>
        <p:spPr>
          <a:xfrm flipH="1">
            <a:off x="3492000" y="34290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18"/>
          <p:cNvSpPr/>
          <p:nvPr/>
        </p:nvSpPr>
        <p:spPr>
          <a:xfrm>
            <a:off x="2195640" y="4508640"/>
            <a:ext cx="1008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19"/>
          <p:cNvSpPr/>
          <p:nvPr/>
        </p:nvSpPr>
        <p:spPr>
          <a:xfrm flipH="1">
            <a:off x="1907640" y="4508640"/>
            <a:ext cx="36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Text Box 20"/>
          <p:cNvSpPr/>
          <p:nvPr/>
        </p:nvSpPr>
        <p:spPr>
          <a:xfrm>
            <a:off x="1692360" y="623736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ffffff"/>
                </a:solidFill>
                <a:latin typeface="Arial"/>
              </a:rPr>
              <a:t>TCHOBANOGLOUS, 199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Text Box 21"/>
          <p:cNvSpPr/>
          <p:nvPr/>
        </p:nvSpPr>
        <p:spPr>
          <a:xfrm>
            <a:off x="4356000" y="765000"/>
            <a:ext cx="47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"/>
              </a:rPr>
              <a:t>Simplificação das interrelações  entre os elementos de um sistema de gerenciamento de Resíduos Sólid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30"/>
          <p:cNvSpPr/>
          <p:nvPr/>
        </p:nvSpPr>
        <p:spPr>
          <a:xfrm>
            <a:off x="1835280" y="3487680"/>
            <a:ext cx="963360" cy="662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Resíduos Sólidos Urban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Line 29"/>
          <p:cNvSpPr/>
          <p:nvPr/>
        </p:nvSpPr>
        <p:spPr>
          <a:xfrm>
            <a:off x="3073320" y="483408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3348000" y="2519280"/>
            <a:ext cx="109692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omiciliar e Comerc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Text Box 27"/>
          <p:cNvSpPr/>
          <p:nvPr/>
        </p:nvSpPr>
        <p:spPr>
          <a:xfrm>
            <a:off x="3348000" y="3198960"/>
            <a:ext cx="1096920" cy="365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Entulh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Text Box 26"/>
          <p:cNvSpPr/>
          <p:nvPr/>
        </p:nvSpPr>
        <p:spPr>
          <a:xfrm>
            <a:off x="3348000" y="3865680"/>
            <a:ext cx="1096920" cy="365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Poda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3348000" y="4637160"/>
            <a:ext cx="1079640" cy="447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erviços Correlat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Line 24"/>
          <p:cNvSpPr/>
          <p:nvPr/>
        </p:nvSpPr>
        <p:spPr>
          <a:xfrm>
            <a:off x="3073320" y="4062240"/>
            <a:ext cx="27468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Line 23"/>
          <p:cNvSpPr/>
          <p:nvPr/>
        </p:nvSpPr>
        <p:spPr>
          <a:xfrm>
            <a:off x="3073320" y="3382920"/>
            <a:ext cx="274680" cy="1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Line 22"/>
          <p:cNvSpPr/>
          <p:nvPr/>
        </p:nvSpPr>
        <p:spPr>
          <a:xfrm>
            <a:off x="3073320" y="271620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Line 21"/>
          <p:cNvSpPr/>
          <p:nvPr/>
        </p:nvSpPr>
        <p:spPr>
          <a:xfrm flipH="1">
            <a:off x="3058920" y="2716200"/>
            <a:ext cx="14040" cy="2800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Line 20"/>
          <p:cNvSpPr/>
          <p:nvPr/>
        </p:nvSpPr>
        <p:spPr>
          <a:xfrm>
            <a:off x="2798640" y="3774960"/>
            <a:ext cx="27468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Text Box 31"/>
          <p:cNvSpPr/>
          <p:nvPr/>
        </p:nvSpPr>
        <p:spPr>
          <a:xfrm>
            <a:off x="1476360" y="2060640"/>
            <a:ext cx="13222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GERA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3348000" y="2060640"/>
            <a:ext cx="109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COLET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3348000" y="5316480"/>
            <a:ext cx="109692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Serviços de Saú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18"/>
          <p:cNvSpPr/>
          <p:nvPr/>
        </p:nvSpPr>
        <p:spPr>
          <a:xfrm>
            <a:off x="3073320" y="551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Line 17"/>
          <p:cNvSpPr/>
          <p:nvPr/>
        </p:nvSpPr>
        <p:spPr>
          <a:xfrm>
            <a:off x="4444920" y="2727360"/>
            <a:ext cx="18252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Line 16"/>
          <p:cNvSpPr/>
          <p:nvPr/>
        </p:nvSpPr>
        <p:spPr>
          <a:xfrm>
            <a:off x="4444920" y="4073400"/>
            <a:ext cx="182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Line 15"/>
          <p:cNvSpPr/>
          <p:nvPr/>
        </p:nvSpPr>
        <p:spPr>
          <a:xfrm>
            <a:off x="4627440" y="2727360"/>
            <a:ext cx="15840" cy="214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Line 14"/>
          <p:cNvSpPr/>
          <p:nvPr/>
        </p:nvSpPr>
        <p:spPr>
          <a:xfrm>
            <a:off x="4627440" y="3692520"/>
            <a:ext cx="164628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6273720" y="3510000"/>
            <a:ext cx="1463760" cy="468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Área de Disposição Fi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Line 12"/>
          <p:cNvSpPr/>
          <p:nvPr/>
        </p:nvSpPr>
        <p:spPr>
          <a:xfrm>
            <a:off x="4444920" y="4844880"/>
            <a:ext cx="18252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4809960" y="5316480"/>
            <a:ext cx="11890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Incineraçã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Line 10"/>
          <p:cNvSpPr/>
          <p:nvPr/>
        </p:nvSpPr>
        <p:spPr>
          <a:xfrm>
            <a:off x="4444920" y="5511960"/>
            <a:ext cx="365040" cy="1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Text Box 9"/>
          <p:cNvSpPr/>
          <p:nvPr/>
        </p:nvSpPr>
        <p:spPr>
          <a:xfrm>
            <a:off x="6456240" y="5327640"/>
            <a:ext cx="118908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Escória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Line 8"/>
          <p:cNvSpPr/>
          <p:nvPr/>
        </p:nvSpPr>
        <p:spPr>
          <a:xfrm>
            <a:off x="5999040" y="5511960"/>
            <a:ext cx="457200" cy="10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Line 7"/>
          <p:cNvSpPr/>
          <p:nvPr/>
        </p:nvSpPr>
        <p:spPr>
          <a:xfrm flipV="1">
            <a:off x="7005600" y="3994200"/>
            <a:ext cx="1800" cy="127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4902120" y="2071800"/>
            <a:ext cx="1398600" cy="2775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TRATA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6188040" y="2071800"/>
            <a:ext cx="155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ffffff"/>
                </a:solidFill>
                <a:latin typeface="Arial"/>
                <a:ea typeface="Times New Roman"/>
              </a:rPr>
              <a:t>DISPOSIÇÃO FIN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Text Box 43"/>
          <p:cNvSpPr/>
          <p:nvPr/>
        </p:nvSpPr>
        <p:spPr>
          <a:xfrm>
            <a:off x="826920" y="549360"/>
            <a:ext cx="784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"/>
              </a:rPr>
              <a:t>Fluxograma Proposto para o Gerenciamento das Atividades do Sistema Integrado de Resíduos Sólidos Urbanos da Cidade de Parnamirim/RN. </a:t>
            </a:r>
            <a:r>
              <a:rPr b="0" lang="pt-B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(Lider, 2003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5"/>
          <p:cNvSpPr/>
          <p:nvPr/>
        </p:nvSpPr>
        <p:spPr>
          <a:xfrm>
            <a:off x="2732040" y="2881440"/>
            <a:ext cx="3678120" cy="106884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Times New Roman"/>
              </a:rPr>
              <a:t>Gestão Integrada de Resíduos Sólid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998800" y="533520"/>
            <a:ext cx="3144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lanejamento Estratég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80880" y="5334120"/>
            <a:ext cx="320040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71920" indent="-2671920" algn="ctr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rcabouço Leg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1920" indent="-2671920" algn="ctr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“</a:t>
            </a: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Regulamento de Limpez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671920" indent="-2671920" algn="ctr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Urbana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146160" y="4079880"/>
            <a:ext cx="243828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erviço de Limpeza Urba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3809880" y="4876920"/>
            <a:ext cx="251460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Jurídica, Administrativa e Financei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304920" y="1295280"/>
            <a:ext cx="358128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Trabalho e Renda - geração de emprego e renda, trabalho informal, coleta seletiv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5486400" y="1219320"/>
            <a:ext cx="281952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strutura de Comunicação e mobilização soc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7318800" y="2514600"/>
            <a:ext cx="14958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Fiscaliz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6632280" y="4267080"/>
            <a:ext cx="214200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Ambiente Urban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461880" y="3022560"/>
            <a:ext cx="124308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Educaçã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7010280" y="3429000"/>
            <a:ext cx="190512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Saúde Públic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Line 16"/>
          <p:cNvSpPr/>
          <p:nvPr/>
        </p:nvSpPr>
        <p:spPr>
          <a:xfrm>
            <a:off x="4572000" y="914400"/>
            <a:ext cx="0" cy="198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Line 17"/>
          <p:cNvSpPr/>
          <p:nvPr/>
        </p:nvSpPr>
        <p:spPr>
          <a:xfrm flipV="1">
            <a:off x="4572000" y="3962520"/>
            <a:ext cx="0" cy="9144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Line 18"/>
          <p:cNvSpPr/>
          <p:nvPr/>
        </p:nvSpPr>
        <p:spPr>
          <a:xfrm>
            <a:off x="1676520" y="3263760"/>
            <a:ext cx="10666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Line 19"/>
          <p:cNvSpPr/>
          <p:nvPr/>
        </p:nvSpPr>
        <p:spPr>
          <a:xfrm flipV="1">
            <a:off x="3200400" y="3962520"/>
            <a:ext cx="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Line 20"/>
          <p:cNvSpPr/>
          <p:nvPr/>
        </p:nvSpPr>
        <p:spPr>
          <a:xfrm flipH="1" flipV="1">
            <a:off x="6019920" y="3962160"/>
            <a:ext cx="761760" cy="1600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Line 21"/>
          <p:cNvSpPr/>
          <p:nvPr/>
        </p:nvSpPr>
        <p:spPr>
          <a:xfrm flipH="1">
            <a:off x="6400800" y="2666880"/>
            <a:ext cx="91440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Line 22"/>
          <p:cNvSpPr/>
          <p:nvPr/>
        </p:nvSpPr>
        <p:spPr>
          <a:xfrm flipH="1">
            <a:off x="6400440" y="3594240"/>
            <a:ext cx="6094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Line 23"/>
          <p:cNvSpPr/>
          <p:nvPr/>
        </p:nvSpPr>
        <p:spPr>
          <a:xfrm>
            <a:off x="3429000" y="2286000"/>
            <a:ext cx="0" cy="6094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Line 24"/>
          <p:cNvSpPr/>
          <p:nvPr/>
        </p:nvSpPr>
        <p:spPr>
          <a:xfrm>
            <a:off x="5943600" y="2209680"/>
            <a:ext cx="0" cy="685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Line 25"/>
          <p:cNvSpPr/>
          <p:nvPr/>
        </p:nvSpPr>
        <p:spPr>
          <a:xfrm flipH="1" flipV="1">
            <a:off x="6400440" y="3962520"/>
            <a:ext cx="22860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Line 26"/>
          <p:cNvSpPr/>
          <p:nvPr/>
        </p:nvSpPr>
        <p:spPr>
          <a:xfrm flipV="1">
            <a:off x="2590920" y="3962160"/>
            <a:ext cx="152280" cy="759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Text Box 27"/>
          <p:cNvSpPr/>
          <p:nvPr/>
        </p:nvSpPr>
        <p:spPr>
          <a:xfrm>
            <a:off x="6534000" y="5105520"/>
            <a:ext cx="2210040" cy="1008720"/>
          </a:xfrm>
          <a:prstGeom prst="rect">
            <a:avLst/>
          </a:prstGeom>
          <a:solidFill>
            <a:srgbClr val="00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Times New Roman"/>
              </a:rPr>
              <a:t>Política de Recursos Human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8T00:29:29Z</dcterms:created>
  <dc:creator>Sérgio</dc:creator>
  <dc:description/>
  <dc:language>en-US</dc:language>
  <cp:lastModifiedBy>ROJAS</cp:lastModifiedBy>
  <dcterms:modified xsi:type="dcterms:W3CDTF">2014-05-08T01:30:40Z</dcterms:modified>
  <cp:revision>45</cp:revision>
  <dc:subject/>
  <dc:title>Apresentação do PowerPoint</dc:title>
</cp:coreProperties>
</file>