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92160" y="767880"/>
            <a:ext cx="511488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6B6A7-240B-47B1-9D4A-F045B331A55C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FD5FD-2688-4C56-8A3D-1CDE92E73E75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5FC45-B786-43B4-A273-08D5D799B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06308-79DA-4594-BBBC-4F1E07C1A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48851-21D7-47AB-99BD-FAFDC82D2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A94A6-88C8-4F25-A932-1A734F635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32E98-4B93-4B93-9726-7F6DB5ECD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3FBB4-B698-468D-8845-7DEA5967C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A9333-A616-4773-9ECF-CF8893DB8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D6183-606D-4DFE-9C59-410B40AEE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3117B-90D4-4384-9087-AC1D5048B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20664-D1C3-4D6E-AE0D-CDE570377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6EF8C-62B4-4262-BA31-74193230B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45134-8332-48C8-BEB7-5226FBFF3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0CE7E-7A38-401E-8691-84BA735DC636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8"/>
          <p:cNvSpPr/>
          <p:nvPr/>
        </p:nvSpPr>
        <p:spPr>
          <a:xfrm>
            <a:off x="539640" y="2349360"/>
            <a:ext cx="7993080" cy="11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500" spc="-1" strike="noStrike">
                <a:solidFill>
                  <a:srgbClr val="000000"/>
                </a:solidFill>
                <a:latin typeface="Bookman Old Style"/>
              </a:rPr>
              <a:t>Legislação Ambiental sobre Resíduos Sólido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0"/>
          <p:cNvSpPr/>
          <p:nvPr/>
        </p:nvSpPr>
        <p:spPr>
          <a:xfrm>
            <a:off x="179280" y="5479920"/>
            <a:ext cx="777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Bookman Old Style"/>
              </a:rPr>
              <a:t>Professor: Eng. Civil José W. Jiménez Roj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Legislação ambient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8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lanos Estratégicos Naciona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250920" y="1700280"/>
            <a:ext cx="8569080" cy="476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12"/>
              </a:spcBef>
              <a:buSzPct val="10275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consonância com as demais políticas afins ( PNRSMMA) e com as políticas sociais de Assistência, de Transferência de Renda e Cidadania (MDS)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12"/>
              </a:spcBef>
              <a:buSzPct val="10275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foco na inclusão social e emancipação econômica do catador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12"/>
              </a:spcBef>
              <a:buSzPct val="10275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compromisso com o desenvolvimento da cadeia produtiva dos recicláveis beneficiando os catadores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12"/>
              </a:spcBef>
              <a:buSzPct val="10275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indução à geração de trabalho e renda, para reverter a discriminação social imposta aos catadores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12"/>
              </a:spcBef>
              <a:buSzPct val="10275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eliminação do desperdício e estímulo ao reaproveitamento e/ou reciclagem de matérias prima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12"/>
              </a:spcBef>
              <a:buSzPct val="10275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projeto de MDL na redução de emissões de biogás em aterros e lixões - MCidades, MMA, Banco Mundial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Legislação ambient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8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lanos Estratégicos Naciona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9"/>
          <p:cNvSpPr/>
          <p:nvPr/>
        </p:nvSpPr>
        <p:spPr>
          <a:xfrm>
            <a:off x="250920" y="1800360"/>
            <a:ext cx="8569080" cy="460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12"/>
              </a:spcBef>
              <a:buSzPct val="10275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financiamento, pelo FGTS, para implantação de instalações para o manejo, processamento e destinação final dos resíduos de construção e demolição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12"/>
              </a:spcBef>
              <a:buSzPct val="10275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Manual de Apoio à elaboração de PGIRCD (CAIXA, apoio MCIdades)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12"/>
              </a:spcBef>
              <a:buSzPct val="10275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capacitação de recursos humanos para a gestão dos resíduos, incluindo capacitação para catadores - MCidades/IBAM, FNMA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12"/>
              </a:spcBef>
              <a:buSzPct val="10275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realização de seminários de sensibilização e formação de redes de instituições e de especialistas na temática resíduos sólido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12"/>
              </a:spcBef>
              <a:buSzPct val="10275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desenvolvimento de banco de dados e sistema de informações em gestão integrada de resíduos – SNIS RS e elaboração de Portal Governamental em resíduos Sólido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Legislação ambient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8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esoluçõ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10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900000" y="1773360"/>
            <a:ext cx="67676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Legislação ambient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8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esoluçõ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0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179280" y="2349360"/>
            <a:ext cx="882828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Legislação ambient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8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esoluçõ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10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684360" y="1916280"/>
            <a:ext cx="7559640" cy="445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Legislação ambient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8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esoluçõ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10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971640" y="1844640"/>
            <a:ext cx="691200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Legislação ambient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8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esoluçõ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10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395280" y="2349360"/>
            <a:ext cx="816444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Legislação ambient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8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esoluçõ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10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539640" y="1700280"/>
            <a:ext cx="7634520" cy="466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Legislação ambient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8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esoluçõ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10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468360" y="1916280"/>
            <a:ext cx="8207280" cy="43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Legislação ambient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8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esoluçõ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10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684360" y="1700280"/>
            <a:ext cx="7345080" cy="45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4"/>
          <p:cNvSpPr/>
          <p:nvPr/>
        </p:nvSpPr>
        <p:spPr>
          <a:xfrm>
            <a:off x="304920" y="609480"/>
            <a:ext cx="8534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9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Política Federal de Saneamento Básico </a:t>
            </a:r>
            <a:r>
              <a:rPr b="1" lang="pt-BR" sz="24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Lei n° 11.445 de 08/01/07</a:t>
            </a:r>
            <a:r>
              <a:rPr b="1" lang="pt-BR" sz="30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685800" y="2209680"/>
            <a:ext cx="77724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A falta de saneamento provoca impactos ambientais na água dos lençóis freáticos e da superfície. Os resíduos sólidos contaminam a natureza com chorume e gás metano, entre outros poluentes que afetam a camada de ozônio, contribuindo para aumentar o efeito estuf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  <a:ea typeface="Lucida Sans Unicode"/>
              </a:rPr>
              <a:t>Ela estabelece as diretrizes nacionais para o saneamento básico. A nova legislação define as regras para o aumento de investimentos privados e públicos no setor. Os focos são o planejamento, a fiscalização e a participação social.</a:t>
            </a:r>
            <a:r>
              <a:rPr b="0" lang="pt-BR" sz="2100" spc="-1" strike="noStrike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Legislação ambient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8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esoluçõ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11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2771640" y="907920"/>
            <a:ext cx="5677200" cy="10573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2" descr=""/>
          <p:cNvPicPr/>
          <p:nvPr/>
        </p:nvPicPr>
        <p:blipFill>
          <a:blip r:embed="rId3"/>
          <a:stretch/>
        </p:blipFill>
        <p:spPr>
          <a:xfrm>
            <a:off x="468360" y="2060640"/>
            <a:ext cx="8280360" cy="454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Legislação ambient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esoluçõ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11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395280" y="1844640"/>
            <a:ext cx="8393040" cy="40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Legislação ambient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8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Leis Estaduais – Resoluções - CONSE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1187280" y="1700280"/>
          <a:ext cx="6917040" cy="914400"/>
        </p:xfrm>
        <a:graphic>
          <a:graphicData uri="http://schemas.openxmlformats.org/drawingml/2006/table">
            <a:tbl>
              <a:tblPr/>
              <a:tblGrid>
                <a:gridCol w="1530360"/>
                <a:gridCol w="5386680"/>
              </a:tblGrid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olução 091 de 20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tera a Resolução CONSEMA nº 008/2000, que dispõe sobre a composição da Câmara Técnica Permanente de Resíduos Sólido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1187280" y="2801880"/>
          <a:ext cx="6917040" cy="914400"/>
        </p:xfrm>
        <a:graphic>
          <a:graphicData uri="http://schemas.openxmlformats.org/drawingml/2006/table">
            <a:tbl>
              <a:tblPr/>
              <a:tblGrid>
                <a:gridCol w="1530360"/>
                <a:gridCol w="5386680"/>
              </a:tblGrid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olução 073 de 20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põe sobre a co-disposição de resíduos sólidos industriais em aterros de resíduos sólidos urbanos no Estado do Rio Grande do Sul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7" name=""/>
          <p:cNvGraphicFramePr/>
          <p:nvPr/>
        </p:nvGraphicFramePr>
        <p:xfrm>
          <a:off x="1187280" y="3882960"/>
          <a:ext cx="6917040" cy="914400"/>
        </p:xfrm>
        <a:graphic>
          <a:graphicData uri="http://schemas.openxmlformats.org/drawingml/2006/table">
            <a:tbl>
              <a:tblPr/>
              <a:tblGrid>
                <a:gridCol w="1530360"/>
                <a:gridCol w="5386680"/>
              </a:tblGrid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olução 017 de 20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tabelece diretrizes para a elaboração e apresentação de Plano de Gerenciamento Integrado de Resíduos Sólido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1187280" y="5106960"/>
          <a:ext cx="6917040" cy="1189080"/>
        </p:xfrm>
        <a:graphic>
          <a:graphicData uri="http://schemas.openxmlformats.org/drawingml/2006/table">
            <a:tbl>
              <a:tblPr/>
              <a:tblGrid>
                <a:gridCol w="1530360"/>
                <a:gridCol w="5386680"/>
              </a:tblGrid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olução 009 de 2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põe de Norma para o Licenciamento Ambiental de Sistema de Incineração de Resíduos provenientes de Serviço de Saúde, classificados como infectantes (Grupo A)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Legislação ambient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8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Leis Estaduais – Resoluções - CONSE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1187280" y="2200320"/>
          <a:ext cx="6917040" cy="914400"/>
        </p:xfrm>
        <a:graphic>
          <a:graphicData uri="http://schemas.openxmlformats.org/drawingml/2006/table">
            <a:tbl>
              <a:tblPr/>
              <a:tblGrid>
                <a:gridCol w="1530360"/>
                <a:gridCol w="5386680"/>
              </a:tblGrid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olução 002 de 2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põe de norma sobre o licenciamento ambiental para co-processamento de resíduos em fornos de clínquer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1187280" y="3301920"/>
          <a:ext cx="6917040" cy="2286000"/>
        </p:xfrm>
        <a:graphic>
          <a:graphicData uri="http://schemas.openxmlformats.org/drawingml/2006/table">
            <a:tbl>
              <a:tblPr/>
              <a:tblGrid>
                <a:gridCol w="1530360"/>
                <a:gridCol w="5386680"/>
              </a:tblGrid>
              <a:tr h="2288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olução 005 de 19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tera o prazo de duração da Câmara Técnica Provisória para tratar da elaboração de normas e procedimentos de incineração e co-processamento, para o licenciamento ambiental e operação de sistemas de incineração de resíduos sólidos industriais, urbanos e de serviço de saúde no Estado do Rio Grande do Sul e dá outras providência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Legislação ambient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8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Leis Municipais – Decre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1187280" y="1628640"/>
          <a:ext cx="6917040" cy="914400"/>
        </p:xfrm>
        <a:graphic>
          <a:graphicData uri="http://schemas.openxmlformats.org/drawingml/2006/table">
            <a:tbl>
              <a:tblPr/>
              <a:tblGrid>
                <a:gridCol w="1530360"/>
                <a:gridCol w="5386680"/>
              </a:tblGrid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reto nº 9.367 de 29/12/198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ulamenta a Lei Complementar nº. 65, de 22/12/81, em relação ao manejo de resíduos sólidos no Município e dá outras providência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2" name="Picture 23" descr=""/>
          <p:cNvPicPr/>
          <p:nvPr/>
        </p:nvPicPr>
        <p:blipFill>
          <a:blip r:embed="rId2"/>
          <a:stretch/>
        </p:blipFill>
        <p:spPr>
          <a:xfrm>
            <a:off x="1332000" y="3789360"/>
            <a:ext cx="6443640" cy="1474920"/>
          </a:xfrm>
          <a:prstGeom prst="rect">
            <a:avLst/>
          </a:prstGeom>
          <a:ln w="0">
            <a:noFill/>
          </a:ln>
        </p:spPr>
      </p:pic>
      <p:sp>
        <p:nvSpPr>
          <p:cNvPr id="183" name="Rectangle 24"/>
          <p:cNvSpPr/>
          <p:nvPr/>
        </p:nvSpPr>
        <p:spPr>
          <a:xfrm>
            <a:off x="1174320" y="5870520"/>
            <a:ext cx="679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http://www2.portoalegre.rs.gov.br/smam/default.php?p_secao=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Legislação ambient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8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Normas Técni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18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395280" y="2205000"/>
            <a:ext cx="830736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Legislação ambient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8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Normas Técni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10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539640" y="1700280"/>
            <a:ext cx="81327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Legislação ambient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8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Normas Técni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10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324000" y="2565360"/>
            <a:ext cx="8523000" cy="27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Legislação ambient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8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Normas Técni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10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611280" y="1916280"/>
            <a:ext cx="7856280" cy="40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Legislação ambient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8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Normas Técni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10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1187280" y="1700280"/>
            <a:ext cx="6840720" cy="466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4"/>
          <p:cNvSpPr/>
          <p:nvPr/>
        </p:nvSpPr>
        <p:spPr>
          <a:xfrm>
            <a:off x="304920" y="609480"/>
            <a:ext cx="8534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9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Política Federal de Saneamento Básico </a:t>
            </a:r>
            <a:r>
              <a:rPr b="1" lang="pt-BR" sz="24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Lei n° 11.445 de 08/01/07</a:t>
            </a:r>
            <a:r>
              <a:rPr b="1" lang="pt-BR" sz="30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5"/>
          <p:cNvSpPr/>
          <p:nvPr/>
        </p:nvSpPr>
        <p:spPr>
          <a:xfrm>
            <a:off x="685800" y="2209680"/>
            <a:ext cx="77724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  <a:ea typeface="Lucida Sans Unicode"/>
              </a:rPr>
              <a:t>Ao obrigar o poder público a produzir planos de resíduos sólidos, de recursos hídricos e de saneamento básico e a criar agências reguladoras, a lei torna o saneamento um negócio seguro e rentável. Outro destaque é o fortalecimento da comunidade na gestão associada dos consórcios municipais a serem implementado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  <a:ea typeface="Lucida Sans Unicode"/>
              </a:rPr>
              <a:t>O artigo 57 da nova lei modifica o artigo 24 da Lei 8.666, dispensando licitação para contratação de catadores de resíduos sólidos.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4"/>
          <p:cNvSpPr/>
          <p:nvPr/>
        </p:nvSpPr>
        <p:spPr>
          <a:xfrm>
            <a:off x="304920" y="609480"/>
            <a:ext cx="8534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9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Política Federal de Saneamento Básico </a:t>
            </a:r>
            <a:r>
              <a:rPr b="1" lang="pt-BR" sz="24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Lei n° 11.445 de 08/01/07</a:t>
            </a:r>
            <a:r>
              <a:rPr b="1" lang="pt-BR" sz="30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685800" y="2209680"/>
            <a:ext cx="77724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  <a:ea typeface="Lucida Sans Unicode"/>
              </a:rPr>
              <a:t>A expectativa do Ministério do Meio Ambiente, com a promulgação da lei do saneamento, é que esta favoreça a 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  <a:ea typeface="Lucida Sans Unicode"/>
              </a:rPr>
              <a:t>aprovação da Política Nacional de Resíduos Sólidos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  <a:ea typeface="Lucida Sans Unicode"/>
              </a:rPr>
              <a:t>, que se encontra na Casa Civil. As propostas para tal política foram coletadas pelo Ministério e estão sendo estudadas desde 1991.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4"/>
          <p:cNvSpPr/>
          <p:nvPr/>
        </p:nvSpPr>
        <p:spPr>
          <a:xfrm>
            <a:off x="304920" y="609480"/>
            <a:ext cx="8534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9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Política Federal de Saneamento Básico </a:t>
            </a:r>
            <a:r>
              <a:rPr b="1" lang="pt-BR" sz="24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Lei n° 11.445 de 08/01/07</a:t>
            </a:r>
            <a:r>
              <a:rPr b="1" lang="pt-BR" sz="30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5"/>
          <p:cNvSpPr/>
          <p:nvPr/>
        </p:nvSpPr>
        <p:spPr>
          <a:xfrm>
            <a:off x="685800" y="2209680"/>
            <a:ext cx="8001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O Brasil precisa investir cerca de 180 bilhões de reais num prazo de 20 anos para universalizar os serviços de saneamento básic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  <a:ea typeface="Lucida Sans Unicode"/>
              </a:rPr>
              <a:t>Em 2006, foram investidos apenas R$ 4,5 bilhões no setor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6"/>
          <p:cNvSpPr/>
          <p:nvPr/>
        </p:nvSpPr>
        <p:spPr>
          <a:xfrm>
            <a:off x="609480" y="5334120"/>
            <a:ext cx="83059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Fonte: AESBE (Associação das Empresas de Saneamento Básico Estaduais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Legislação ambient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9"/>
          <p:cNvSpPr/>
          <p:nvPr/>
        </p:nvSpPr>
        <p:spPr>
          <a:xfrm>
            <a:off x="250920" y="907920"/>
            <a:ext cx="856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LEI FEDERAL - Projeto de Le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olítica Nacional de Resíduos Sóli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0"/>
          <p:cNvSpPr/>
          <p:nvPr/>
        </p:nvSpPr>
        <p:spPr>
          <a:xfrm>
            <a:off x="250920" y="1916280"/>
            <a:ext cx="8569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12"/>
              </a:spcBef>
              <a:buSzPct val="10275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Ementa: Estabelece diretrizes e normas para o gerenciamento dos diferentes tipos de resíduos sólido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2"/>
          <p:cNvSpPr/>
          <p:nvPr/>
        </p:nvSpPr>
        <p:spPr>
          <a:xfrm>
            <a:off x="250920" y="3343320"/>
            <a:ext cx="8569080" cy="33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12"/>
              </a:spcBef>
              <a:buSzPct val="10275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Aumento na quantidade de resíduos produzidos e escassez de áreas para disposição final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12"/>
              </a:spcBef>
              <a:buSzPct val="10275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Destinação final inadequada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12"/>
              </a:spcBef>
              <a:buSzPct val="10275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Existência de catadores, inclusive crianças nos lixões e nas ruas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12"/>
              </a:spcBef>
              <a:buSzPct val="10275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Falta de incentivo para o fortalecimento do mercado de material reciclado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12"/>
              </a:spcBef>
              <a:buSzPct val="10275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Inexistência de campanha nacional, estimulando a população a separar os materiais recicláveis e doá-los aos catadore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23"/>
          <p:cNvSpPr/>
          <p:nvPr/>
        </p:nvSpPr>
        <p:spPr>
          <a:xfrm>
            <a:off x="3276720" y="2781360"/>
            <a:ext cx="2735280" cy="431640"/>
          </a:xfrm>
          <a:prstGeom prst="roundRect">
            <a:avLst>
              <a:gd name="adj" fmla="val 16667"/>
            </a:avLst>
          </a:prstGeom>
          <a:solidFill>
            <a:srgbClr val="d5d5d5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esaf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Legislação ambient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8"/>
          <p:cNvSpPr/>
          <p:nvPr/>
        </p:nvSpPr>
        <p:spPr>
          <a:xfrm>
            <a:off x="250920" y="907920"/>
            <a:ext cx="856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LEI FEDERAL - Projeto de Le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olítica Nacional de Resíduos Sóli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0"/>
          <p:cNvSpPr/>
          <p:nvPr/>
        </p:nvSpPr>
        <p:spPr>
          <a:xfrm>
            <a:off x="250920" y="2781360"/>
            <a:ext cx="8569080" cy="38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12"/>
              </a:spcBef>
              <a:buSzPct val="10275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Insuficiência de recursos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12"/>
              </a:spcBef>
              <a:buSzPct val="10275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Cobrança inexistente ou insuficiente para a implementação de novos investimentos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12"/>
              </a:spcBef>
              <a:buSzPct val="10275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Baixos níveis de qualidade e eficiência na prestação dos serviços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12"/>
              </a:spcBef>
              <a:buSzPct val="10275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Inexistência de linha de apoio à capacitação de recursos humanos e de catadores para a gestão dos resíduos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12"/>
              </a:spcBef>
              <a:buSzPct val="10275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Descontinuidade de ações no âmbito local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12"/>
              </a:spcBef>
              <a:buSzPct val="10275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OGU como principal fonte de recursos, sujeito a Cortes orçamentários e pulverização de recursos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11"/>
          <p:cNvSpPr/>
          <p:nvPr/>
        </p:nvSpPr>
        <p:spPr>
          <a:xfrm>
            <a:off x="3276720" y="1989000"/>
            <a:ext cx="2735280" cy="432000"/>
          </a:xfrm>
          <a:prstGeom prst="roundRect">
            <a:avLst>
              <a:gd name="adj" fmla="val 16667"/>
            </a:avLst>
          </a:prstGeom>
          <a:solidFill>
            <a:srgbClr val="d5d5d5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esaf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Legislação ambient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8"/>
          <p:cNvSpPr/>
          <p:nvPr/>
        </p:nvSpPr>
        <p:spPr>
          <a:xfrm>
            <a:off x="250920" y="907920"/>
            <a:ext cx="856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LEI FEDERAL - Projeto de Le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olítica Nacional de Resíduos Sóli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9"/>
          <p:cNvSpPr/>
          <p:nvPr/>
        </p:nvSpPr>
        <p:spPr>
          <a:xfrm>
            <a:off x="250920" y="2781360"/>
            <a:ext cx="8569080" cy="38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12"/>
              </a:spcBef>
              <a:buSzPct val="10275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Insuficiência de quadros na estrutura do poder público das três esferas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12"/>
              </a:spcBef>
              <a:buSzPct val="10275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Baixa capacidade operacional na maioria dos OEMAS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12"/>
              </a:spcBef>
              <a:buSzPct val="10275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Em 70% dos municípios não existe órgão específico para a Limpeza Urbana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12"/>
              </a:spcBef>
              <a:buSzPct val="10275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Ausência de instrumentos adequados de regulação e controle sobre a prestação dos serviços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12"/>
              </a:spcBef>
              <a:buSzPct val="10275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Inexistência de responsabilização do gerador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12"/>
              </a:spcBef>
              <a:buSzPct val="10275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Ausência de uma Política Nacional de Resíduos Sólido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10"/>
          <p:cNvSpPr/>
          <p:nvPr/>
        </p:nvSpPr>
        <p:spPr>
          <a:xfrm>
            <a:off x="3276720" y="1989000"/>
            <a:ext cx="2735280" cy="432000"/>
          </a:xfrm>
          <a:prstGeom prst="roundRect">
            <a:avLst>
              <a:gd name="adj" fmla="val 16667"/>
            </a:avLst>
          </a:prstGeom>
          <a:solidFill>
            <a:srgbClr val="d5d5d5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esaf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Legislação ambient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8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lanos Estratégicos Naciona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9"/>
          <p:cNvSpPr/>
          <p:nvPr/>
        </p:nvSpPr>
        <p:spPr>
          <a:xfrm>
            <a:off x="250920" y="1989000"/>
            <a:ext cx="8569080" cy="412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12"/>
              </a:spcBef>
              <a:buSzPct val="10275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PL nº5.296/2005 da Política Nacional de Saneamento SNSA/MCIDAD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Diretrizes para a prestação de serviços públicos de manejo dos resíduos sólido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12"/>
              </a:spcBef>
              <a:buSzPct val="10275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Proposta de Política Nacional de Resíduos Sólido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CONAMA/SQA/MMA com apoio do MCidades e de entidades públicas e outras organizaçõe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12"/>
              </a:spcBef>
              <a:buSzPct val="10275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Comitê Interministerial de Inclusão Social de Catadores e à Erradicação dos Lixõ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(MinCidades/FUNASA/MMA/MDS e outros)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5T18:40:57Z</dcterms:created>
  <dc:creator>José Rojas</dc:creator>
  <dc:description/>
  <dc:language>en-US</dc:language>
  <cp:lastModifiedBy>ROJAS</cp:lastModifiedBy>
  <dcterms:modified xsi:type="dcterms:W3CDTF">2014-05-08T01:26:50Z</dcterms:modified>
  <cp:revision>209</cp:revision>
  <dc:subject/>
  <dc:title>Slide 1</dc:title>
</cp:coreProperties>
</file>