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6.wmf" ContentType="image/x-wmf"/>
  <Override PartName="/ppt/media/image23.png" ContentType="image/png"/>
  <Override PartName="/ppt/media/image28.wmf" ContentType="image/x-wmf"/>
  <Override PartName="/ppt/media/image30.wmf" ContentType="image/x-wmf"/>
  <Override PartName="/ppt/media/image10.png" ContentType="image/png"/>
  <Override PartName="/ppt/media/image6.png" ContentType="image/png"/>
  <Override PartName="/ppt/media/image11.png" ContentType="image/png"/>
  <Override PartName="/ppt/media/image31.wmf" ContentType="image/x-wmf"/>
  <Override PartName="/ppt/media/image7.png" ContentType="image/png"/>
  <Override PartName="/ppt/media/image12.png" ContentType="image/png"/>
  <Override PartName="/ppt/media/image32.wmf" ContentType="image/x-wmf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DEA5ED62-2494-434E-AB81-2239EF86778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1289B50-B5B2-4560-94B5-B90A4CB5ABC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82B1-6795-4A01-AE16-7DE3A5CF3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14A-39E2-4286-86CE-866460C6F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46CF-A4C7-4A8F-8AAD-1774C6AE3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7C983-45F9-4414-8DB5-A1B87E37F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9E31-973F-40E0-9CA0-58870B8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0988-255B-414B-B7EE-03D254E1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BA07-E14C-4924-81C3-C3A5607D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D986-2123-4ADB-B752-E04EA004D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239-AD33-481D-A62D-990374E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EAA5-8BC9-4F92-AF99-4B938DB9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3931D-30F3-4BD1-8698-8143C7FB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7543-1065-444A-89B1-0A48EE7F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EB8A5-FC9F-4E5C-B582-23F05401D0E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leta Seletiv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468360" y="1771560"/>
            <a:ext cx="8136000" cy="343152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Vários segmentos de uma comunidade podem participar do programa de coleta seleti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Cada um fazendo uma parte e se beneficiando dos resul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Exemplo disso é a parceria entre as unidades produtoras de lixo e gestoras da coleta seletiva (condomínios, escolas, empresas, etc.) e as cooperativas ou associações que receberão os materiais selecionados e que muitas vezes podem se encarregar da retirada dos mesm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4" descr=""/>
          <p:cNvPicPr/>
          <p:nvPr/>
        </p:nvPicPr>
        <p:blipFill>
          <a:blip r:embed="rId1"/>
          <a:stretch/>
        </p:blipFill>
        <p:spPr>
          <a:xfrm>
            <a:off x="968400" y="836640"/>
            <a:ext cx="7203960" cy="1230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"/>
          <p:cNvPicPr/>
          <p:nvPr/>
        </p:nvPicPr>
        <p:blipFill>
          <a:blip r:embed="rId2"/>
          <a:stretch/>
        </p:blipFill>
        <p:spPr>
          <a:xfrm>
            <a:off x="1692360" y="2276640"/>
            <a:ext cx="568944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751880" cy="1065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"/>
          <p:cNvPicPr/>
          <p:nvPr/>
        </p:nvPicPr>
        <p:blipFill>
          <a:blip r:embed="rId2"/>
          <a:stretch/>
        </p:blipFill>
        <p:spPr>
          <a:xfrm>
            <a:off x="1187280" y="2276640"/>
            <a:ext cx="699300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"/>
          <p:cNvPicPr/>
          <p:nvPr/>
        </p:nvPicPr>
        <p:blipFill>
          <a:blip r:embed="rId2"/>
          <a:stretch/>
        </p:blipFill>
        <p:spPr>
          <a:xfrm>
            <a:off x="179280" y="1855800"/>
            <a:ext cx="8785440" cy="2130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"/>
          <p:cNvPicPr/>
          <p:nvPr/>
        </p:nvPicPr>
        <p:blipFill>
          <a:blip r:embed="rId3"/>
          <a:stretch/>
        </p:blipFill>
        <p:spPr>
          <a:xfrm>
            <a:off x="179280" y="4567320"/>
            <a:ext cx="878544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3" descr=""/>
          <p:cNvPicPr/>
          <p:nvPr/>
        </p:nvPicPr>
        <p:blipFill>
          <a:blip r:embed="rId2"/>
          <a:stretch/>
        </p:blipFill>
        <p:spPr>
          <a:xfrm>
            <a:off x="466560" y="1628640"/>
            <a:ext cx="8209080" cy="17938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4" descr=""/>
          <p:cNvPicPr/>
          <p:nvPr/>
        </p:nvPicPr>
        <p:blipFill>
          <a:blip r:embed="rId3"/>
          <a:stretch/>
        </p:blipFill>
        <p:spPr>
          <a:xfrm>
            <a:off x="466560" y="3573360"/>
            <a:ext cx="8209080" cy="31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0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415280" cy="3794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4" descr=""/>
          <p:cNvPicPr/>
          <p:nvPr/>
        </p:nvPicPr>
        <p:blipFill>
          <a:blip r:embed="rId2"/>
          <a:stretch/>
        </p:blipFill>
        <p:spPr>
          <a:xfrm>
            <a:off x="179280" y="2554200"/>
            <a:ext cx="8713800" cy="30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7907400" cy="4381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3" descr=""/>
          <p:cNvPicPr/>
          <p:nvPr/>
        </p:nvPicPr>
        <p:blipFill>
          <a:blip r:embed="rId2"/>
          <a:stretch/>
        </p:blipFill>
        <p:spPr>
          <a:xfrm>
            <a:off x="252360" y="1957320"/>
            <a:ext cx="8640720" cy="2408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4" descr=""/>
          <p:cNvPicPr/>
          <p:nvPr/>
        </p:nvPicPr>
        <p:blipFill>
          <a:blip r:embed="rId3"/>
          <a:stretch/>
        </p:blipFill>
        <p:spPr>
          <a:xfrm>
            <a:off x="252360" y="5002200"/>
            <a:ext cx="864072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3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6373800" cy="379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4" descr=""/>
          <p:cNvPicPr/>
          <p:nvPr/>
        </p:nvPicPr>
        <p:blipFill>
          <a:blip r:embed="rId2"/>
          <a:stretch/>
        </p:blipFill>
        <p:spPr>
          <a:xfrm>
            <a:off x="179280" y="2066760"/>
            <a:ext cx="8785440" cy="388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5256360" cy="4557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13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7805880" cy="1350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3"/>
          <a:stretch/>
        </p:blipFill>
        <p:spPr>
          <a:xfrm>
            <a:off x="179280" y="2060640"/>
            <a:ext cx="8713800" cy="31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nicialmente é necessário a conscientização de todos para a busca de soluções para o grave problema. Isto é possível através de palestras, manual de Coleta Seletiva e cartazes demonstrando as vantagens da reciclagem, da preservação dos recursos naturais e a não poluição do meio ambien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próxima fase, é necessário sinalizar e disponibilizar coletores específicos para cada tipo de material em lugar comum a todos e de fácil acesso. Hoje, além dos coletores é possível disponibilizar sacos de lixos nas cores padrões de cada mater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última fase é necessário ter um sistema pré-determinado para o recolhimento dos materiais selecionados e que deverão ser encaminhados para as usinas de reciclage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implantar 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4" descr=""/>
          <p:cNvPicPr/>
          <p:nvPr/>
        </p:nvPicPr>
        <p:blipFill>
          <a:blip r:embed="rId5"/>
          <a:stretch/>
        </p:blipFill>
        <p:spPr>
          <a:xfrm>
            <a:off x="7524720" y="0"/>
            <a:ext cx="161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4"/>
          <p:cNvSpPr/>
          <p:nvPr/>
        </p:nvSpPr>
        <p:spPr>
          <a:xfrm>
            <a:off x="250920" y="1825560"/>
            <a:ext cx="856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algumas formas de coletas de materiais recicláve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exemplo é o sistema de porta a porta onde os caminhões do serviço de limpeza passam recolhendo os materiais separados, como na coleta de lixo comum, mas em dias específic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egundo exemplo é através da entrega voluntária (PEV) em postos de coleta distribuídos pela cidade nas escolas, praças, supermercados, etc., onde a população entrega os materiais separados nos respectivos colet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oje existem, também, empresas especializadas que retiram os materiais selecionados e encaminham para as usinas de reciclagens mediante contratos ou solicitações. Este método é mais adequado às empresas onde o volume de material é mai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stemas de coleta de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867280" y="0"/>
            <a:ext cx="327672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250920" y="148428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EPARAÇÃO DO LIXO RECICLÁVEL DO NÃO RECICLÁ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cotidiano de nossas cidades, são produzidas milhares de toneladas de lixo. Há muito tempo este resíduo é um dos grandes problemas que o poder público e a sociedade tem enfrentado, buscando soluções que nem sempre atendem as necessidades. Razão disso a degradação do meio ambiente, tais como as contaminações de nossos rios, a poluição do ar, ruas sujas, proliferação de insetos, ratos, etc, causando doenç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solução mais eficiente é a separação dos materiais recicláveis para o reaproveitamento, transformando o problema do lixo em solução econômica e social. Para que isto seja possível é preciso que todos participem colaborando com o programa de Coleta Seletiv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imeiro p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"/>
          <p:cNvPicPr/>
          <p:nvPr/>
        </p:nvPicPr>
        <p:blipFill>
          <a:blip r:embed="rId5"/>
          <a:stretch/>
        </p:blipFill>
        <p:spPr>
          <a:xfrm>
            <a:off x="6732720" y="0"/>
            <a:ext cx="241128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75 latas de aço, recicladas, preserva-se uma árvore que seria usada como carv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ada tonelada de papel reciclado, evita-se a derrubada de 16 a 30 árvores adulta, em méd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ada 100 toneladas de plástico reciclado, evita-se a extração de 1 tonelada de petróleo e a economia em torno de 90% de energ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10% de vidro reciclado, economiza-se 4% de energia e reduz 10% no consumo de águ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vantagens da reciclagem são muitas mas acima de tudo, ela melhora a qualidade de vida, minimiza os efeitos da poluição no planeta, gera empregos e rendas, além de valorizar as empresas ambientalmente corret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3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enefícios da coleta sele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6" descr=""/>
          <p:cNvPicPr/>
          <p:nvPr/>
        </p:nvPicPr>
        <p:blipFill>
          <a:blip r:embed="rId7"/>
          <a:stretch/>
        </p:blipFill>
        <p:spPr>
          <a:xfrm>
            <a:off x="6588000" y="0"/>
            <a:ext cx="255600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1484280"/>
            <a:ext cx="8569080" cy="22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principais materiais recicláveis são papeis, plásticos, vidro e met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odos deverão ser separados e colocados em coletores ou sacos plásticos de preferência na cor padrão de cada material conforme resolução do CONAMA (Conselho Nacional do Meio Ambiente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3" descr=""/>
          <p:cNvPicPr/>
          <p:nvPr/>
        </p:nvPicPr>
        <p:blipFill>
          <a:blip r:embed="rId4"/>
          <a:stretch/>
        </p:blipFill>
        <p:spPr>
          <a:xfrm>
            <a:off x="1476360" y="429264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250920" y="1484280"/>
            <a:ext cx="8569080" cy="34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Orgânico ou Úmido - São restos de comidas, cascas de frutas e legume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jeitos - Lenços e guardanapos de papel, absorvente e papel higiênico, fraldas, papéis sujos, espelhos, cerâmicas, porcelan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Especiais - Pilhas e bate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síduos Hospitalar - Curativos, gazes, algodão, sering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ixo Químico ou Tóxico - Embalagens de agrotóx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eriais não recicl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2" descr=""/>
          <p:cNvPicPr/>
          <p:nvPr/>
        </p:nvPicPr>
        <p:blipFill>
          <a:blip r:embed="rId7"/>
          <a:stretch/>
        </p:blipFill>
        <p:spPr>
          <a:xfrm>
            <a:off x="1476360" y="4948200"/>
            <a:ext cx="6048360" cy="17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3" descr=""/>
          <p:cNvPicPr/>
          <p:nvPr/>
        </p:nvPicPr>
        <p:blipFill>
          <a:blip r:embed="rId1"/>
          <a:stretch/>
        </p:blipFill>
        <p:spPr>
          <a:xfrm>
            <a:off x="1979640" y="836640"/>
            <a:ext cx="4968720" cy="534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4" descr=""/>
          <p:cNvPicPr/>
          <p:nvPr/>
        </p:nvPicPr>
        <p:blipFill>
          <a:blip r:embed="rId2"/>
          <a:stretch/>
        </p:blipFill>
        <p:spPr>
          <a:xfrm>
            <a:off x="684360" y="1557360"/>
            <a:ext cx="7634160" cy="20527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06" name="Picture 15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4105080" cy="43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"/>
          <p:cNvPicPr/>
          <p:nvPr/>
        </p:nvPicPr>
        <p:blipFill>
          <a:blip r:embed="rId4"/>
          <a:stretch/>
        </p:blipFill>
        <p:spPr>
          <a:xfrm>
            <a:off x="684360" y="4365720"/>
            <a:ext cx="7632720" cy="227016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leta Seleti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1"/>
          <a:stretch/>
        </p:blipFill>
        <p:spPr>
          <a:xfrm>
            <a:off x="2627280" y="981000"/>
            <a:ext cx="3889440" cy="511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"/>
          <p:cNvPicPr/>
          <p:nvPr/>
        </p:nvPicPr>
        <p:blipFill>
          <a:blip r:embed="rId2"/>
          <a:stretch/>
        </p:blipFill>
        <p:spPr>
          <a:xfrm>
            <a:off x="755640" y="1557360"/>
            <a:ext cx="7632720" cy="2251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116" name="Picture 16" descr=""/>
          <p:cNvPicPr/>
          <p:nvPr/>
        </p:nvPicPr>
        <p:blipFill>
          <a:blip r:embed="rId3"/>
          <a:stretch/>
        </p:blipFill>
        <p:spPr>
          <a:xfrm>
            <a:off x="2770200" y="3860640"/>
            <a:ext cx="3673440" cy="6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7" descr=""/>
          <p:cNvPicPr/>
          <p:nvPr/>
        </p:nvPicPr>
        <p:blipFill>
          <a:blip r:embed="rId4"/>
          <a:stretch/>
        </p:blipFill>
        <p:spPr>
          <a:xfrm>
            <a:off x="755640" y="4568760"/>
            <a:ext cx="7632720" cy="2100240"/>
          </a:xfrm>
          <a:prstGeom prst="rect">
            <a:avLst/>
          </a:prstGeom>
          <a:ln w="38160">
            <a:solidFill>
              <a:srgbClr val="00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2:06Z</dcterms:modified>
  <cp:revision>277</cp:revision>
  <dc:subject/>
  <dc:title>Slide 1</dc:title>
</cp:coreProperties>
</file>