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wmf" ContentType="image/x-wmf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E1786CAB-2694-4BF7-83DE-F0B9F4CEC6A5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4A9E01B1-3EE6-4FBE-8B48-1C6B50986646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2A6A-182B-4D95-877F-F5A9D4A8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AB79-B072-4531-855D-0A8B522DF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7964-DCAE-46A0-B292-191FCC2C6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A18-D7E0-45F0-B36E-EC720D5D0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A1D8-0484-45CE-9C22-EA569FDE9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AB65-C451-4565-A081-BB1265B0D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D66D-D481-4683-B8D9-C705B917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5D5A-67D6-4D47-B819-CAB774FF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57AE-0F57-4F79-8693-F2AA48BB6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9E93-69B5-473E-A44B-08089A475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C0CE-2064-40D4-9974-13BC803C9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431C-44FB-411F-84FF-0DA3E5E8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F112-24CD-4924-B85C-29E6CD09EA7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ompostage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250920" y="1670040"/>
            <a:ext cx="8569080" cy="412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nto à forma das pilhas, recomenda-se para as estações chuvosas, que se montem as pilhas com formato triangular com o ápice ligeiramente arredondado, para favorecer o escorrimento da água. Em outras estações, as pilhas podem ter formato trapezoid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a área demarcada dispõe-se uma camada de gravetos para servir de suportes, sobre a qual coloca-se uma camada de 15 cm de materiais misturados e classificados como restos veget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Quanto mais variados forem estes restos menor será a tendência à compactação, o qual é mais intenso quando se emprega um só tipo de res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250920" y="2146320"/>
            <a:ext cx="8569080" cy="345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medida que se completa a formação de cada camada, deve ser feita a irrigação preferencialmente com chuveiro com furos fi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s materiais devem ser colocados sem serem compactados ou pisoteados, procurando-se ter o máximo de espaços vazios, para garantir arejamento ao compos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bservando-se essas condições, a fermentação produzirá calor e a temperatura se elevará, sendo esta a primeira indicação do início da compostag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250920" y="1773360"/>
            <a:ext cx="8569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comenda-se que sejam feitos, ao longo do processo, de três a cinco revolvimentos, dependendo da textura do material utilizado, pois materiais mais grosseiros necessitam maior número de revolvim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es são realizados em intervalos de 25 a 30 dias, logo após o início da diminuição da temperatura, ou quando se notar a necessidade de fazê-los, por excesso de umidade, mau cheiro, presença de moscas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é um processo que ocorre sem exalar mau cheiro e sem atrair moscas. Se isso estiver ocorrendo, basta revolvê-lo mais vezes, sem irrigá-lo, até que a fase de putrefação instalada, responsável por esses inconvenientes, desapareç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250920" y="1557360"/>
            <a:ext cx="856908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composto estará pronto para uso quando não apresentar aquecimento após a ação de revolvimento e irrigação e quando estiver com aparência homogênea, coloração escura, onde não se possa mais distinguir os materiais originai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geral o processo demora de 75 a 90 dias, mas pode ser acelerado, caso haja disponibilidade de mão de obra ou máquinas para revolver o composto logo que este passar pelo ponto de maior aqueciment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geral isto ocorre de 25 a 30 dias após a montagem do composto e tempo semelhante após cada revolvi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de-se sincronizar a maturação com a época de utilização do composto, espaçando ou encurtando o tempo entre os revolvim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250920" y="1762200"/>
            <a:ext cx="856908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saber se o composto já está humificado e pronto para o uso, toma-se uma pequena amostra umedecida, molda-se entre os dedos, esfrega-se na palma da m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material estará pronto para ser usado quando apresenta aspecto gorduroso de graxa preta ou “manteiga preta”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urante o processo de maturação ocorre uma perda de volume que pode variar de 30 a 70% (em média 50%), dependendo do tipo de material utiliza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t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250920" y="1557360"/>
            <a:ext cx="856908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ausência de calor dentro dos primeiros dias indica insucesso da compostag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deve ser feita em ambiente com abundância de ar (aeróbico), onde a decomposição, além de mais rápida e melhor conduzida, não produz mau cheiro nem proliferação de mosc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falta de ar pode ser controlada pelo revolvimento, que areja a massa e favorece a eliminação do excesso da água, pela redução das dimensões da pilha e pela incorporação da cavacos de madei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irrigação do composto para reposição de água deve ser feita preferencialmente por ocasião dos revolvimentos, aplicando-se água sempre que possível através de chuveiro de crivos fin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ca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50920" y="1557360"/>
            <a:ext cx="8569080" cy="447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cesso de umidade do composto pode ser reduzido pelos revolviment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freqüência dos revolvimentos, não tem necessariamente que ser executada com grande rigor, porém, o não revolvimento, poderá causar um aumento do tempo de compostagem além dos problemas já citados aci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falta de meios de fermentação em quantidade ou qualidade adequados, não impede o processo de compostagem, somente causará um prolongamento no process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cas impor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250920" y="1557360"/>
            <a:ext cx="8569080" cy="50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TAMINANTES DE RES. URBANOS OUINDUSTR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BD- sacolas de varej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ILH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ATERIAS ALCALIN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ATERIAS DE AUTOMÓVE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VID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EDAÇOS DE ME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ESERV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BORRACH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GROTÓXICOS E XENOBIÓTIC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mitações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0" descr=""/>
          <p:cNvPicPr/>
          <p:nvPr/>
        </p:nvPicPr>
        <p:blipFill>
          <a:blip r:embed="rId2"/>
          <a:stretch/>
        </p:blipFill>
        <p:spPr>
          <a:xfrm>
            <a:off x="1619280" y="1774800"/>
            <a:ext cx="5938920" cy="46785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0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977080" cy="4680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50920" y="1700280"/>
            <a:ext cx="8569080" cy="3895560"/>
          </a:xfrm>
          <a:prstGeom prst="rect">
            <a:avLst/>
          </a:prstGeom>
          <a:solidFill>
            <a:srgbClr val="d5d5d5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Century Gothic"/>
              </a:rPr>
              <a:t>O grande objetivo da compostagem do lixo urbano é de fornecer uma alternativa exeqüível técnica e economicamente à disposição final do mesmo. A compostagem é uma forma racional de tratamento, pois reduz os inconvenientes na área social, ecológica e de saúde pública causados pelos “aterros” ou disposição pura e simples no ambiente natural (PRADO FILHO, 1985 apud PARCHEN, 1988, p. 7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0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826240" cy="46782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0" descr=""/>
          <p:cNvPicPr/>
          <p:nvPr/>
        </p:nvPicPr>
        <p:blipFill>
          <a:blip r:embed="rId2"/>
          <a:stretch/>
        </p:blipFill>
        <p:spPr>
          <a:xfrm>
            <a:off x="1619280" y="1773360"/>
            <a:ext cx="5919840" cy="46782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10" descr=""/>
          <p:cNvPicPr/>
          <p:nvPr/>
        </p:nvPicPr>
        <p:blipFill>
          <a:blip r:embed="rId2"/>
          <a:stretch/>
        </p:blipFill>
        <p:spPr>
          <a:xfrm>
            <a:off x="1547640" y="1773360"/>
            <a:ext cx="6013800" cy="4680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0" descr=""/>
          <p:cNvPicPr/>
          <p:nvPr/>
        </p:nvPicPr>
        <p:blipFill>
          <a:blip r:embed="rId2"/>
          <a:stretch/>
        </p:blipFill>
        <p:spPr>
          <a:xfrm>
            <a:off x="1619280" y="1847880"/>
            <a:ext cx="5891040" cy="46767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10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5931000" cy="468000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resumido da Compost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0" descr=""/>
          <p:cNvPicPr/>
          <p:nvPr/>
        </p:nvPicPr>
        <p:blipFill>
          <a:blip r:embed="rId2"/>
          <a:stretch/>
        </p:blipFill>
        <p:spPr>
          <a:xfrm>
            <a:off x="1692360" y="1844640"/>
            <a:ext cx="5823000" cy="4676760"/>
          </a:xfrm>
          <a:prstGeom prst="rect">
            <a:avLst/>
          </a:prstGeom>
          <a:ln w="38160">
            <a:solidFill>
              <a:srgbClr val="80808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6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ipais características para reconhecimento prático de um composto mad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Object 10"/>
          <p:cNvGraphicFramePr/>
          <p:nvPr/>
        </p:nvGraphicFramePr>
        <p:xfrm>
          <a:off x="468360" y="2565360"/>
          <a:ext cx="8207280" cy="25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9" name="Object 1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2565360"/>
                    <a:ext cx="8207280" cy="25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6"/>
          <p:cNvSpPr/>
          <p:nvPr/>
        </p:nvSpPr>
        <p:spPr>
          <a:xfrm>
            <a:off x="250920" y="1484280"/>
            <a:ext cx="8569080" cy="49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é um processo biológico de transformação de resíduos orgânicos em substância húmic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 outras palavras, a partir da mistura de restos de alimentos, frutos, folhas, estercos, palhadas, etc. (matérias-primas), obtêm-se, no final do processo, um adubo orgânico homogêneo, sem cheiro, de cor escura, estável, solto, pronto para ser usado em qualquer cultura sem causar dano e proporcionando uma melhoria nas propriedades físicas, químicas e biológicas do sol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transformações dos resíduos ocorre principalmente através da ação de microorganismos, podendo ser subdividida em duas etapas: uma física (desintegração) e outra química (decomposiçã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it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1484280"/>
            <a:ext cx="856908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urante a compostagem, há desprendimento de gás carbônico, energia e água (na forma de vapor), devido a ação dos microrganism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te da energia é usada para o crescimento dos microrganismos, sendo o restante liberada como calo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o resultado, o material que está sendo compostado se aquece, atinge uma temperatura elevada, resfria e atinge estágio de maturação. Após a maturação o adubo orgânico, também conhecido como composto orgânico ou “húmus”, estará pronto, sendo constituído de partes resistentes dos resíduos orgânicos, produtos decompostos e microrganismos mortos e viv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eito Ini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250920" y="1484280"/>
            <a:ext cx="856908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composto em pequena escala pode ser preparado com o auxílio de composteiras, que se prestam para trabalhar com pequenos volumes de resíduos orgânicos desde um quarto de metro cúbico (0,25 m</a:t>
            </a:r>
            <a:r>
              <a:rPr b="0" lang="pt-BR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 até um metro cúbico (1m</a:t>
            </a:r>
            <a:r>
              <a:rPr b="0" lang="pt-BR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). Além desse limite é mais prático montar pilhas diretamente sobre o sol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compostagem em pequena escala é ideal para ser realizada em residências ou pequenas chácar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e os restos vegetais estiverem secos é necessário irrigar à medida que vai dispondo-se o material dentro da composteira, sem contudo encharcar ou deixar escorrer água pela base do composto; se isso acontecer suspender a irrigação e revolver a massa diariamente até que cesse o escorri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4"/>
          <p:cNvSpPr/>
          <p:nvPr/>
        </p:nvSpPr>
        <p:spPr>
          <a:xfrm>
            <a:off x="250920" y="1670040"/>
            <a:ext cx="8569080" cy="48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No início do processo de compostagem, recomenda-se revolver o material diariamente; depois de uma ou duas semanas, revolver uma vez por semana ou sempre que se notar mau cheir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revolvimento do composto pode ser feito cortando-se com pá ou forcado de dentes estreitos, primeiramente as partes mais externas do material, as quais serão colocadas no centro da  composteira; a porção interna do material será colocada sobre a anterior, promovendo-se assim uma completa inversão, isto é, a camada de fora vai para dentro e a de dentro vai para fo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Recomenda-se trabalhar com duas composteiras simultaneamente ou com uma composteira com dois ou mais compartimentos, o que permite a condução de mais de um composto ao mesmo temp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250920" y="1670040"/>
            <a:ext cx="8569080" cy="42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composteiras apresentam uma estrutura simples e de fácil construção, sendo basicamente uma caixa dimensionada de acordo com a quantidade de material a ser compostado, podendo ser construído de bambu, madeira, grade de arame ou alvenaria, montada sobre chão de terra ou piso cimentado. Na escolha do tipo de material para construção deve-se dar preferência aos materiais disponíveis na propriedade de forma a baratear o custo da construçã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exemplificar a construção de composteiras com formato de caixa quadrada, as dimensões laterais (arestas) para alguns volumes de materiais a serem compostados são apresentados na Tabela a segui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pequena esca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"/>
          <p:cNvPicPr/>
          <p:nvPr/>
        </p:nvPicPr>
        <p:blipFill>
          <a:blip r:embed="rId2"/>
          <a:stretch/>
        </p:blipFill>
        <p:spPr>
          <a:xfrm>
            <a:off x="684360" y="2565360"/>
            <a:ext cx="795816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50920" y="1670040"/>
            <a:ext cx="8569080" cy="46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montagem da pilha (monte, meda ou leira) deve ser feita preferencialmente em terreno levemente inclinado para evitar que a água empoce na época das chuv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local escolhido deve ficar localizado próximo à uma fonte de água para facilitar a irrigaçã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reparo, sempre que possível, deve ser feito onde se encontra a maior quantidade de matéria-prima ou próximo de onde vai ser instalada a cultura a ser adubada com o compos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colhido o local, demarca-se no chão uma área de 3 a 4 metros de largura, deixando-se um espaço para um comprimento indeterminado, que poderá variar de acordo com a disponibilidade de material a ser compostado no moment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paro de composto em grande escala (pilh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179280" y="692280"/>
            <a:ext cx="5400720" cy="7272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08000" y="173160"/>
            <a:ext cx="684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Century Gothic"/>
              </a:rPr>
              <a:t>Compostage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49:44Z</dcterms:modified>
  <cp:revision>215</cp:revision>
  <dc:subject/>
  <dc:title>Slide 1</dc:title>
</cp:coreProperties>
</file>