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61A3FF93-9E7D-4D35-BB7A-21224764DC8B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B34D9B55-1DAC-4ACC-BDFC-5E6F84E18BB6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6F03-34F4-4DBA-B928-49D7B992E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28C4-CAFC-4F7C-BA0C-CCEAD18E7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52C-EAEB-4AF2-BBA5-BF4F01465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765F-E514-4150-83AA-F1D94567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1CC2-DB2D-4009-8933-D26354B25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9792-0A2C-4822-9C0F-528D35637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3DC1-DF26-4216-9F31-5098FFB24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58154-963C-44C0-BA46-5E3F205E3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3CC4-E565-4469-BC70-0607F42F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393B-7167-4040-B47C-D57B28E99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06BA-1628-4C02-9E0E-0B60FB473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CAF0-D490-4DCE-A411-E917C167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F4687-2700-4FCD-AA98-04E2B71E445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0.png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ição Gravimét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2873880" y="6165000"/>
            <a:ext cx="33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vazio sendo pes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71755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1420200" y="6165000"/>
            <a:ext cx="62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atro locais diferentes para serem recolhidas as amostr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1" descr=""/>
          <p:cNvPicPr/>
          <p:nvPr/>
        </p:nvPicPr>
        <p:blipFill>
          <a:blip r:embed="rId2"/>
          <a:stretch/>
        </p:blipFill>
        <p:spPr>
          <a:xfrm>
            <a:off x="1042920" y="1628640"/>
            <a:ext cx="697392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1769760" y="6165000"/>
            <a:ext cx="55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acos sendo rasgados e pesados até alcançar 30K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1" descr=""/>
          <p:cNvPicPr/>
          <p:nvPr/>
        </p:nvPicPr>
        <p:blipFill>
          <a:blip r:embed="rId2"/>
          <a:stretch/>
        </p:blipFill>
        <p:spPr>
          <a:xfrm>
            <a:off x="1136520" y="1700280"/>
            <a:ext cx="68914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9"/>
          <p:cNvSpPr/>
          <p:nvPr/>
        </p:nvSpPr>
        <p:spPr>
          <a:xfrm>
            <a:off x="2949480" y="616500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Homogeneização da amos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1" descr=""/>
          <p:cNvPicPr/>
          <p:nvPr/>
        </p:nvPicPr>
        <p:blipFill>
          <a:blip r:embed="rId2"/>
          <a:stretch/>
        </p:blipFill>
        <p:spPr>
          <a:xfrm>
            <a:off x="1042920" y="1633680"/>
            <a:ext cx="6985080" cy="43164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2916720" y="6165000"/>
            <a:ext cx="328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ostra que será classif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11" descr=""/>
          <p:cNvPicPr/>
          <p:nvPr/>
        </p:nvPicPr>
        <p:blipFill>
          <a:blip r:embed="rId2"/>
          <a:stretch/>
        </p:blipFill>
        <p:spPr>
          <a:xfrm>
            <a:off x="1042920" y="1701720"/>
            <a:ext cx="702144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s amostras podem ser classificadas e separadas segundo a NBR 10007 da seguinte for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250920" y="1835280"/>
            <a:ext cx="856908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éria orgânic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pel, papelão e jor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balagem longa vi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lásticos (Mole e Duro), Pet e Isop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ferros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etais não-ferrosos (alumínio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pos, Panos, Couros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ilhas e bate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r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versos (sendo todo o resto que não conseguimos classificar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2" descr=""/>
          <p:cNvPicPr/>
          <p:nvPr/>
        </p:nvPicPr>
        <p:blipFill>
          <a:blip r:embed="rId14"/>
          <a:stretch/>
        </p:blipFill>
        <p:spPr>
          <a:xfrm>
            <a:off x="5148360" y="2349360"/>
            <a:ext cx="353376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484280"/>
            <a:ext cx="8569080" cy="16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Norma Brasileira NBR 10007 (2004) da ABNT fixa os requisitos exigíveis para amostragem de resíduos sóli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amostras devem seguir as seguintes definições, segundo a referida norm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250920" y="3463920"/>
            <a:ext cx="8569080" cy="30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compost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soma de parcelas individuais do resíduo a serem estudadas, obtidas em pontos, profundidades e/ou instantes diferentes, através dos processos de amostragem. Estas parcelas devem ser misturadas de forma a se obter uma amostra homogên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homogênea: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uma amostra obtida pela melhor mistura possível das alíquotas dos resíduos. Esta mistura deve ser feita de modo que a amostra resultante apresente características semelhantes em todos os seus pontos. Para resíduos no estado sólido, esta homogeneização deve ser feita pelo quarte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538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mostra representativa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, e que, quando analisada, apresenta as mesmas características e propriedades da massa total do resídu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250920" y="1716120"/>
            <a:ext cx="8569080" cy="47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)  Amostra simple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a parcela do resíduo a ser estudada, obtida através de um processo de amostragem em um único ponto ou profund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)   Amostrad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equipamento ou aparelho utilizado para coleta de amostr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ntêiner de resíduos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qualquer recipiente portátil no qual o resíduo pode ser transportado, armazenado, tratado ou, de outra forma manuse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ilha ou monte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Qualquer acúmulo de resíduo não contido, que não apresenta escoamento superfi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Quarteament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o processo de divisão em quatro partes iguais de uma amostra pré-homogeneizada, sendo tomadas duas partes opostas entre si para constituir uma nova amostra e descartadas as partes restantes. As partes não descartadas são misturadas totalmente e o processo de quarteamento é repetido até que se obtenha o volume desej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ambor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É um recipiente portátil, cilíndrico, feito de chapa metálica ou material plástico, com capacidade máxima de 250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Arial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Técnico de amostragem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rofissional técnico responsável pela execução da coleta de amostra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6"/>
          <p:cNvSpPr/>
          <p:nvPr/>
        </p:nvSpPr>
        <p:spPr>
          <a:xfrm>
            <a:off x="250920" y="148428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subseção estabelece as linhas básicas que devem ser observadas, antes de se retirar qualquer amostra, com o objetivo de definir o plano de amostragem (objetivo da amostragem, número e tipo de amostras, amostradores, locais de amostragem, frascos e preservação da amostra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9"/>
          <p:cNvSpPr/>
          <p:nvPr/>
        </p:nvSpPr>
        <p:spPr>
          <a:xfrm>
            <a:off x="324000" y="3400560"/>
            <a:ext cx="8424720" cy="10674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11160" algn="just">
              <a:lnSpc>
                <a:spcPct val="100000"/>
              </a:lnSpc>
              <a:buClr>
                <a:srgbClr val="000000"/>
              </a:buClr>
              <a:buFont typeface="Century Gothic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Objetivo da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objetivo da amostragem é a coleta de uma quantidade representativa de resíduos, visando determinar suas características quanto à classificação, métodos de tratamento et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0"/>
          <p:cNvSpPr/>
          <p:nvPr/>
        </p:nvSpPr>
        <p:spPr>
          <a:xfrm>
            <a:off x="324000" y="4756320"/>
            <a:ext cx="8424720" cy="17974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b) Pré-caracterização de um resídu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A pré-caracterização de um resíduo é feita através de levantamento do(s) processo(s) que lhe deu ou deram origem. As informações assim obtidas (volume aproximado, estado físico, constituintes principais, temperatura, etc.) permitem a definição do tipo de amostrador mais adequado, dos parâmetros que serão estudados ou analisados, do número de amostras e do seu volume, do tipo de frasco de coleta e do(s) método(s) de preservação que deve(m) ser utilizado(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395280" y="2565360"/>
            <a:ext cx="8424720" cy="2916360"/>
          </a:xfrm>
          <a:prstGeom prst="rect">
            <a:avLst/>
          </a:prstGeom>
          <a:solidFill>
            <a:srgbClr val="ffcc99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entury Gothic"/>
              </a:rPr>
              <a:t>c) Plano de amostragem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entury Gothic"/>
              </a:rPr>
              <a:t>O plano de amostragem deve ser estabelecido antes de se coletar qualquer amostra, ser consistente com o objetivo da amostragem e com a pré-caracterização do resíduo, e deve incluir: avaliação do local, forma de armazenamento, pontos de amostragem, tipos de amostradores, número de amostras a serem coletadas, seus volumes, seus tipos (simples ou compostos), número e tipo dos frascos de coleta, métodos de preservação e tempo de armazenagem, assim como os tipos de equipamentos de proteção a serem utilizados durante a coleta. A seguir descreve-se os itens do plano de amostragem recomendados pela norm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0"/>
          <p:cNvSpPr/>
          <p:nvPr/>
        </p:nvSpPr>
        <p:spPr>
          <a:xfrm>
            <a:off x="250920" y="2112840"/>
            <a:ext cx="8642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amostrado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a escolha dos materiais da confecção do amostrador, estes devem atender os princípios de não reatividade com o material a ser coletado. Caso o amostrador não seja descartável, o material deve permitir a descontaminação total do equipamento para posterior uti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Seleção do recipiente da amost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aspectos mais importantes a serem considerados na escolha de um frasco de amostragem são compatibilidade do material do frasco e da sua tampa com os resíduos, resistência, volume e facilidade do manuse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ecauções na utilização de recipientes e amostrador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ntes do uso, os recipientes e amostradores devem ser descontaminados conforme pré-requisitos da tecnologia a ser aplic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ós o uso, os recipientes e amostradores utilizados para coleta devem ser descontaminados, ou destinados conforme classe dos resídu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1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2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250920" y="2358000"/>
            <a:ext cx="86421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onto de amostrag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ponto de amostragem é o local onde será coletada a amostra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Número de amost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concentração média do resíduo, deve ser coletada uma ou mais amostras composta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obtenção da faixa de variação da concentração do resíduo, devem ser coletadas no mínimo três amostras simples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 resíduos heterogêneos de difícil amostragem e cuja representatividade não puder ser definida com uma única amostra, a escolha do método e número de amostras caberá aos Órgãos Estaduais ou Federais de controle da poluição e preservação ambienta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Volume de amost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É necessário, durante a fase de planejamento, estabelecer quais as análises e ensaios que serão realizados e qual o volume de amostra é necessário para cada um deles. Muitas vezes é necessário também obter volumes que possibilitem a realização de contraprovas (ABNT 200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335160" y="1557360"/>
            <a:ext cx="2631240" cy="368280"/>
          </a:xfrm>
          <a:prstGeom prst="rect">
            <a:avLst/>
          </a:prstGeom>
          <a:solidFill>
            <a:srgbClr val="ffff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lano de amostragem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ostragem de Resíduos Só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Object 9"/>
          <p:cNvGraphicFramePr/>
          <p:nvPr/>
        </p:nvGraphicFramePr>
        <p:xfrm>
          <a:off x="1042920" y="1628640"/>
          <a:ext cx="70502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Object 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628640"/>
                    <a:ext cx="7050240" cy="43196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Rectangle 10"/>
          <p:cNvSpPr/>
          <p:nvPr/>
        </p:nvSpPr>
        <p:spPr>
          <a:xfrm>
            <a:off x="2170800" y="6165000"/>
            <a:ext cx="478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sendo pesado ao chegar na us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ição Gravimét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0"/>
          <p:cNvSpPr/>
          <p:nvPr/>
        </p:nvSpPr>
        <p:spPr>
          <a:xfrm>
            <a:off x="2449080" y="6165000"/>
            <a:ext cx="42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minhão descarregando Amostrag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2"/>
          <a:stretch/>
        </p:blipFill>
        <p:spPr>
          <a:xfrm>
            <a:off x="1116000" y="1701720"/>
            <a:ext cx="6896160" cy="431964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50:24Z</dcterms:modified>
  <cp:revision>227</cp:revision>
  <dc:subject/>
  <dc:title>Slide 1</dc:title>
</cp:coreProperties>
</file>