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12D36176-8940-4D68-B7B8-71636182D6D6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1BC356C1-0B74-41E8-A7E4-C9571D71AB35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96F-034E-4E26-8153-5A2356D3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0FA-A50E-43E8-854C-162F4F17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D956-5059-4DB9-B60B-17442032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BD5-9180-43D4-896F-108ECD81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CE64-5B41-4F8F-BF80-54D865A4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DC2-22CE-4713-9A0D-339C88BA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07F-54D0-48DD-954F-92F9A071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269D-72A5-412A-BBED-FFC7C32A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24A-B4EB-46C1-BC99-DE5529D4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F45A-E3D8-4B3C-B519-BAF39386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D49D-48B3-45EB-9990-92120550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B59B-56E1-4A8A-9685-6759A272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ADA0-0281-4006-9455-E38AE0C2E6D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Acondicionamen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561636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50920" y="20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recipientes com mais de 100 litros, o funcionário encarregado da coleta deverá dispor de carrinho para o transporte até o veículo coletor. Alguns garis da coleta preferem “rolar” os latões de 200 li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3"/>
          <a:stretch/>
        </p:blipFill>
        <p:spPr>
          <a:xfrm>
            <a:off x="1258920" y="3284640"/>
            <a:ext cx="6697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50920" y="206064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difícios e estabelecimentos de grande porte podem utilizar contenedores de maior capacidade providos de tampa e rodízios, desde que se conte com veículo coletor que possua dispositivo para basculá-los mecanic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250920" y="3645000"/>
            <a:ext cx="4249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recipientes sem retorno são colocados no veículo coletor juntamente com o lixo que contêm, sendo mais utilizados os sacos plásticos, com capacidade geralmente entre 20 e 100 litros, devendo apresentar espessura suficiente para não romper durante a co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"/>
          <p:cNvPicPr/>
          <p:nvPr/>
        </p:nvPicPr>
        <p:blipFill>
          <a:blip r:embed="rId3"/>
          <a:stretch/>
        </p:blipFill>
        <p:spPr>
          <a:xfrm>
            <a:off x="5580000" y="3284640"/>
            <a:ext cx="2222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250920" y="20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bora sejam ideais para o acondicionamento do ponto de vista sanitário e de agilização da coleta, 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acos plástic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presentam os seguintes aspectos desfavoráve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50920" y="3141720"/>
            <a:ext cx="424980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fragilidade em relação a materiais cortantes ou perfura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ço elevado que pode tornar inviável sua adoção pela população de baixa r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esmo assim, pela economia que trazem ao serviço, e aconselhável a sua adoção obrigatória nas áreas de comércio mais ativo e nas concentradoras de população de maior poder aquisi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3" descr=""/>
          <p:cNvPicPr/>
          <p:nvPr/>
        </p:nvPicPr>
        <p:blipFill>
          <a:blip r:embed="rId3"/>
          <a:stretch/>
        </p:blipFill>
        <p:spPr>
          <a:xfrm>
            <a:off x="5651640" y="2852640"/>
            <a:ext cx="2303280" cy="2195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"/>
          <p:cNvPicPr/>
          <p:nvPr/>
        </p:nvPicPr>
        <p:blipFill>
          <a:blip r:embed="rId4"/>
          <a:stretch/>
        </p:blipFill>
        <p:spPr>
          <a:xfrm>
            <a:off x="5292720" y="5157720"/>
            <a:ext cx="30481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214720"/>
            <a:ext cx="5616360" cy="3988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ipientes alternativos para lixo resid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250920" y="296532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e a boa disposição do administrador e a execução, pela população, dos procedimentos propostos para acondicionamento do lixo, há uma grande barreira: os recipientes para lixo são caros para a maioria da população urbana brasileira que é muito pobre! Há o risco de lixo virar lux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250920" y="499752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Nordeste, por exemplo, são comuns os recipientes para lixo feitos a partir de pneus usados de automóveis ou caminhões. A solução, se não é tecnicamente perfeita, é operacionalmente aceitável e ainda gera emprego para artesã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835280" y="2214720"/>
            <a:ext cx="5616360" cy="3988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ipientes alternativos para lixo resid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50920" y="29653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contenedor de lixo é, portanto, confeccionado a partir de um só pneu usado. Seu tamanho e forma dependerão do tipo de pneu utilizado, bem como da seção cortada para se fazer o f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250920" y="42210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 tal promover em sua cidade um programa para confecção de tais tipos de recipientes por parte de mão-de-obra não qualificada ou de menores carentes em áreas de baixa re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250920" y="54468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so traria vantagens para a Prefeitura, tornando mais fácil a coleta de lixo. Por outro lado, iria proporcionar os recursos necessários à subsistência de pessoas que estão precisando trabalh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250920" y="1484280"/>
            <a:ext cx="8569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nde começam os problemas para o serviço de limpeza Urbana de sua cida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esta pergunta, certamente, poucas pessoas responderão: “Em nossas próprias residências”. Pois é exatamente esta a resposta corre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9" descr=""/>
          <p:cNvPicPr/>
          <p:nvPr/>
        </p:nvPicPr>
        <p:blipFill>
          <a:blip r:embed="rId4"/>
          <a:stretch/>
        </p:blipFill>
        <p:spPr>
          <a:xfrm>
            <a:off x="2843280" y="3141720"/>
            <a:ext cx="59148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50920" y="1484280"/>
            <a:ext cx="85690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bora seja possível definir o tipo de acondicionamento tecnicamente mais adequado para cada situação, sua padronização é muito difícil porque tal atribuição é do usuá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iderando que “o ótimo é inimigo do bom”, os esforços da Municipalidade deverão ser concentrados no sentido de conscientizar a população para que procure acondicionar, da melhor maneira possível o lixo gerado em cada domicíl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4"/>
          <a:stretch/>
        </p:blipFill>
        <p:spPr>
          <a:xfrm>
            <a:off x="1979640" y="4149720"/>
            <a:ext cx="4896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 relação à adequação do acondicionamento à coleta, o recipiente apropriado para lixo deverá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971640" y="2349360"/>
            <a:ext cx="745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ender às condições sanitári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ser feio, repulsivo ou desagradáv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r capacidade para conter o lixo gerado durante o intervalo entre uma coleta e out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mitir uma coleta rápida, aumentando com isso a produtividade do serviç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sibilitar uma manipulação segura por parte da equipe de col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3"/>
          <a:stretch/>
        </p:blipFill>
        <p:spPr>
          <a:xfrm>
            <a:off x="1042920" y="4581360"/>
            <a:ext cx="69739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250920" y="2421000"/>
            <a:ext cx="856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itas vezes, existe a necessidade de se transportar o lixo gerado já de alguma maneira acondicionado até o local indicado para a sua remo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duas alternativas mais comumente utilizada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3"/>
          <a:stretch/>
        </p:blipFill>
        <p:spPr>
          <a:xfrm>
            <a:off x="2124000" y="3716280"/>
            <a:ext cx="489744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50920" y="2421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grandes fontes geradoras, pode-se tornar interessante a adoção de equipamentos auxiliares para a redução de volume ou de peso do lixo no próprio local onde ele é produz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mais utilizad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3218400" y="3500280"/>
            <a:ext cx="1678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cin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"/>
          <p:cNvPicPr/>
          <p:nvPr/>
        </p:nvPicPr>
        <p:blipFill>
          <a:blip r:embed="rId3"/>
          <a:stretch/>
        </p:blipFill>
        <p:spPr>
          <a:xfrm>
            <a:off x="7564320" y="3284640"/>
            <a:ext cx="1471680" cy="3456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4"/>
          <p:cNvSpPr/>
          <p:nvPr/>
        </p:nvSpPr>
        <p:spPr>
          <a:xfrm>
            <a:off x="250920" y="4221000"/>
            <a:ext cx="7200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tilizado em situações especiais, como por exemplo em hospitais, o seu uso acarreta as seguintes 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entuada redução de peso e volume do lix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tamento sanitário excelente do lixo, desde que operado adequada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sibilidade de geração de vapor ou água quente para uso no próprio hos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50920" y="2421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grandes fontes geradoras, pode-se tornar interessante a adoção de equipamentos auxiliares para a redução de volume ou de peso do lixo no próprio local onde ele é produz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mais utilizad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3218400" y="3500280"/>
            <a:ext cx="1678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cin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50920" y="4221000"/>
            <a:ext cx="720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rincipais aspectos negativos, quanto ao seu emprego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oluição atmosférica que pode ocasion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xigência de manutenção especializ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sto do combustível utili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"/>
          <p:cNvPicPr/>
          <p:nvPr/>
        </p:nvPicPr>
        <p:blipFill>
          <a:blip r:embed="rId3"/>
          <a:stretch/>
        </p:blipFill>
        <p:spPr>
          <a:xfrm>
            <a:off x="5076720" y="4653000"/>
            <a:ext cx="376740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50920" y="2421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grandes fontes geradoras, pode-se tornar interessante a adoção de equipamentos auxiliares para a redução de volume ou de peso do lixo no próprio local onde ele é produz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mais utilizad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38400" y="4292640"/>
            <a:ext cx="269532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actadores de l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250920" y="517680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modelos para prensagem vertical ou horizontal. O compactador é capaz de reduzir até quatro vezes o volume inicial. São empregados em grandes edifícios onde a geração de lixo é muito a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50920" y="2060640"/>
            <a:ext cx="8569080" cy="44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escolher o tipo apropriado de acondicionamento? Bem, para isto entram em consideração os seguintes fat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as características do lix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a sua ger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a freqüência com que a coleta é fei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tipo de edific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ço do recip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qui será preciso fazer distinção entre: recipientes com retorno e sem ret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primeiros são os devolvidos pelo coletor após o esvazi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3"/>
          <a:stretch/>
        </p:blipFill>
        <p:spPr>
          <a:xfrm>
            <a:off x="4356000" y="3068640"/>
            <a:ext cx="44100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47:25Z</dcterms:modified>
  <cp:revision>208</cp:revision>
  <dc:subject/>
  <dc:title>Slide 1</dc:title>
</cp:coreProperties>
</file>