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png" ContentType="image/png"/>
  <Override PartName="/ppt/media/image28.wmf" ContentType="image/x-wmf"/>
  <Override PartName="/ppt/media/image30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4A40E617-159E-4D28-94CC-6661835B6C00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B02AC7B9-498D-406D-A953-FC4D66787156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0A2-F135-4937-8177-1362660A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88D-2F1F-4CBD-9C9D-25AEAD49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B1C-D73B-4C41-8301-560C6424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0BE-4768-48D3-A306-FF60CCED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26B-D48A-414F-8809-ABE7FF77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B82-32B5-4F95-A843-AE7A581E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941-DBFB-48AE-84A7-60150C97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1CA-07CF-4EB5-B56B-FFC27ADA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D41-58AB-45FF-8610-D23DF682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615-35D7-4DEC-B669-2C359D0C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313-7DD1-4801-8B2C-69EB2B8D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FF1-4C50-4CE0-B41E-F41D0BA2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3674-8257-417A-84BD-D9D0D1B3A14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leta Seletiv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68360" y="1771560"/>
            <a:ext cx="8136000" cy="343152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Vários segmentos de uma comunidade podem participar do programa de coleta sele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ada um fazendo uma parte e se beneficiando do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 disso é a parceria entre as unidades produtoras de lixo e gestoras da coleta seletiva (condomínios, escolas, empresas, etc.) e as cooperativas ou associações que receberão os materiais selecionados e que muitas vezes podem se encarregar da retirada dos me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1"/>
          <a:stretch/>
        </p:blipFill>
        <p:spPr>
          <a:xfrm>
            <a:off x="968400" y="836640"/>
            <a:ext cx="7203960" cy="123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5689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51880" cy="1065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6993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179280" y="1855800"/>
            <a:ext cx="8785440" cy="2130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3"/>
          <a:stretch/>
        </p:blipFill>
        <p:spPr>
          <a:xfrm>
            <a:off x="179280" y="4567320"/>
            <a:ext cx="8785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8209080" cy="179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3"/>
          <a:stretch/>
        </p:blipFill>
        <p:spPr>
          <a:xfrm>
            <a:off x="466560" y="3573360"/>
            <a:ext cx="8209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"/>
          <p:cNvPicPr/>
          <p:nvPr/>
        </p:nvPicPr>
        <p:blipFill>
          <a:blip r:embed="rId2"/>
          <a:stretch/>
        </p:blipFill>
        <p:spPr>
          <a:xfrm>
            <a:off x="179280" y="2554200"/>
            <a:ext cx="87138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90740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"/>
          <p:cNvPicPr/>
          <p:nvPr/>
        </p:nvPicPr>
        <p:blipFill>
          <a:blip r:embed="rId2"/>
          <a:stretch/>
        </p:blipFill>
        <p:spPr>
          <a:xfrm>
            <a:off x="252360" y="1957320"/>
            <a:ext cx="8640720" cy="2408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3"/>
          <a:stretch/>
        </p:blipFill>
        <p:spPr>
          <a:xfrm>
            <a:off x="252360" y="5002200"/>
            <a:ext cx="86407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3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6373800" cy="379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2"/>
          <a:stretch/>
        </p:blipFill>
        <p:spPr>
          <a:xfrm>
            <a:off x="179280" y="2066760"/>
            <a:ext cx="87854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5256360" cy="455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7805880" cy="135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87138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lmente é necessário a conscientização de todos para a busca de soluções para o grave problema. Isto é possível através de palestras, manual de Coleta Seletiva e cartazes demonstrando as vantagens da reciclagem, da preservação dos recursos naturais e a não poluição do meio amb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próxima fase, é necessário sinalizar e disponibilizar coletores específicos para cada tipo de material em lugar comum a todos e de fácil acesso. Hoje, além dos coletores é possível disponibilizar sacos de lixos nas cores padrões de cada mate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última fase é necessário ter um sistema pré-determinado para o recolhimento dos materiais selecionados e que deverão ser encaminhados para as usinas de recicla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implantar 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1825560"/>
            <a:ext cx="856908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algumas formas de coletas de materiais recicl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exemplo é o sistema de porta a porta onde os caminhões do serviço de limpeza passam recolhendo os materiais separados, como na coleta de lixo comum, mas em dias específ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egundo exemplo é através da entrega voluntária (PEV) em postos de coleta distribuídos pela cidade nas escolas, praças, supermercados, etc., onde a população entrega os materiais separados nos respectivos cole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je existem, também, empresas especializadas que retiram os materiais selecionados e encaminham para as usinas de reciclagens mediante contratos ou solicitações. Este método é mais adequado às empresas onde o volume de material é ma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leta de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6"/>
          <a:stretch/>
        </p:blipFill>
        <p:spPr>
          <a:xfrm>
            <a:off x="5867280" y="0"/>
            <a:ext cx="32767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148428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EPARAÇÃO DO LIXO RECICLÁVEL DO NÃO RECICLÁ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cotidiano de nossas cidades, são produzidas milhares de toneladas de lixo. Há muito tempo este resíduo é um dos grandes problemas que o poder público e a sociedade tem enfrentado, buscando soluções que nem sempre atendem as necessidades. Razão disso a degradação do meio ambiente, tais como as contaminações de nossos rios, a poluição do ar, ruas sujas, proliferação de insetos, ratos, etc, causando doenç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olução mais eficiente é a separação dos materiais recicláveis para o reaproveitamento, transformando o problema do lixo em solução econômica e social. Para que isto seja possível é preciso que todos participem colaborando com o programa de Coleta Seletiv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imeiro p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5"/>
          <a:stretch/>
        </p:blipFill>
        <p:spPr>
          <a:xfrm>
            <a:off x="6732720" y="0"/>
            <a:ext cx="24112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75 latas de aço, recicladas, preserva-se uma árvore que seria usada como carv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ada tonelada de papel reciclado, evita-se a derrubada de 16 a 30 árvores adulta, em mé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ada 100 toneladas de plástico reciclado, evita-se a extração de 1 tonelada de petróleo e a economia em torno de 90% de ener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0% de vidro reciclado, economiza-se 4% de energia e reduz 10% no consumo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vantagens da reciclagem são muitas mas acima de tudo, ela melhora a qualidade de vida, minimiza os efeitos da poluição no planeta, gera empregos e rendas, além de valorizar as empresas ambientalmente corre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nefícios d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"/>
          <p:cNvPicPr/>
          <p:nvPr/>
        </p:nvPicPr>
        <p:blipFill>
          <a:blip r:embed="rId7"/>
          <a:stretch/>
        </p:blipFill>
        <p:spPr>
          <a:xfrm>
            <a:off x="6588000" y="0"/>
            <a:ext cx="2556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1484280"/>
            <a:ext cx="85690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principais materiais recicláveis são papeis, plásticos, vidro e me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os deverão ser separados e colocados em coletores ou sacos plásticos de preferência na cor padrão de cada material conforme resolução do CONAMA (Conselho Nacional do Meio Ambi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4"/>
          <a:stretch/>
        </p:blipFill>
        <p:spPr>
          <a:xfrm>
            <a:off x="1476360" y="429264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0920" y="1484280"/>
            <a:ext cx="8569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Orgânico ou Úmido - São restos de comidas, cascas de frutas e legum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jeitos - Lenços e guardanapos de papel, absorvente e papel higiênico, fraldas, papéis sujos, espelhos, cerâmicas, porcelan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Especiais - Pilhas e bater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Hospitalar - Curativos, gazes, algodão, sering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Químico ou Tóxico - Embalagens de agrotóx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não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7"/>
          <a:stretch/>
        </p:blipFill>
        <p:spPr>
          <a:xfrm>
            <a:off x="1476360" y="494820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4968720" cy="53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634160" cy="2052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6" name="Picture 15" descr=""/>
          <p:cNvPicPr/>
          <p:nvPr/>
        </p:nvPicPr>
        <p:blipFill>
          <a:blip r:embed="rId3"/>
          <a:stretch/>
        </p:blipFill>
        <p:spPr>
          <a:xfrm>
            <a:off x="2556000" y="3789360"/>
            <a:ext cx="4105080" cy="43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7632720" cy="2270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3889440" cy="511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632720" cy="225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6" name="Picture 16" descr=""/>
          <p:cNvPicPr/>
          <p:nvPr/>
        </p:nvPicPr>
        <p:blipFill>
          <a:blip r:embed="rId3"/>
          <a:stretch/>
        </p:blipFill>
        <p:spPr>
          <a:xfrm>
            <a:off x="2770200" y="3860640"/>
            <a:ext cx="3673440" cy="60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4"/>
          <a:stretch/>
        </p:blipFill>
        <p:spPr>
          <a:xfrm>
            <a:off x="755640" y="4568760"/>
            <a:ext cx="7632720" cy="21002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2:06Z</dcterms:modified>
  <cp:revision>277</cp:revision>
  <dc:subject/>
  <dc:title>Slide 1</dc:title>
</cp:coreProperties>
</file>