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1440" cy="488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200" bIns="432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65600" y="0"/>
            <a:ext cx="2881440" cy="488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200" bIns="432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80920" y="735120"/>
            <a:ext cx="4888080" cy="366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65280" y="4645080"/>
            <a:ext cx="5317920" cy="440064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200" bIns="43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290160"/>
            <a:ext cx="2881440" cy="488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200" bIns="43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65600" y="9290160"/>
            <a:ext cx="2881440" cy="488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200" bIns="43200" anchor="b">
            <a:noAutofit/>
          </a:bodyPr>
          <a:lstStyle>
            <a:lvl1pPr indent="0" algn="r">
              <a:buNone/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  <a:defRPr b="0" lang="pt-BR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fld id="{2FD73C62-8CE6-4456-927E-3BEB73787D8D}" type="slidenum">
              <a:rPr b="0" lang="pt-BR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765600" y="9290160"/>
            <a:ext cx="28814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760" rIns="86760" tIns="43200" bIns="43200" anchor="b">
            <a:noAutofit/>
          </a:bodyPr>
          <a:p>
            <a:pPr algn="r"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fld id="{A4321DAA-2083-4A72-822F-0A0DA623CCAF}" type="slidenum">
              <a:rPr b="0" lang="pt-BR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880920" y="735120"/>
            <a:ext cx="4888080" cy="366552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65280" y="4645080"/>
            <a:ext cx="5317920" cy="440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FC542-A373-46A8-B8AC-5627841A8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853F6-508F-4303-A4C8-C6AFDF860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034CA-EED4-41D0-9FA5-9D0EAC342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C9E44-05EB-4B46-9589-352C8E870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4D7FC-3F76-4C6A-8021-A79FECC95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8FD6E-3C05-4DC5-B113-F185D32EB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F51E6-2F24-463F-8CCB-859D5BB32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28BF3-2B40-48FA-95EE-BD3D1DE87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0FF87-E543-4C64-9893-4813B3130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6E350-D770-44AA-A082-C2C1F77ED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72A19-0A08-4B4D-A4B1-18E7FACDF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E29CD-37AC-4761-B770-4D647F7D6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CE318-08C5-4F02-9A99-309D93662ACA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8"/>
          <p:cNvSpPr/>
          <p:nvPr/>
        </p:nvSpPr>
        <p:spPr>
          <a:xfrm>
            <a:off x="539640" y="2349360"/>
            <a:ext cx="799308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500" spc="-1" strike="noStrike">
                <a:solidFill>
                  <a:srgbClr val="000000"/>
                </a:solidFill>
                <a:latin typeface="Bookman Old Style"/>
              </a:rPr>
              <a:t>Acondicionamento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0"/>
          <p:cNvSpPr/>
          <p:nvPr/>
        </p:nvSpPr>
        <p:spPr>
          <a:xfrm>
            <a:off x="179280" y="5479920"/>
            <a:ext cx="777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Bookman Old Style"/>
              </a:rPr>
              <a:t>Professor: Eng. Civil José W. Jiménez Roj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7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condiciona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12" descr=""/>
          <p:cNvPicPr/>
          <p:nvPr/>
        </p:nvPicPr>
        <p:blipFill>
          <a:blip r:embed="rId2"/>
          <a:stretch/>
        </p:blipFill>
        <p:spPr>
          <a:xfrm>
            <a:off x="1692360" y="1413000"/>
            <a:ext cx="5616360" cy="53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4"/>
          <p:cNvSpPr/>
          <p:nvPr/>
        </p:nvSpPr>
        <p:spPr>
          <a:xfrm>
            <a:off x="250920" y="1484280"/>
            <a:ext cx="8569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Tipos de Recipien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7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condiciona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0"/>
          <p:cNvSpPr/>
          <p:nvPr/>
        </p:nvSpPr>
        <p:spPr>
          <a:xfrm>
            <a:off x="250920" y="2060640"/>
            <a:ext cx="8569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No caso de recipientes com mais de 100 litros, o funcionário encarregado da coleta deverá dispor de carrinho para o transporte até o veículo coletor. Alguns garis da coleta preferem “rolar” os latões de 200 litr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2" descr=""/>
          <p:cNvPicPr/>
          <p:nvPr/>
        </p:nvPicPr>
        <p:blipFill>
          <a:blip r:embed="rId3"/>
          <a:stretch/>
        </p:blipFill>
        <p:spPr>
          <a:xfrm>
            <a:off x="1258920" y="3284640"/>
            <a:ext cx="6697800" cy="30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4"/>
          <p:cNvSpPr/>
          <p:nvPr/>
        </p:nvSpPr>
        <p:spPr>
          <a:xfrm>
            <a:off x="250920" y="1484280"/>
            <a:ext cx="8569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Tipos de Recipien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7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condiciona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0"/>
          <p:cNvSpPr/>
          <p:nvPr/>
        </p:nvSpPr>
        <p:spPr>
          <a:xfrm>
            <a:off x="250920" y="2060640"/>
            <a:ext cx="8569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difícios e estabelecimentos de grande porte podem utilizar contenedores de maior capacidade providos de tampa e rodízios, desde que se conte com veículo coletor que possua dispositivo para basculá-los mecanicamen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2"/>
          <p:cNvSpPr/>
          <p:nvPr/>
        </p:nvSpPr>
        <p:spPr>
          <a:xfrm>
            <a:off x="250920" y="3645000"/>
            <a:ext cx="42498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s recipientes sem retorno são colocados no veículo coletor juntamente com o lixo que contêm, sendo mais utilizados os sacos plásticos, com capacidade geralmente entre 20 e 100 litros, devendo apresentar espessura suficiente para não romper durante a cole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13" descr=""/>
          <p:cNvPicPr/>
          <p:nvPr/>
        </p:nvPicPr>
        <p:blipFill>
          <a:blip r:embed="rId3"/>
          <a:stretch/>
        </p:blipFill>
        <p:spPr>
          <a:xfrm>
            <a:off x="5580000" y="3284640"/>
            <a:ext cx="222264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4"/>
          <p:cNvSpPr/>
          <p:nvPr/>
        </p:nvSpPr>
        <p:spPr>
          <a:xfrm>
            <a:off x="250920" y="1484280"/>
            <a:ext cx="8569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Tipos de Recipien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7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condiciona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0"/>
          <p:cNvSpPr/>
          <p:nvPr/>
        </p:nvSpPr>
        <p:spPr>
          <a:xfrm>
            <a:off x="250920" y="2060640"/>
            <a:ext cx="8569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mbora sejam ideais para o acondicionamento do ponto de vista sanitário e de agilização da coleta, os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sacos plásticos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apresentam os seguintes aspectos desfavorávei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1"/>
          <p:cNvSpPr/>
          <p:nvPr/>
        </p:nvSpPr>
        <p:spPr>
          <a:xfrm>
            <a:off x="250920" y="3141720"/>
            <a:ext cx="4249800" cy="356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- fragilidade em relação a materiais cortantes ou perfurante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reço elevado que pode tornar inviável sua adoção pela população de baixa rend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Mesmo assim, pela economia que trazem ao serviço, e aconselhável a sua adoção obrigatória nas áreas de comércio mais ativo e nas concentradoras de população de maior poder aquisitiv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13" descr=""/>
          <p:cNvPicPr/>
          <p:nvPr/>
        </p:nvPicPr>
        <p:blipFill>
          <a:blip r:embed="rId3"/>
          <a:stretch/>
        </p:blipFill>
        <p:spPr>
          <a:xfrm>
            <a:off x="5651640" y="2852640"/>
            <a:ext cx="2303280" cy="21956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4" descr=""/>
          <p:cNvPicPr/>
          <p:nvPr/>
        </p:nvPicPr>
        <p:blipFill>
          <a:blip r:embed="rId4"/>
          <a:stretch/>
        </p:blipFill>
        <p:spPr>
          <a:xfrm>
            <a:off x="5292720" y="5157720"/>
            <a:ext cx="3048120" cy="15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4"/>
          <p:cNvSpPr/>
          <p:nvPr/>
        </p:nvSpPr>
        <p:spPr>
          <a:xfrm>
            <a:off x="250920" y="1484280"/>
            <a:ext cx="8569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Tipos de Recipien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7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condiciona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0"/>
          <p:cNvSpPr/>
          <p:nvPr/>
        </p:nvSpPr>
        <p:spPr>
          <a:xfrm>
            <a:off x="1835280" y="2214720"/>
            <a:ext cx="5616360" cy="398880"/>
          </a:xfrm>
          <a:prstGeom prst="rect">
            <a:avLst/>
          </a:prstGeom>
          <a:solidFill>
            <a:srgbClr val="d5d5d5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Recipientes alternativos para lixo residenc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4"/>
          <p:cNvSpPr/>
          <p:nvPr/>
        </p:nvSpPr>
        <p:spPr>
          <a:xfrm>
            <a:off x="250920" y="2965320"/>
            <a:ext cx="85690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ntre a boa disposição do administrador e a execução, pela população, dos procedimentos propostos para acondicionamento do lixo, há uma grande barreira: os recipientes para lixo são caros para a maioria da população urbana brasileira que é muito pobre! Há o risco de lixo virar lux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5"/>
          <p:cNvSpPr/>
          <p:nvPr/>
        </p:nvSpPr>
        <p:spPr>
          <a:xfrm>
            <a:off x="250920" y="4997520"/>
            <a:ext cx="8569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No Nordeste, por exemplo, são comuns os recipientes para lixo feitos a partir de pneus usados de automóveis ou caminhões. A solução, se não é tecnicamente perfeita, é operacionalmente aceitável e ainda gera emprego para artesãos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4"/>
          <p:cNvSpPr/>
          <p:nvPr/>
        </p:nvSpPr>
        <p:spPr>
          <a:xfrm>
            <a:off x="250920" y="1484280"/>
            <a:ext cx="8569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Tipos de Recipien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condiciona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0"/>
          <p:cNvSpPr/>
          <p:nvPr/>
        </p:nvSpPr>
        <p:spPr>
          <a:xfrm>
            <a:off x="1835280" y="2214720"/>
            <a:ext cx="5616360" cy="398880"/>
          </a:xfrm>
          <a:prstGeom prst="rect">
            <a:avLst/>
          </a:prstGeom>
          <a:solidFill>
            <a:srgbClr val="d5d5d5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Recipientes alternativos para lixo residenc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1"/>
          <p:cNvSpPr/>
          <p:nvPr/>
        </p:nvSpPr>
        <p:spPr>
          <a:xfrm>
            <a:off x="250920" y="2965320"/>
            <a:ext cx="8569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ada contenedor de lixo é, portanto, confeccionado a partir de um só pneu usado. Seu tamanho e forma dependerão do tipo de pneu utilizado, bem como da seção cortada para se fazer o fun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2"/>
          <p:cNvSpPr/>
          <p:nvPr/>
        </p:nvSpPr>
        <p:spPr>
          <a:xfrm>
            <a:off x="250920" y="4221000"/>
            <a:ext cx="8569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Que tal promover em sua cidade um programa para confecção de tais tipos de recipientes por parte de mão-de-obra não qualificada ou de menores carentes em áreas de baixa rend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3"/>
          <p:cNvSpPr/>
          <p:nvPr/>
        </p:nvSpPr>
        <p:spPr>
          <a:xfrm>
            <a:off x="250920" y="5446800"/>
            <a:ext cx="8569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Isso traria vantagens para a Prefeitura, tornando mais fácil a coleta de lixo. Por outro lado, iria proporcionar os recursos necessários à subsistência de pessoas que estão precisando trabalh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6"/>
          <p:cNvSpPr/>
          <p:nvPr/>
        </p:nvSpPr>
        <p:spPr>
          <a:xfrm>
            <a:off x="250920" y="1484280"/>
            <a:ext cx="8569080" cy="19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Onde começam os problemas para o serviço de limpeza Urbana de sua cidade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A esta pergunta, certamente, poucas pessoas responderão: “Em nossas próprias residências”. Pois é exatamente esta a resposta corret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30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condiciona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9" descr=""/>
          <p:cNvPicPr/>
          <p:nvPr/>
        </p:nvPicPr>
        <p:blipFill>
          <a:blip r:embed="rId4"/>
          <a:stretch/>
        </p:blipFill>
        <p:spPr>
          <a:xfrm>
            <a:off x="2843280" y="3141720"/>
            <a:ext cx="5914800" cy="34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4"/>
          <p:cNvSpPr/>
          <p:nvPr/>
        </p:nvSpPr>
        <p:spPr>
          <a:xfrm>
            <a:off x="250920" y="1484280"/>
            <a:ext cx="8569080" cy="26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Embora seja possível definir o tipo de acondicionamento tecnicamente mais adequado para cada situação, sua padronização é muito difícil porque tal atribuição é do usuári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Considerando que “o ótimo é inimigo do bom”, os esforços da Municipalidade deverão ser concentrados no sentido de conscientizar a população para que procure acondicionar, da melhor maneira possível o lixo gerado em cada domicíli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7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condiciona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1" descr=""/>
          <p:cNvPicPr/>
          <p:nvPr/>
        </p:nvPicPr>
        <p:blipFill>
          <a:blip r:embed="rId4"/>
          <a:stretch/>
        </p:blipFill>
        <p:spPr>
          <a:xfrm>
            <a:off x="1979640" y="4149720"/>
            <a:ext cx="489600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4"/>
          <p:cNvSpPr/>
          <p:nvPr/>
        </p:nvSpPr>
        <p:spPr>
          <a:xfrm>
            <a:off x="250920" y="1484280"/>
            <a:ext cx="85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Com relação à adequação do acondicionamento à coleta, o recipiente apropriado para lixo deverá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7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condiciona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1"/>
          <p:cNvSpPr/>
          <p:nvPr/>
        </p:nvSpPr>
        <p:spPr>
          <a:xfrm>
            <a:off x="971640" y="2349360"/>
            <a:ext cx="7451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tender às condições sanitária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Não ser feio, repulsivo ou desagradável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Ter capacidade para conter o lixo gerado durante o intervalo entre uma coleta e outr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ermitir uma coleta rápida, aumentando com isso a produtividade do serviç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ossibilitar uma manipulação segura por parte da equipe de cole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12" descr=""/>
          <p:cNvPicPr/>
          <p:nvPr/>
        </p:nvPicPr>
        <p:blipFill>
          <a:blip r:embed="rId3"/>
          <a:stretch/>
        </p:blipFill>
        <p:spPr>
          <a:xfrm>
            <a:off x="1042920" y="4581360"/>
            <a:ext cx="6973920" cy="20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4"/>
          <p:cNvSpPr/>
          <p:nvPr/>
        </p:nvSpPr>
        <p:spPr>
          <a:xfrm>
            <a:off x="250920" y="1484280"/>
            <a:ext cx="85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Movimentação do lixo em áreas internas de residência multifamiliares e estabelecimentos comercia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7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condiciona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2"/>
          <p:cNvSpPr/>
          <p:nvPr/>
        </p:nvSpPr>
        <p:spPr>
          <a:xfrm>
            <a:off x="250920" y="2421000"/>
            <a:ext cx="856908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Muitas vezes, existe a necessidade de se transportar o lixo gerado já de alguma maneira acondicionado até o local indicado para a sua remoçã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s duas alternativas mais comumente utilizadas sã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13" descr=""/>
          <p:cNvPicPr/>
          <p:nvPr/>
        </p:nvPicPr>
        <p:blipFill>
          <a:blip r:embed="rId3"/>
          <a:stretch/>
        </p:blipFill>
        <p:spPr>
          <a:xfrm>
            <a:off x="2124000" y="3716280"/>
            <a:ext cx="4897440" cy="29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4"/>
          <p:cNvSpPr/>
          <p:nvPr/>
        </p:nvSpPr>
        <p:spPr>
          <a:xfrm>
            <a:off x="250920" y="1484280"/>
            <a:ext cx="85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Movimentação do lixo em áreas internas de residência multifamiliares e estabelecimentos comercia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7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condiciona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0"/>
          <p:cNvSpPr/>
          <p:nvPr/>
        </p:nvSpPr>
        <p:spPr>
          <a:xfrm>
            <a:off x="250920" y="2421000"/>
            <a:ext cx="856908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No caso de grandes fontes geradoras, pode-se tornar interessante a adoção de equipamentos auxiliares para a redução de volume ou de peso do lixo no próprio local onde ele é produzi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s mais utilizados sã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12"/>
          <p:cNvSpPr/>
          <p:nvPr/>
        </p:nvSpPr>
        <p:spPr>
          <a:xfrm>
            <a:off x="3218400" y="3500280"/>
            <a:ext cx="1678680" cy="368280"/>
          </a:xfrm>
          <a:prstGeom prst="rect">
            <a:avLst/>
          </a:prstGeom>
          <a:solidFill>
            <a:srgbClr val="d5d5d5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Incinerad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13" descr=""/>
          <p:cNvPicPr/>
          <p:nvPr/>
        </p:nvPicPr>
        <p:blipFill>
          <a:blip r:embed="rId3"/>
          <a:stretch/>
        </p:blipFill>
        <p:spPr>
          <a:xfrm>
            <a:off x="7564320" y="3284640"/>
            <a:ext cx="1471680" cy="3456000"/>
          </a:xfrm>
          <a:prstGeom prst="rect">
            <a:avLst/>
          </a:prstGeom>
          <a:ln w="0">
            <a:noFill/>
          </a:ln>
        </p:spPr>
      </p:pic>
      <p:sp>
        <p:nvSpPr>
          <p:cNvPr id="79" name="Text Box 14"/>
          <p:cNvSpPr/>
          <p:nvPr/>
        </p:nvSpPr>
        <p:spPr>
          <a:xfrm>
            <a:off x="250920" y="4221000"/>
            <a:ext cx="7200720" cy="24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Utilizado em situações especiais, como por exemplo em hospitais, o seu uso acarreta as seguintes vantage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centuada redução de peso e volume do lix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tratamento sanitário excelente do lixo, desde que operado adequadament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ossibilidade de geração de vapor ou água quente para uso no próprio hospit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4"/>
          <p:cNvSpPr/>
          <p:nvPr/>
        </p:nvSpPr>
        <p:spPr>
          <a:xfrm>
            <a:off x="250920" y="1484280"/>
            <a:ext cx="85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Movimentação do lixo em áreas internas de residência multifamiliares e estabelecimentos comercia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7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condiciona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0"/>
          <p:cNvSpPr/>
          <p:nvPr/>
        </p:nvSpPr>
        <p:spPr>
          <a:xfrm>
            <a:off x="250920" y="2421000"/>
            <a:ext cx="856908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No caso de grandes fontes geradoras, pode-se tornar interessante a adoção de equipamentos auxiliares para a redução de volume ou de peso do lixo no próprio local onde ele é produzi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s mais utilizados sã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1"/>
          <p:cNvSpPr/>
          <p:nvPr/>
        </p:nvSpPr>
        <p:spPr>
          <a:xfrm>
            <a:off x="3218400" y="3500280"/>
            <a:ext cx="1678680" cy="368280"/>
          </a:xfrm>
          <a:prstGeom prst="rect">
            <a:avLst/>
          </a:prstGeom>
          <a:solidFill>
            <a:srgbClr val="d5d5d5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Incinerad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3"/>
          <p:cNvSpPr/>
          <p:nvPr/>
        </p:nvSpPr>
        <p:spPr>
          <a:xfrm>
            <a:off x="250920" y="4221000"/>
            <a:ext cx="720072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s principais aspectos negativos, quanto ao seu emprego sã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 poluição atmosférica que pode ocasiona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 exigência de manutenção especializad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usto do combustível utiliza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14" descr=""/>
          <p:cNvPicPr/>
          <p:nvPr/>
        </p:nvPicPr>
        <p:blipFill>
          <a:blip r:embed="rId3"/>
          <a:stretch/>
        </p:blipFill>
        <p:spPr>
          <a:xfrm>
            <a:off x="5076720" y="4653000"/>
            <a:ext cx="3767400" cy="171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4"/>
          <p:cNvSpPr/>
          <p:nvPr/>
        </p:nvSpPr>
        <p:spPr>
          <a:xfrm>
            <a:off x="250920" y="1484280"/>
            <a:ext cx="85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Movimentação do lixo em áreas internas de residência multifamiliares e estabelecimentos comercia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7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condiciona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0"/>
          <p:cNvSpPr/>
          <p:nvPr/>
        </p:nvSpPr>
        <p:spPr>
          <a:xfrm>
            <a:off x="250920" y="2421000"/>
            <a:ext cx="856908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No caso de grandes fontes geradoras, pode-se tornar interessante a adoção de equipamentos auxiliares para a redução de volume ou de peso do lixo no próprio local onde ele é produzi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s mais utilizados sã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1"/>
          <p:cNvSpPr/>
          <p:nvPr/>
        </p:nvSpPr>
        <p:spPr>
          <a:xfrm>
            <a:off x="338400" y="4292640"/>
            <a:ext cx="2695320" cy="368280"/>
          </a:xfrm>
          <a:prstGeom prst="rect">
            <a:avLst/>
          </a:prstGeom>
          <a:solidFill>
            <a:srgbClr val="d5d5d5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ompactadores de lix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2"/>
          <p:cNvSpPr/>
          <p:nvPr/>
        </p:nvSpPr>
        <p:spPr>
          <a:xfrm>
            <a:off x="250920" y="5176800"/>
            <a:ext cx="8497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xistem modelos para prensagem vertical ou horizontal. O compactador é capaz de reduzir até quatro vezes o volume inicial. São empregados em grandes edifícios onde a geração de lixo é muito al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4"/>
          <p:cNvSpPr/>
          <p:nvPr/>
        </p:nvSpPr>
        <p:spPr>
          <a:xfrm>
            <a:off x="250920" y="1484280"/>
            <a:ext cx="8569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Tipos de Recipien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condiciona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0"/>
          <p:cNvSpPr/>
          <p:nvPr/>
        </p:nvSpPr>
        <p:spPr>
          <a:xfrm>
            <a:off x="250920" y="2060640"/>
            <a:ext cx="8569080" cy="44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omo escolher o tipo apropriado de acondicionamento? Bem, para isto entram em consideração os seguintes fator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- as características do lix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- a sua geraçã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- a freqüência com que a coleta é feit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- tipo de edificaçã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reço do recipien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qui será preciso fazer distinção entre: recipientes com retorno e sem retorn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s primeiros são os devolvidos pelo coletor após o esvaziamen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13" descr=""/>
          <p:cNvPicPr/>
          <p:nvPr/>
        </p:nvPicPr>
        <p:blipFill>
          <a:blip r:embed="rId3"/>
          <a:stretch/>
        </p:blipFill>
        <p:spPr>
          <a:xfrm>
            <a:off x="4356000" y="3068640"/>
            <a:ext cx="441000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5T18:40:57Z</dcterms:created>
  <dc:creator>José Rojas</dc:creator>
  <dc:description/>
  <dc:language>en-US</dc:language>
  <cp:lastModifiedBy>ROJAS</cp:lastModifiedBy>
  <dcterms:modified xsi:type="dcterms:W3CDTF">2014-05-08T01:47:25Z</dcterms:modified>
  <cp:revision>208</cp:revision>
  <dc:subject/>
  <dc:title>Slide 1</dc:title>
</cp:coreProperties>
</file>