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560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lstStyle>
            <a:lvl1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  <a:defRPr b="0" lang="pt-BR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5BB1C846-8284-4538-8413-22954D83767A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b">
            <a:noAutofit/>
          </a:bodyPr>
          <a:p>
            <a:pPr algn="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3A63BEC2-26CB-4100-A105-37417D5CFDF8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4880-0ABD-4C2A-ADA1-14A0F2605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42B1-ECDC-4028-8CDC-36E9CB7D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D021-7FC9-4A69-BBE1-3708F8FC7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7A4F-006A-41DD-8136-AFF7F689B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8355-C09B-429F-A091-D353C73F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9E1B-AB51-4B6A-8677-1ADB32D3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1D7C-D446-4F90-9862-DBC582BB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9F34-7E4A-41D0-9CA6-6A0FF876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F6AF-C23F-4421-A5A6-D5DAD72F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45A1-302A-4A3E-8551-CCDAEB06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903D-150F-44C7-BE52-0F1BEA2F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F2D1-6FA3-45CB-B856-5F3C325F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C519-80C8-430E-B4D6-DEAFC6EED6F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539640" y="2349360"/>
            <a:ext cx="799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500" spc="-1" strike="noStrike">
                <a:solidFill>
                  <a:srgbClr val="000000"/>
                </a:solidFill>
                <a:latin typeface="Bookman Old Style"/>
              </a:rPr>
              <a:t>Composição Gravimétric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79280" y="547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2873880" y="6165000"/>
            <a:ext cx="33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minhão vazio sendo pes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1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7175520" cy="43196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1420200" y="6165000"/>
            <a:ext cx="62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atro locais diferentes para serem recolhidas as amost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6973920" cy="43196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769760" y="6165000"/>
            <a:ext cx="55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acos sendo rasgados e pesados até alcançar 30K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1" descr=""/>
          <p:cNvPicPr/>
          <p:nvPr/>
        </p:nvPicPr>
        <p:blipFill>
          <a:blip r:embed="rId2"/>
          <a:stretch/>
        </p:blipFill>
        <p:spPr>
          <a:xfrm>
            <a:off x="1136520" y="1700280"/>
            <a:ext cx="6891480" cy="43164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2949480" y="6165000"/>
            <a:ext cx="32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omogeneização da amost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1" descr=""/>
          <p:cNvPicPr/>
          <p:nvPr/>
        </p:nvPicPr>
        <p:blipFill>
          <a:blip r:embed="rId2"/>
          <a:stretch/>
        </p:blipFill>
        <p:spPr>
          <a:xfrm>
            <a:off x="1042920" y="1633680"/>
            <a:ext cx="6985080" cy="43164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2916720" y="6165000"/>
            <a:ext cx="32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mostra que será classific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1" descr=""/>
          <p:cNvPicPr/>
          <p:nvPr/>
        </p:nvPicPr>
        <p:blipFill>
          <a:blip r:embed="rId2"/>
          <a:stretch/>
        </p:blipFill>
        <p:spPr>
          <a:xfrm>
            <a:off x="1042920" y="1701720"/>
            <a:ext cx="7021440" cy="43196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amostras podem ser classificadas e separadas segundo a NBR 10007 da seguinte for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250920" y="1835280"/>
            <a:ext cx="856908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téria orgânic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pel, papelão e jorn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balagem longa vi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lásticos (Mole e Duro), Pet e Isop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tais ferros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tais não-ferrosos (alumínio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apos, Panos, Couros e Borrach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ilhas e bateri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idr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rra e Ped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dei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versos (sendo todo o resto que não conseguimos classifica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2" descr=""/>
          <p:cNvPicPr/>
          <p:nvPr/>
        </p:nvPicPr>
        <p:blipFill>
          <a:blip r:embed="rId14"/>
          <a:stretch/>
        </p:blipFill>
        <p:spPr>
          <a:xfrm>
            <a:off x="5148360" y="2349360"/>
            <a:ext cx="353376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50920" y="1484280"/>
            <a:ext cx="856908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Norma Brasileira NBR 10007 (2004) da ABNT fixa os requisitos exigíveis para amostragem de resíduos sóli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 amostras devem seguir as seguintes definições, segundo a referida norm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ostragem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250920" y="3463920"/>
            <a:ext cx="8569080" cy="30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5388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ostra composta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a soma de parcelas individuais do resíduo a serem estudadas, obtidas em pontos, profundidades e/ou instantes diferentes, através dos processos de amostragem. Estas parcelas devem ser misturadas de forma a se obter uma amostra homogên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5388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ostra homogênea: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É uma amostra obtida pela melhor mistura possível das alíquotas dos resíduos. Esta mistura deve ser feita de modo que a amostra resultante apresente características semelhantes em todos os seus pontos. Para resíduos no estado sólido, esta homogeneização deve ser feita pelo quartea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5388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ostra representativa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a parcela do resíduo a ser estudada, obtida através de um processo de amostragem, e que, quando analisada, apresenta as mesmas características e propriedades da massa total do resídu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ostragem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250920" y="1716120"/>
            <a:ext cx="8569080" cy="47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)  Amostra simples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a parcela do resíduo a ser estudada, obtida através de um processo de amostragem em um único ponto ou profundid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)   Amostrador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o equipamento ou aparelho utilizado para coleta de amost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ntêiner de resíduos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qualquer recipiente portátil no qual o resíduo pode ser transportado, armazenado, tratado ou, de outra forma manuse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ilha ou monte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Qualquer acúmulo de resíduo não contido, que não apresenta escoamento superfic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rteamento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o processo de divisão em quatro partes iguais de uma amostra pré-homogeneizada, sendo tomadas duas partes opostas entre si para constituir uma nova amostra e descartadas as partes restantes. As partes não descartadas são misturadas totalmente e o processo de quarteamento é repetido até que se obtenha o volume desej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ambor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um recipiente portátil, cilíndrico, feito de chapa metálica ou material plástico, com capacidade máxima de 250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écnico de amostragem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rofissional técnico responsável pela execução da coleta de amostra (ABNT 200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6"/>
          <p:cNvSpPr/>
          <p:nvPr/>
        </p:nvSpPr>
        <p:spPr>
          <a:xfrm>
            <a:off x="250920" y="1484280"/>
            <a:ext cx="8569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ta subseção estabelece as linhas básicas que devem ser observadas, antes de se retirar qualquer amostra, com o objetivo de definir o plano de amostragem (objetivo da amostragem, número e tipo de amostras, amostradores, locais de amostragem, frascos e preservação da amostr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ostragem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9"/>
          <p:cNvSpPr/>
          <p:nvPr/>
        </p:nvSpPr>
        <p:spPr>
          <a:xfrm>
            <a:off x="324000" y="3400560"/>
            <a:ext cx="8424720" cy="1067400"/>
          </a:xfrm>
          <a:prstGeom prst="rect">
            <a:avLst/>
          </a:prstGeom>
          <a:solidFill>
            <a:srgbClr val="ffcc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1160" algn="just">
              <a:lnSpc>
                <a:spcPct val="100000"/>
              </a:lnSpc>
              <a:buClr>
                <a:srgbClr val="000000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Century Gothic"/>
              </a:rPr>
              <a:t>Objetivo da amostrag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entury Gothic"/>
              </a:rPr>
              <a:t>O objetivo da amostragem é a coleta de uma quantidade representativa de resíduos, visando determinar suas características quanto à classificação, métodos de tratamento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0"/>
          <p:cNvSpPr/>
          <p:nvPr/>
        </p:nvSpPr>
        <p:spPr>
          <a:xfrm>
            <a:off x="324000" y="4756320"/>
            <a:ext cx="8424720" cy="1797480"/>
          </a:xfrm>
          <a:prstGeom prst="rect">
            <a:avLst/>
          </a:prstGeom>
          <a:solidFill>
            <a:srgbClr val="ffcc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entury Gothic"/>
              </a:rPr>
              <a:t>b) Pré-caracterização de um resídu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entury Gothic"/>
              </a:rPr>
              <a:t>A pré-caracterização de um resíduo é feita através de levantamento do(s) processo(s) que lhe deu ou deram origem. As informações assim obtidas (volume aproximado, estado físico, constituintes principais, temperatura, etc.) permitem a definição do tipo de amostrador mais adequado, dos parâmetros que serão estudados ou analisados, do número de amostras e do seu volume, do tipo de frasco de coleta e do(s) método(s) de preservação que deve(m) ser utilizado(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395280" y="2565360"/>
            <a:ext cx="8424720" cy="2916360"/>
          </a:xfrm>
          <a:prstGeom prst="rect">
            <a:avLst/>
          </a:prstGeom>
          <a:solidFill>
            <a:srgbClr val="ffcc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entury Gothic"/>
              </a:rPr>
              <a:t>c) Plano de amostrag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entury Gothic"/>
              </a:rPr>
              <a:t>O plano de amostragem deve ser estabelecido antes de se coletar qualquer amostra, ser consistente com o objetivo da amostragem e com a pré-caracterização do resíduo, e deve incluir: avaliação do local, forma de armazenamento, pontos de amostragem, tipos de amostradores, número de amostras a serem coletadas, seus volumes, seus tipos (simples ou compostos), número e tipo dos frascos de coleta, métodos de preservação e tempo de armazenagem, assim como os tipos de equipamentos de proteção a serem utilizados durante a coleta. A seguir descreve-se os itens do plano de amostragem recomendados pela norm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ostragem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250920" y="2112840"/>
            <a:ext cx="8642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leção do amostrad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a escolha dos materiais da confecção do amostrador, estes devem atender os princípios de não reatividade com o material a ser coletado. Caso o amostrador não seja descartável, o material deve permitir a descontaminação total do equipamento para posterior utilizaç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leção do recipiente da amost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aspectos mais importantes a serem considerados na escolha de um frasco de amostragem são compatibilidade do material do frasco e da sua tampa com os resíduos, resistência, volume e facilidade do manusei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ecauções na utilização de recipientes e amostrado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ntes do uso, os recipientes e amostradores devem ser descontaminados conforme pré-requisitos da tecnologia a ser aplic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ós o uso, os recipientes e amostradores utilizados para coleta devem ser descontaminados, ou destinados conforme classe dos resídu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335160" y="1557360"/>
            <a:ext cx="263124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lano de amostrag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ostragem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250920" y="2358000"/>
            <a:ext cx="86421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onto de amostrag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 ponto de amostragem é o local onde será coletada a amostr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úmero de amost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ra obtenção da concentração média do resíduo, deve ser coletada uma ou mais amostras composta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ra obtenção da faixa de variação da concentração do resíduo, devem ser coletadas no mínimo três amostras simpl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ra resíduos heterogêneos de difícil amostragem e cuja representatividade não puder ser definida com uma única amostra, a escolha do método e número de amostras caberá aos Órgãos Estaduais ou Federais de controle da poluição e preservação ambient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olume de amost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É necessário, durante a fase de planejamento, estabelecer quais as análises e ensaios que serão realizados e qual o volume de amostra é necessário para cada um deles. Muitas vezes é necessário também obter volumes que possibilitem a realização de contraprovas (ABNT 200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335160" y="1557360"/>
            <a:ext cx="263124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lano de amostrag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ostragem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9"/>
          <p:cNvGraphicFramePr/>
          <p:nvPr/>
        </p:nvGraphicFramePr>
        <p:xfrm>
          <a:off x="1042920" y="1628640"/>
          <a:ext cx="7050240" cy="431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628640"/>
                    <a:ext cx="7050240" cy="43196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8" name="Rectangle 10"/>
          <p:cNvSpPr/>
          <p:nvPr/>
        </p:nvSpPr>
        <p:spPr>
          <a:xfrm>
            <a:off x="2170800" y="6165000"/>
            <a:ext cx="478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minhão sendo pesado ao chegar na us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449080" y="6165000"/>
            <a:ext cx="42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minhão descarregando Amostrag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2"/>
          <a:stretch/>
        </p:blipFill>
        <p:spPr>
          <a:xfrm>
            <a:off x="1116000" y="1701720"/>
            <a:ext cx="6896160" cy="43196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8:40:57Z</dcterms:created>
  <dc:creator>José Rojas</dc:creator>
  <dc:description/>
  <dc:language>en-US</dc:language>
  <cp:lastModifiedBy>ROJAS</cp:lastModifiedBy>
  <dcterms:modified xsi:type="dcterms:W3CDTF">2014-05-08T01:50:24Z</dcterms:modified>
  <cp:revision>227</cp:revision>
  <dc:subject/>
  <dc:title>Slide 1</dc:title>
</cp:coreProperties>
</file>